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3.png" ContentType="image/png"/>
  <Override PartName="/ppt/media/image9.png" ContentType="image/png"/>
  <Override PartName="/ppt/media/image39.png" ContentType="image/png"/>
  <Override PartName="/ppt/media/image31.png" ContentType="image/png"/>
  <Override PartName="/ppt/media/image29.png" ContentType="image/png"/>
  <Override PartName="/ppt/media/image40.jpeg" ContentType="image/jpeg"/>
  <Override PartName="/ppt/media/image44.png" ContentType="image/png"/>
  <Override PartName="/ppt/media/image41.jpeg" ContentType="image/jpeg"/>
  <Override PartName="/ppt/media/image30.png" ContentType="image/png"/>
  <Override PartName="/ppt/media/image42.png" ContentType="image/png"/>
  <Override PartName="/ppt/media/image45.png" ContentType="image/png"/>
  <Override PartName="/ppt/media/image46.png" ContentType="image/png"/>
  <Override PartName="/ppt/media/image11.png" ContentType="image/png"/>
  <Override PartName="/ppt/media/image48.jpeg" ContentType="image/jpeg"/>
  <Override PartName="/ppt/media/image38.png" ContentType="image/png"/>
  <Override PartName="/ppt/media/image8.png" ContentType="image/png"/>
  <Override PartName="/ppt/media/image12.png" ContentType="image/png"/>
  <Override PartName="/ppt/media/image37.png" ContentType="image/png"/>
  <Override PartName="/ppt/media/image34.jpeg" ContentType="image/jpeg"/>
  <Override PartName="/ppt/media/image7.png" ContentType="image/png"/>
  <Override PartName="/ppt/media/image10.png" ContentType="image/png"/>
  <Override PartName="/ppt/media/image47.png" ContentType="image/png"/>
  <Override PartName="/ppt/media/image1.jpeg" ContentType="image/jpe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C1E60-FA83-4DEB-96A0-72418155C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7"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D31F-DA9D-4C1D-8A1A-690A514E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0"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F8E4D-1D27-4870-B1E2-9685F70A4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5"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D0808-EEBB-46D6-93A7-31B88A09D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5"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7"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4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4"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5"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 name="PlaceHolder 2"/>
          <p:cNvSpPr>
            <a:spLocks noGrp="1"/>
          </p:cNvSpPr>
          <p:nvPr>
            <p:ph type="subTitle"/>
          </p:nvPr>
        </p:nvSpPr>
        <p:spPr>
          <a:xfrm>
            <a:off x="1600200" y="1600200"/>
            <a:ext cx="73152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5C98-6043-44CB-B818-81F794D9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58"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2"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6" name="PlaceHolder 2"/>
          <p:cNvSpPr>
            <a:spLocks noGrp="1"/>
          </p:cNvSpPr>
          <p:nvPr>
            <p:ph/>
          </p:nvPr>
        </p:nvSpPr>
        <p:spPr>
          <a:xfrm>
            <a:off x="1600200" y="16002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3"/>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69"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5"/>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74" name="PlaceHolder 2"/>
          <p:cNvSpPr>
            <a:spLocks noGrp="1"/>
          </p:cNvSpPr>
          <p:nvPr>
            <p:ph/>
          </p:nvPr>
        </p:nvSpPr>
        <p:spPr>
          <a:xfrm>
            <a:off x="16002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3"/>
          <p:cNvSpPr>
            <a:spLocks noGrp="1"/>
          </p:cNvSpPr>
          <p:nvPr>
            <p:ph/>
          </p:nvPr>
        </p:nvSpPr>
        <p:spPr>
          <a:xfrm>
            <a:off x="40734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4"/>
          <p:cNvSpPr>
            <a:spLocks noGrp="1"/>
          </p:cNvSpPr>
          <p:nvPr>
            <p:ph/>
          </p:nvPr>
        </p:nvSpPr>
        <p:spPr>
          <a:xfrm>
            <a:off x="6546600" y="16002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5"/>
          <p:cNvSpPr>
            <a:spLocks noGrp="1"/>
          </p:cNvSpPr>
          <p:nvPr>
            <p:ph/>
          </p:nvPr>
        </p:nvSpPr>
        <p:spPr>
          <a:xfrm>
            <a:off x="16002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6"/>
          <p:cNvSpPr>
            <a:spLocks noGrp="1"/>
          </p:cNvSpPr>
          <p:nvPr>
            <p:ph/>
          </p:nvPr>
        </p:nvSpPr>
        <p:spPr>
          <a:xfrm>
            <a:off x="40734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7"/>
          <p:cNvSpPr>
            <a:spLocks noGrp="1"/>
          </p:cNvSpPr>
          <p:nvPr>
            <p:ph/>
          </p:nvPr>
        </p:nvSpPr>
        <p:spPr>
          <a:xfrm>
            <a:off x="6546600" y="4028400"/>
            <a:ext cx="235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8" name="PlaceHolder 2"/>
          <p:cNvSpPr>
            <a:spLocks noGrp="1"/>
          </p:cNvSpPr>
          <p:nvPr>
            <p:ph/>
          </p:nvPr>
        </p:nvSpPr>
        <p:spPr>
          <a:xfrm>
            <a:off x="1600200" y="1600200"/>
            <a:ext cx="7315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136B-F5B3-433A-9AB4-30F61DBB2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0"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BCB9-2CF7-42EC-8AC5-F1D84E58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F1B4-8D3B-41B0-BB44-C1658921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304920"/>
            <a:ext cx="73152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4652-2375-424A-AA9E-2A0EA33E7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5"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534888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160020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F45F-A7F1-4BFF-B324-AB75161F3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19" name="PlaceHolder 2"/>
          <p:cNvSpPr>
            <a:spLocks noGrp="1"/>
          </p:cNvSpPr>
          <p:nvPr>
            <p:ph/>
          </p:nvPr>
        </p:nvSpPr>
        <p:spPr>
          <a:xfrm>
            <a:off x="1600200" y="1600200"/>
            <a:ext cx="356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5348880" y="40284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0DEE7-10FF-4F65-B5DC-8EF66FFFB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p:txBody>
      </p:sp>
      <p:sp>
        <p:nvSpPr>
          <p:cNvPr id="23" name="PlaceHolder 2"/>
          <p:cNvSpPr>
            <a:spLocks noGrp="1"/>
          </p:cNvSpPr>
          <p:nvPr>
            <p:ph/>
          </p:nvPr>
        </p:nvSpPr>
        <p:spPr>
          <a:xfrm>
            <a:off x="160020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5348880" y="1600200"/>
            <a:ext cx="356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1600200" y="4028400"/>
            <a:ext cx="7315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FDC0-28C0-48CE-A96F-B3855AA4E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1"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1599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 name="PlaceHolder 4"/>
          <p:cNvSpPr>
            <a:spLocks noGrp="1"/>
          </p:cNvSpPr>
          <p:nvPr>
            <p:ph type="ftr" idx="2"/>
          </p:nvPr>
        </p:nvSpPr>
        <p:spPr>
          <a:xfrm>
            <a:off x="4419360" y="6324120"/>
            <a:ext cx="289548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 name="PlaceHolder 5"/>
          <p:cNvSpPr>
            <a:spLocks noGrp="1"/>
          </p:cNvSpPr>
          <p:nvPr>
            <p:ph type="sldNum" idx="3"/>
          </p:nvPr>
        </p:nvSpPr>
        <p:spPr>
          <a:xfrm>
            <a:off x="7543800" y="6324120"/>
            <a:ext cx="137160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A8B0-EFF3-41AF-9C9E-600F64E72633}" type="slidenum">
              <a:rPr b="0" lang="en-US" sz="2400" spc="-1" strike="noStrike">
                <a:solidFill>
                  <a:srgbClr val="80808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7"/>
          <p:cNvSpPr/>
          <p:nvPr/>
        </p:nvSpPr>
        <p:spPr>
          <a:xfrm>
            <a:off x="4343400" y="5638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 name="PlaceHolder 1"/>
          <p:cNvSpPr>
            <a:spLocks noGrp="1"/>
          </p:cNvSpPr>
          <p:nvPr>
            <p:ph type="title"/>
          </p:nvPr>
        </p:nvSpPr>
        <p:spPr>
          <a:xfrm>
            <a:off x="1600200" y="304920"/>
            <a:ext cx="7315200" cy="838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lick to edit the title text format</a:t>
            </a:r>
            <a:endParaRPr b="1" lang="en-US" sz="2400" spc="-1" strike="noStrike">
              <a:solidFill>
                <a:srgbClr val="cc0000"/>
              </a:solidFill>
              <a:latin typeface="Arial"/>
            </a:endParaRPr>
          </a:p>
        </p:txBody>
      </p:sp>
      <p:sp>
        <p:nvSpPr>
          <p:cNvPr id="43" name="PlaceHolder 2"/>
          <p:cNvSpPr>
            <a:spLocks noGrp="1"/>
          </p:cNvSpPr>
          <p:nvPr>
            <p:ph type="body"/>
          </p:nvPr>
        </p:nvSpPr>
        <p:spPr>
          <a:xfrm>
            <a:off x="1600200" y="1600200"/>
            <a:ext cx="7315200" cy="46483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1.pn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1.png"/><Relationship Id="rId7" Type="http://schemas.openxmlformats.org/officeDocument/2006/relationships/image" Target="../media/image33.png"/><Relationship Id="rId8" Type="http://schemas.openxmlformats.org/officeDocument/2006/relationships/image" Target="../media/image31.png"/><Relationship Id="rId9" Type="http://schemas.openxmlformats.org/officeDocument/2006/relationships/image" Target="../media/image32.jpeg"/><Relationship Id="rId10" Type="http://schemas.openxmlformats.org/officeDocument/2006/relationships/image" Target="../media/image34.jpeg"/><Relationship Id="rId11" Type="http://schemas.openxmlformats.org/officeDocument/2006/relationships/image" Target="../media/image32.jpeg"/><Relationship Id="rId12" Type="http://schemas.openxmlformats.org/officeDocument/2006/relationships/image" Target="../media/image34.jpeg"/><Relationship Id="rId13" Type="http://schemas.openxmlformats.org/officeDocument/2006/relationships/image" Target="../media/image31.png"/><Relationship Id="rId14" Type="http://schemas.openxmlformats.org/officeDocument/2006/relationships/image" Target="../media/image32.jpeg"/><Relationship Id="rId15" Type="http://schemas.openxmlformats.org/officeDocument/2006/relationships/image" Target="../media/image33.png"/><Relationship Id="rId16" Type="http://schemas.openxmlformats.org/officeDocument/2006/relationships/image" Target="../media/image31.png"/><Relationship Id="rId17" Type="http://schemas.openxmlformats.org/officeDocument/2006/relationships/image" Target="../media/image32.jpeg"/><Relationship Id="rId18" Type="http://schemas.openxmlformats.org/officeDocument/2006/relationships/image" Target="../media/image33.png"/><Relationship Id="rId19" Type="http://schemas.openxmlformats.org/officeDocument/2006/relationships/image" Target="../media/image35.png"/><Relationship Id="rId20" Type="http://schemas.openxmlformats.org/officeDocument/2006/relationships/image" Target="../media/image31.png"/><Relationship Id="rId21" Type="http://schemas.openxmlformats.org/officeDocument/2006/relationships/image" Target="../media/image32.jpeg"/><Relationship Id="rId22" Type="http://schemas.openxmlformats.org/officeDocument/2006/relationships/image" Target="../media/image33.png"/><Relationship Id="rId23" Type="http://schemas.openxmlformats.org/officeDocument/2006/relationships/image" Target="../media/image35.png"/><Relationship Id="rId24" Type="http://schemas.openxmlformats.org/officeDocument/2006/relationships/image" Target="../media/image32.jpeg"/><Relationship Id="rId25" Type="http://schemas.openxmlformats.org/officeDocument/2006/relationships/image" Target="../media/image36.png"/><Relationship Id="rId26" Type="http://schemas.openxmlformats.org/officeDocument/2006/relationships/image" Target="../media/image34.jpe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4.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jpeg"/><Relationship Id="rId3" Type="http://schemas.openxmlformats.org/officeDocument/2006/relationships/image" Target="../media/image36.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5.png"/><Relationship Id="rId5" Type="http://schemas.openxmlformats.org/officeDocument/2006/relationships/image" Target="../media/image31.png"/><Relationship Id="rId6" Type="http://schemas.openxmlformats.org/officeDocument/2006/relationships/image" Target="../media/image33.png"/><Relationship Id="rId7" Type="http://schemas.openxmlformats.org/officeDocument/2006/relationships/image" Target="../media/image31.png"/><Relationship Id="rId8" Type="http://schemas.openxmlformats.org/officeDocument/2006/relationships/image" Target="../media/image32.jpe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4.png"/><Relationship Id="rId23" Type="http://schemas.openxmlformats.org/officeDocument/2006/relationships/image" Target="../media/image25.png"/><Relationship Id="rId24" Type="http://schemas.openxmlformats.org/officeDocument/2006/relationships/image" Target="../media/image26.png"/><Relationship Id="rId25" Type="http://schemas.openxmlformats.org/officeDocument/2006/relationships/image" Target="../media/image27.png"/><Relationship Id="rId26" Type="http://schemas.openxmlformats.org/officeDocument/2006/relationships/image" Target="../media/image28.png"/><Relationship Id="rId27" Type="http://schemas.openxmlformats.org/officeDocument/2006/relationships/image" Target="../media/image29.png"/><Relationship Id="rId28" Type="http://schemas.openxmlformats.org/officeDocument/2006/relationships/image" Target="../media/image30.png"/><Relationship Id="rId2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343400" y="533160"/>
            <a:ext cx="4648320" cy="2895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arket-oriented reforms in power sectors in Latin American countries: learning by doing</a:t>
            </a:r>
            <a:endParaRPr b="1" lang="en-US" sz="2800" spc="-1" strike="noStrike">
              <a:solidFill>
                <a:srgbClr val="cc0000"/>
              </a:solidFill>
              <a:latin typeface="Arial"/>
            </a:endParaRPr>
          </a:p>
        </p:txBody>
      </p:sp>
      <p:sp>
        <p:nvSpPr>
          <p:cNvPr id="81" name="PlaceHolder 2"/>
          <p:cNvSpPr>
            <a:spLocks noGrp="1"/>
          </p:cNvSpPr>
          <p:nvPr>
            <p:ph type="subTitle"/>
          </p:nvPr>
        </p:nvSpPr>
        <p:spPr>
          <a:xfrm>
            <a:off x="4343400" y="5333760"/>
            <a:ext cx="464832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epal, November 2018</a:t>
            </a:r>
            <a:endParaRPr b="0" lang="en-US" sz="2000" spc="-1" strike="noStrike">
              <a:solidFill>
                <a:srgbClr val="333399"/>
              </a:solidFill>
              <a:latin typeface="Arial"/>
            </a:endParaRPr>
          </a:p>
        </p:txBody>
      </p:sp>
      <p:sp>
        <p:nvSpPr>
          <p:cNvPr id="82"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149400"/>
            <a:ext cx="58215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mmon elements: an overview</a:t>
            </a:r>
            <a:endParaRPr b="1" lang="en-US" sz="2400" spc="-1" strike="noStrike">
              <a:solidFill>
                <a:srgbClr val="cc0000"/>
              </a:solidFill>
              <a:latin typeface="Arial"/>
            </a:endParaRPr>
          </a:p>
        </p:txBody>
      </p:sp>
      <p:sp>
        <p:nvSpPr>
          <p:cNvPr id="314"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15" name="object 4"/>
          <p:cNvSpPr/>
          <p:nvPr/>
        </p:nvSpPr>
        <p:spPr>
          <a:xfrm>
            <a:off x="474840" y="941400"/>
            <a:ext cx="8262720" cy="5560920"/>
          </a:xfrm>
          <a:custGeom>
            <a:avLst/>
            <a:gdLst/>
            <a:ahLst/>
            <a:rect l="l" t="t" r="r" b="b"/>
            <a:pathLst>
              <a:path w="8263255" h="5561965">
                <a:moveTo>
                  <a:pt x="0" y="5561838"/>
                </a:moveTo>
                <a:lnTo>
                  <a:pt x="8263128" y="5561838"/>
                </a:lnTo>
                <a:lnTo>
                  <a:pt x="8263128" y="0"/>
                </a:lnTo>
                <a:lnTo>
                  <a:pt x="0" y="0"/>
                </a:lnTo>
                <a:lnTo>
                  <a:pt x="0" y="5561838"/>
                </a:lnTo>
                <a:close/>
              </a:path>
            </a:pathLst>
          </a:custGeom>
          <a:solidFill>
            <a:srgbClr val="badfe2"/>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16" name="object 5"/>
          <p:cNvSpPr/>
          <p:nvPr/>
        </p:nvSpPr>
        <p:spPr>
          <a:xfrm>
            <a:off x="474840" y="941400"/>
            <a:ext cx="8262720" cy="5560920"/>
          </a:xfrm>
          <a:custGeom>
            <a:avLst/>
            <a:gdLst/>
            <a:ahLst/>
            <a:rect l="l" t="t" r="r" b="b"/>
            <a:pathLst>
              <a:path w="8263255" h="5561965">
                <a:moveTo>
                  <a:pt x="0" y="5561838"/>
                </a:moveTo>
                <a:lnTo>
                  <a:pt x="8263128" y="5561838"/>
                </a:lnTo>
                <a:lnTo>
                  <a:pt x="8263128" y="0"/>
                </a:lnTo>
                <a:lnTo>
                  <a:pt x="0" y="0"/>
                </a:lnTo>
                <a:lnTo>
                  <a:pt x="0" y="5561838"/>
                </a:lnTo>
                <a:close/>
              </a:path>
            </a:pathLst>
          </a:custGeom>
          <a:noFill/>
          <a:ln w="12960">
            <a:solidFill>
              <a:srgbClr val="71bec5"/>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17" name="object 6"/>
          <p:cNvSpPr/>
          <p:nvPr/>
        </p:nvSpPr>
        <p:spPr>
          <a:xfrm>
            <a:off x="615960" y="1042920"/>
            <a:ext cx="411624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1c1d"/>
                </a:solidFill>
                <a:latin typeface="Arial"/>
                <a:ea typeface="Arial"/>
              </a:rPr>
              <a:t>1</a:t>
            </a:r>
            <a:r>
              <a:rPr b="1" lang="en-US" sz="1800" spc="-1" strike="noStrike" baseline="25000">
                <a:solidFill>
                  <a:srgbClr val="0c1c1d"/>
                </a:solidFill>
                <a:latin typeface="Arial"/>
                <a:ea typeface="Arial"/>
              </a:rPr>
              <a:t>st </a:t>
            </a:r>
            <a:r>
              <a:rPr b="1" lang="en-US" sz="1800" spc="-1" strike="noStrike">
                <a:solidFill>
                  <a:srgbClr val="0c1c1d"/>
                </a:solidFill>
                <a:latin typeface="Arial"/>
                <a:ea typeface="Arial"/>
              </a:rPr>
              <a:t>Wave: liberalization &amp; marginalism</a:t>
            </a:r>
            <a:endParaRPr b="0" lang="en-US" sz="1800" spc="-1" strike="noStrike">
              <a:solidFill>
                <a:srgbClr val="003366"/>
              </a:solidFill>
              <a:latin typeface="Arial"/>
            </a:endParaRPr>
          </a:p>
        </p:txBody>
      </p:sp>
      <p:sp>
        <p:nvSpPr>
          <p:cNvPr id="318" name="object 13"/>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96AC-4CCD-4B5E-AA3D-BDD180FB3C7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9" name="object 7"/>
          <p:cNvSpPr/>
          <p:nvPr/>
        </p:nvSpPr>
        <p:spPr>
          <a:xfrm>
            <a:off x="798480" y="1495440"/>
            <a:ext cx="7626240" cy="283680"/>
          </a:xfrm>
          <a:prstGeom prst="rect">
            <a:avLst/>
          </a:prstGeom>
          <a:solidFill>
            <a:srgbClr val="9ed2d6"/>
          </a:solidFill>
          <a:ln w="12960">
            <a:solidFill>
              <a:srgbClr val="71bec5"/>
            </a:solidFill>
            <a:miter/>
          </a:ln>
        </p:spPr>
        <p:style>
          <a:lnRef idx="0"/>
          <a:fillRef idx="0"/>
          <a:effectRef idx="0"/>
          <a:fontRef idx="minor"/>
        </p:style>
        <p:txBody>
          <a:bodyPr lIns="0" rIns="0" tIns="3996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Design</a:t>
            </a:r>
            <a:endParaRPr b="0" lang="en-US" sz="1600" spc="-1" strike="noStrike">
              <a:solidFill>
                <a:srgbClr val="003366"/>
              </a:solidFill>
              <a:latin typeface="Arial"/>
            </a:endParaRPr>
          </a:p>
        </p:txBody>
      </p:sp>
      <p:sp>
        <p:nvSpPr>
          <p:cNvPr id="320" name="object 8"/>
          <p:cNvSpPr/>
          <p:nvPr/>
        </p:nvSpPr>
        <p:spPr>
          <a:xfrm>
            <a:off x="932040" y="1870200"/>
            <a:ext cx="7332480" cy="1009440"/>
          </a:xfrm>
          <a:prstGeom prst="rect">
            <a:avLst/>
          </a:prstGeom>
          <a:solidFill>
            <a:srgbClr val="71bec5"/>
          </a:solidFill>
          <a:ln w="0">
            <a:noFill/>
          </a:ln>
        </p:spPr>
        <p:style>
          <a:lnRef idx="0"/>
          <a:fillRef idx="0"/>
          <a:effectRef idx="0"/>
          <a:fontRef idx="minor"/>
        </p:style>
        <p:txBody>
          <a:bodyPr lIns="0" rIns="0" tIns="35640" bIns="0" anchor="t">
            <a:spAutoFit/>
          </a:bodyPr>
          <a:p>
            <a:pPr marL="18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c1c1d"/>
                </a:solidFill>
                <a:latin typeface="Arial"/>
                <a:ea typeface="Arial"/>
              </a:rPr>
              <a:t>Textbook </a:t>
            </a:r>
            <a:r>
              <a:rPr b="1" lang="en-US" sz="1600" spc="-1" strike="noStrike">
                <a:solidFill>
                  <a:srgbClr val="0c1c1d"/>
                </a:solidFill>
                <a:latin typeface="Arial"/>
                <a:ea typeface="Arial"/>
              </a:rPr>
              <a:t>elements</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Institutional reorganization</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Restructuring (vertical and horizontal unbundling)</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Liberalization</a:t>
            </a:r>
            <a:endParaRPr b="0" lang="en-US" sz="1600" spc="-1" strike="noStrike">
              <a:solidFill>
                <a:srgbClr val="003366"/>
              </a:solidFill>
              <a:latin typeface="Arial"/>
            </a:endParaRPr>
          </a:p>
        </p:txBody>
      </p:sp>
      <p:sp>
        <p:nvSpPr>
          <p:cNvPr id="321" name="object 9"/>
          <p:cNvSpPr/>
          <p:nvPr/>
        </p:nvSpPr>
        <p:spPr>
          <a:xfrm>
            <a:off x="932040" y="3030480"/>
            <a:ext cx="7332480" cy="763920"/>
          </a:xfrm>
          <a:prstGeom prst="rect">
            <a:avLst/>
          </a:prstGeom>
          <a:solidFill>
            <a:srgbClr val="71bec5"/>
          </a:solidFill>
          <a:ln w="0">
            <a:noFill/>
          </a:ln>
        </p:spPr>
        <p:style>
          <a:lnRef idx="0"/>
          <a:fillRef idx="0"/>
          <a:effectRef idx="0"/>
          <a:fontRef idx="minor"/>
        </p:style>
        <p:txBody>
          <a:bodyPr lIns="0" rIns="0" tIns="33480" bIns="0" anchor="t">
            <a:spAutoFit/>
          </a:bodyPr>
          <a:p>
            <a:pPr marL="96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Additional element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Privatization</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apacity markets/payments (in some countries)</a:t>
            </a:r>
            <a:endParaRPr b="0" lang="en-US" sz="1600" spc="-1" strike="noStrike">
              <a:solidFill>
                <a:srgbClr val="003366"/>
              </a:solidFill>
              <a:latin typeface="Arial"/>
            </a:endParaRPr>
          </a:p>
        </p:txBody>
      </p:sp>
      <p:sp>
        <p:nvSpPr>
          <p:cNvPr id="322" name="object 10"/>
          <p:cNvSpPr/>
          <p:nvPr/>
        </p:nvSpPr>
        <p:spPr>
          <a:xfrm>
            <a:off x="798480" y="4189320"/>
            <a:ext cx="7626240" cy="282960"/>
          </a:xfrm>
          <a:prstGeom prst="rect">
            <a:avLst/>
          </a:prstGeom>
          <a:solidFill>
            <a:srgbClr val="9ed2d6"/>
          </a:solidFill>
          <a:ln w="12960">
            <a:solidFill>
              <a:srgbClr val="71bec5"/>
            </a:solidFill>
            <a:miter/>
          </a:ln>
        </p:spPr>
        <p:style>
          <a:lnRef idx="0"/>
          <a:fillRef idx="0"/>
          <a:effectRef idx="0"/>
          <a:fontRef idx="minor"/>
        </p:style>
        <p:txBody>
          <a:bodyPr lIns="0" rIns="0" tIns="3924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Outcomes (in most countries)</a:t>
            </a:r>
            <a:endParaRPr b="0" lang="en-US" sz="1600" spc="-1" strike="noStrike">
              <a:solidFill>
                <a:srgbClr val="003366"/>
              </a:solidFill>
              <a:latin typeface="Arial"/>
            </a:endParaRPr>
          </a:p>
        </p:txBody>
      </p:sp>
      <p:sp>
        <p:nvSpPr>
          <p:cNvPr id="323" name="object 11"/>
          <p:cNvSpPr/>
          <p:nvPr/>
        </p:nvSpPr>
        <p:spPr>
          <a:xfrm>
            <a:off x="932040" y="4538520"/>
            <a:ext cx="7332480" cy="766080"/>
          </a:xfrm>
          <a:prstGeom prst="rect">
            <a:avLst/>
          </a:prstGeom>
          <a:solidFill>
            <a:srgbClr val="71bec5"/>
          </a:solidFill>
          <a:ln w="0">
            <a:noFill/>
          </a:ln>
        </p:spPr>
        <p:style>
          <a:lnRef idx="0"/>
          <a:fillRef idx="0"/>
          <a:effectRef idx="0"/>
          <a:fontRef idx="minor"/>
        </p:style>
        <p:txBody>
          <a:bodyPr lIns="0" rIns="0" tIns="35640" bIns="0" anchor="t">
            <a:spAutoFit/>
          </a:bodyPr>
          <a:p>
            <a:pPr marL="18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Generation adequacy</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luggish investments (especially in capital-intensive technologies)</a:t>
            </a:r>
            <a:endParaRPr b="0" lang="en-US" sz="1600" spc="-1" strike="noStrike">
              <a:solidFill>
                <a:srgbClr val="003366"/>
              </a:solidFill>
              <a:latin typeface="Arial"/>
            </a:endParaRPr>
          </a:p>
          <a:p>
            <a:pPr marL="1872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rises: affected affordability and security of supply</a:t>
            </a:r>
            <a:endParaRPr b="0" lang="en-US" sz="1600" spc="-1" strike="noStrike">
              <a:solidFill>
                <a:srgbClr val="003366"/>
              </a:solidFill>
              <a:latin typeface="Arial"/>
            </a:endParaRPr>
          </a:p>
        </p:txBody>
      </p:sp>
      <p:sp>
        <p:nvSpPr>
          <p:cNvPr id="324" name="object 12"/>
          <p:cNvSpPr/>
          <p:nvPr/>
        </p:nvSpPr>
        <p:spPr>
          <a:xfrm>
            <a:off x="932040" y="5465880"/>
            <a:ext cx="7332480" cy="760320"/>
          </a:xfrm>
          <a:prstGeom prst="rect">
            <a:avLst/>
          </a:prstGeom>
          <a:solidFill>
            <a:srgbClr val="71bec5"/>
          </a:solidFill>
          <a:ln w="0">
            <a:noFill/>
          </a:ln>
        </p:spPr>
        <p:style>
          <a:lnRef idx="0"/>
          <a:fillRef idx="0"/>
          <a:effectRef idx="0"/>
          <a:fontRef idx="minor"/>
        </p:style>
        <p:txBody>
          <a:bodyPr lIns="0" rIns="0" tIns="29880" bIns="0" anchor="t">
            <a:spAutoFit/>
          </a:bodyPr>
          <a:p>
            <a:pPr marL="96840">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Other</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trengthened performance of distribution companie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Electrification: targeted initiatives</a:t>
            </a:r>
            <a:endParaRPr b="0" lang="en-US" sz="16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1920" y="149400"/>
            <a:ext cx="58215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mmon elements: an overview</a:t>
            </a:r>
            <a:endParaRPr b="1" lang="en-US" sz="2400" spc="-1" strike="noStrike">
              <a:solidFill>
                <a:srgbClr val="cc0000"/>
              </a:solidFill>
              <a:latin typeface="Arial"/>
            </a:endParaRPr>
          </a:p>
        </p:txBody>
      </p:sp>
      <p:sp>
        <p:nvSpPr>
          <p:cNvPr id="326"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27" name="object 4"/>
          <p:cNvSpPr/>
          <p:nvPr/>
        </p:nvSpPr>
        <p:spPr>
          <a:xfrm>
            <a:off x="449280" y="903240"/>
            <a:ext cx="8263080" cy="5607000"/>
          </a:xfrm>
          <a:custGeom>
            <a:avLst/>
            <a:gdLst/>
            <a:ahLst/>
            <a:rect l="l" t="t" r="r" b="b"/>
            <a:pathLst>
              <a:path w="8263255" h="5608320">
                <a:moveTo>
                  <a:pt x="0" y="5608320"/>
                </a:moveTo>
                <a:lnTo>
                  <a:pt x="8263128" y="5608320"/>
                </a:lnTo>
                <a:lnTo>
                  <a:pt x="8263128" y="0"/>
                </a:lnTo>
                <a:lnTo>
                  <a:pt x="0" y="0"/>
                </a:lnTo>
                <a:lnTo>
                  <a:pt x="0" y="5608320"/>
                </a:lnTo>
                <a:close/>
              </a:path>
            </a:pathLst>
          </a:custGeom>
          <a:solidFill>
            <a:srgbClr val="badfe2"/>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28" name="object 5"/>
          <p:cNvSpPr/>
          <p:nvPr/>
        </p:nvSpPr>
        <p:spPr>
          <a:xfrm>
            <a:off x="449280" y="903240"/>
            <a:ext cx="8263080" cy="5607000"/>
          </a:xfrm>
          <a:custGeom>
            <a:avLst/>
            <a:gdLst/>
            <a:ahLst/>
            <a:rect l="l" t="t" r="r" b="b"/>
            <a:pathLst>
              <a:path w="8263255" h="5608320">
                <a:moveTo>
                  <a:pt x="0" y="5608320"/>
                </a:moveTo>
                <a:lnTo>
                  <a:pt x="8263128" y="5608320"/>
                </a:lnTo>
                <a:lnTo>
                  <a:pt x="8263128" y="0"/>
                </a:lnTo>
                <a:lnTo>
                  <a:pt x="0" y="0"/>
                </a:lnTo>
                <a:lnTo>
                  <a:pt x="0" y="5608320"/>
                </a:lnTo>
                <a:close/>
              </a:path>
            </a:pathLst>
          </a:custGeom>
          <a:noFill/>
          <a:ln w="12960">
            <a:solidFill>
              <a:srgbClr val="71bec5"/>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29" name="object 6"/>
          <p:cNvSpPr/>
          <p:nvPr/>
        </p:nvSpPr>
        <p:spPr>
          <a:xfrm>
            <a:off x="590400" y="1004760"/>
            <a:ext cx="695016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1c1d"/>
                </a:solidFill>
                <a:latin typeface="Arial"/>
                <a:ea typeface="Arial"/>
              </a:rPr>
              <a:t>2</a:t>
            </a:r>
            <a:r>
              <a:rPr b="1" lang="en-US" sz="1800" spc="-1" strike="noStrike" baseline="25000">
                <a:solidFill>
                  <a:srgbClr val="0c1c1d"/>
                </a:solidFill>
                <a:latin typeface="Arial"/>
                <a:ea typeface="Arial"/>
              </a:rPr>
              <a:t>nd </a:t>
            </a:r>
            <a:r>
              <a:rPr b="1" lang="en-US" sz="1800" spc="-1" strike="noStrike">
                <a:solidFill>
                  <a:srgbClr val="0c1c1d"/>
                </a:solidFill>
                <a:latin typeface="Arial"/>
                <a:ea typeface="Arial"/>
              </a:rPr>
              <a:t>Wave: adding planning and auctions for long-term contracts</a:t>
            </a:r>
            <a:endParaRPr b="0" lang="en-US" sz="1800" spc="-1" strike="noStrike">
              <a:solidFill>
                <a:srgbClr val="003366"/>
              </a:solidFill>
              <a:latin typeface="Arial"/>
            </a:endParaRPr>
          </a:p>
        </p:txBody>
      </p:sp>
      <p:sp>
        <p:nvSpPr>
          <p:cNvPr id="330" name="object 13"/>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D5C4-345C-4E1D-A46D-533D3EE312F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1" name="object 7"/>
          <p:cNvSpPr/>
          <p:nvPr/>
        </p:nvSpPr>
        <p:spPr>
          <a:xfrm>
            <a:off x="771480" y="1457280"/>
            <a:ext cx="7628040" cy="283680"/>
          </a:xfrm>
          <a:prstGeom prst="rect">
            <a:avLst/>
          </a:prstGeom>
          <a:solidFill>
            <a:srgbClr val="9ed2d6"/>
          </a:solidFill>
          <a:ln w="12960">
            <a:solidFill>
              <a:srgbClr val="71bec5"/>
            </a:solidFill>
            <a:miter/>
          </a:ln>
        </p:spPr>
        <p:style>
          <a:lnRef idx="0"/>
          <a:fillRef idx="0"/>
          <a:effectRef idx="0"/>
          <a:fontRef idx="minor"/>
        </p:style>
        <p:txBody>
          <a:bodyPr lIns="0" rIns="0" tIns="3996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Design</a:t>
            </a:r>
            <a:endParaRPr b="0" lang="en-US" sz="1600" spc="-1" strike="noStrike">
              <a:solidFill>
                <a:srgbClr val="003366"/>
              </a:solidFill>
              <a:latin typeface="Arial"/>
            </a:endParaRPr>
          </a:p>
        </p:txBody>
      </p:sp>
      <p:sp>
        <p:nvSpPr>
          <p:cNvPr id="332" name="object 8"/>
          <p:cNvSpPr/>
          <p:nvPr/>
        </p:nvSpPr>
        <p:spPr>
          <a:xfrm>
            <a:off x="906480" y="2992320"/>
            <a:ext cx="7332480" cy="760320"/>
          </a:xfrm>
          <a:prstGeom prst="rect">
            <a:avLst/>
          </a:prstGeom>
          <a:solidFill>
            <a:srgbClr val="71bec5"/>
          </a:solidFill>
          <a:ln w="0">
            <a:noFill/>
          </a:ln>
        </p:spPr>
        <p:style>
          <a:lnRef idx="0"/>
          <a:fillRef idx="0"/>
          <a:effectRef idx="0"/>
          <a:fontRef idx="minor"/>
        </p:style>
        <p:txBody>
          <a:bodyPr lIns="0" rIns="0" tIns="29880" bIns="0" anchor="t">
            <a:spAutoFit/>
          </a:bodyPr>
          <a:p>
            <a:pPr marL="189000">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Planning</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Indicative plans, often associated with guidance in procurement</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Backstop mechanisms to ensure security/affordability of supply</a:t>
            </a:r>
            <a:endParaRPr b="0" lang="en-US" sz="1600" spc="-1" strike="noStrike">
              <a:solidFill>
                <a:srgbClr val="003366"/>
              </a:solidFill>
              <a:latin typeface="Arial"/>
            </a:endParaRPr>
          </a:p>
        </p:txBody>
      </p:sp>
      <p:sp>
        <p:nvSpPr>
          <p:cNvPr id="333" name="object 9"/>
          <p:cNvSpPr/>
          <p:nvPr/>
        </p:nvSpPr>
        <p:spPr>
          <a:xfrm>
            <a:off x="906480" y="1822320"/>
            <a:ext cx="7332480" cy="1011960"/>
          </a:xfrm>
          <a:prstGeom prst="rect">
            <a:avLst/>
          </a:prstGeom>
          <a:solidFill>
            <a:srgbClr val="71bec5"/>
          </a:solidFill>
          <a:ln w="0">
            <a:noFill/>
          </a:ln>
        </p:spPr>
        <p:style>
          <a:lnRef idx="0"/>
          <a:fillRef idx="0"/>
          <a:effectRef idx="0"/>
          <a:fontRef idx="minor"/>
        </p:style>
        <p:txBody>
          <a:bodyPr lIns="0" rIns="0" tIns="38160" bIns="0" anchor="t">
            <a:spAutoFit/>
          </a:bodyPr>
          <a:p>
            <a:pPr marL="96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Auctions as means of awarding long-term contract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ompetition </a:t>
            </a:r>
            <a:r>
              <a:rPr b="1" i="1" lang="en-US" sz="1600" spc="-1" strike="noStrike">
                <a:solidFill>
                  <a:srgbClr val="0c1c1d"/>
                </a:solidFill>
                <a:latin typeface="Arial"/>
                <a:ea typeface="Arial"/>
              </a:rPr>
              <a:t>for the market</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Long-term contracts easing financing for capital-intensive assets</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ontestability of centralized planning</a:t>
            </a:r>
            <a:endParaRPr b="0" lang="en-US" sz="1600" spc="-1" strike="noStrike">
              <a:solidFill>
                <a:srgbClr val="003366"/>
              </a:solidFill>
              <a:latin typeface="Arial"/>
            </a:endParaRPr>
          </a:p>
        </p:txBody>
      </p:sp>
      <p:sp>
        <p:nvSpPr>
          <p:cNvPr id="334" name="object 10"/>
          <p:cNvSpPr/>
          <p:nvPr/>
        </p:nvSpPr>
        <p:spPr>
          <a:xfrm>
            <a:off x="771480" y="4100400"/>
            <a:ext cx="7628040" cy="283680"/>
          </a:xfrm>
          <a:prstGeom prst="rect">
            <a:avLst/>
          </a:prstGeom>
          <a:solidFill>
            <a:srgbClr val="9ed2d6"/>
          </a:solidFill>
          <a:ln w="12960">
            <a:solidFill>
              <a:srgbClr val="71bec5"/>
            </a:solidFill>
            <a:miter/>
          </a:ln>
        </p:spPr>
        <p:style>
          <a:lnRef idx="0"/>
          <a:fillRef idx="0"/>
          <a:effectRef idx="0"/>
          <a:fontRef idx="minor"/>
        </p:style>
        <p:txBody>
          <a:bodyPr lIns="0" rIns="0" tIns="39960" bIns="0" anchor="t">
            <a:spAutoFit/>
          </a:bodyPr>
          <a:p>
            <a:pPr marL="18108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Outcomes</a:t>
            </a:r>
            <a:endParaRPr b="0" lang="en-US" sz="1600" spc="-1" strike="noStrike">
              <a:solidFill>
                <a:srgbClr val="003366"/>
              </a:solidFill>
              <a:latin typeface="Arial"/>
            </a:endParaRPr>
          </a:p>
        </p:txBody>
      </p:sp>
      <p:sp>
        <p:nvSpPr>
          <p:cNvPr id="335" name="object 11"/>
          <p:cNvSpPr/>
          <p:nvPr/>
        </p:nvSpPr>
        <p:spPr>
          <a:xfrm>
            <a:off x="906480" y="4476600"/>
            <a:ext cx="7332480" cy="797760"/>
          </a:xfrm>
          <a:prstGeom prst="rect">
            <a:avLst/>
          </a:prstGeom>
          <a:solidFill>
            <a:srgbClr val="71bec5"/>
          </a:solidFill>
          <a:ln w="0">
            <a:noFill/>
          </a:ln>
        </p:spPr>
        <p:style>
          <a:lnRef idx="0"/>
          <a:fillRef idx="0"/>
          <a:effectRef idx="0"/>
          <a:fontRef idx="minor"/>
        </p:style>
        <p:txBody>
          <a:bodyPr lIns="0" rIns="0" tIns="67320" bIns="0" anchor="t">
            <a:spAutoFit/>
          </a:bodyPr>
          <a:p>
            <a:pPr marL="189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Generation adequacy</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Change in investment profile, investments in capital-intensive assets</a:t>
            </a:r>
            <a:endParaRPr b="0" lang="en-US" sz="1600" spc="-1" strike="noStrike">
              <a:solidFill>
                <a:srgbClr val="003366"/>
              </a:solidFill>
              <a:latin typeface="Arial"/>
            </a:endParaRPr>
          </a:p>
          <a:p>
            <a:pPr marL="18900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upport to roll-out of (non-conventional) renewable technologies</a:t>
            </a:r>
            <a:endParaRPr b="0" lang="en-US" sz="1600" spc="-1" strike="noStrike">
              <a:solidFill>
                <a:srgbClr val="003366"/>
              </a:solidFill>
              <a:latin typeface="Arial"/>
            </a:endParaRPr>
          </a:p>
        </p:txBody>
      </p:sp>
      <p:sp>
        <p:nvSpPr>
          <p:cNvPr id="336" name="object 12"/>
          <p:cNvSpPr/>
          <p:nvPr/>
        </p:nvSpPr>
        <p:spPr>
          <a:xfrm>
            <a:off x="906480" y="5459400"/>
            <a:ext cx="7332480" cy="783000"/>
          </a:xfrm>
          <a:prstGeom prst="rect">
            <a:avLst/>
          </a:prstGeom>
          <a:solidFill>
            <a:srgbClr val="71bec5"/>
          </a:solidFill>
          <a:ln w="0">
            <a:noFill/>
          </a:ln>
        </p:spPr>
        <p:style>
          <a:lnRef idx="0"/>
          <a:fillRef idx="0"/>
          <a:effectRef idx="0"/>
          <a:fontRef idx="minor"/>
        </p:style>
        <p:txBody>
          <a:bodyPr lIns="0" rIns="0" tIns="52560" bIns="0" anchor="t">
            <a:spAutoFit/>
          </a:bodyPr>
          <a:p>
            <a:pPr marL="96840">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Recent crises in some countries (e.g., Brazil, Colombia):</a:t>
            </a:r>
            <a:endParaRPr b="0" lang="en-US" sz="1600" spc="-1" strike="noStrike">
              <a:solidFill>
                <a:srgbClr val="003366"/>
              </a:solidFill>
              <a:latin typeface="Arial"/>
            </a:endParaRPr>
          </a:p>
          <a:p>
            <a:pPr marL="96840">
              <a:buClr>
                <a:srgbClr val="0c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Tied to regulatory instability, poor enforcement and/or needs of</a:t>
            </a:r>
            <a:endParaRPr b="0" lang="en-US" sz="1600" spc="-1" strike="noStrike">
              <a:solidFill>
                <a:srgbClr val="003366"/>
              </a:solidFill>
              <a:latin typeface="Arial"/>
            </a:endParaRPr>
          </a:p>
          <a:p>
            <a:pPr marL="96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1c1d"/>
                </a:solidFill>
                <a:latin typeface="Arial"/>
                <a:ea typeface="Arial"/>
              </a:rPr>
              <a:t>specific regulatory improvements </a:t>
            </a:r>
            <a:r>
              <a:rPr b="0" lang="en-US" sz="1600" spc="-1" strike="noStrike">
                <a:solidFill>
                  <a:srgbClr val="0c1c1d"/>
                </a:solidFill>
                <a:latin typeface="Wingdings"/>
                <a:ea typeface="Wingdings"/>
              </a:rPr>
              <a:t></a:t>
            </a:r>
            <a:r>
              <a:rPr b="0" lang="en-US" sz="1600" spc="-1" strike="noStrike">
                <a:solidFill>
                  <a:srgbClr val="0c1c1d"/>
                </a:solidFill>
                <a:latin typeface="Times New Roman"/>
                <a:ea typeface="Times New Roman"/>
              </a:rPr>
              <a:t> </a:t>
            </a:r>
            <a:r>
              <a:rPr b="1" lang="en-US" sz="1600" spc="-1" strike="noStrike">
                <a:solidFill>
                  <a:srgbClr val="0c1c1d"/>
                </a:solidFill>
                <a:latin typeface="Arial"/>
                <a:ea typeface="Arial"/>
              </a:rPr>
              <a:t>2</a:t>
            </a:r>
            <a:r>
              <a:rPr b="1" lang="en-US" sz="1500" spc="-1" strike="noStrike" baseline="26000">
                <a:solidFill>
                  <a:srgbClr val="0c1c1d"/>
                </a:solidFill>
                <a:latin typeface="Arial"/>
                <a:ea typeface="Arial"/>
              </a:rPr>
              <a:t>nd </a:t>
            </a:r>
            <a:r>
              <a:rPr b="1" lang="en-US" sz="1600" spc="-1" strike="noStrike">
                <a:solidFill>
                  <a:srgbClr val="0c1c1d"/>
                </a:solidFill>
                <a:latin typeface="Arial"/>
                <a:ea typeface="Arial"/>
              </a:rPr>
              <a:t>part of workshop</a:t>
            </a:r>
            <a:endParaRPr b="0" lang="en-US" sz="16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338" name="object 4"/>
          <p:cNvSpPr/>
          <p:nvPr/>
        </p:nvSpPr>
        <p:spPr>
          <a:xfrm>
            <a:off x="8712360" y="6595920"/>
            <a:ext cx="29664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DA3E-9434-4593-AD24-B4EF6C8A723D}"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
        <p:nvSpPr>
          <p:cNvPr id="339" name="object 3"/>
          <p:cNvSpPr/>
          <p:nvPr/>
        </p:nvSpPr>
        <p:spPr>
          <a:xfrm>
            <a:off x="457200" y="1295280"/>
            <a:ext cx="883908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2200" spc="-1" strike="noStrike">
                <a:solidFill>
                  <a:srgbClr val="042745"/>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
          <p:cNvGraphicFramePr/>
          <p:nvPr/>
        </p:nvGraphicFramePr>
        <p:xfrm>
          <a:off x="31680" y="166680"/>
          <a:ext cx="9058320" cy="6273720"/>
        </p:xfrm>
        <a:graphic>
          <a:graphicData uri="http://schemas.openxmlformats.org/drawingml/2006/table">
            <a:tbl>
              <a:tblPr/>
              <a:tblGrid>
                <a:gridCol w="1257480"/>
                <a:gridCol w="6076800"/>
                <a:gridCol w="1724040"/>
              </a:tblGrid>
              <a:tr h="517680">
                <a:tc>
                  <a:txBody>
                    <a:bodyPr lIns="0" rIns="0" tIns="147240" bIns="0" anchor="t">
                      <a:noAutofit/>
                    </a:bodyPr>
                    <a:p>
                      <a:pPr marL="426960">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pic</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147240" bIns="0" anchor="t">
                      <a:noAutofit/>
                    </a:bodyPr>
                    <a:p>
                      <a:pPr marL="12600" algn="ctr">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esson</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40680" bIns="0" anchor="t">
                      <a:noAutofit/>
                    </a:bodyPr>
                    <a:p>
                      <a:pPr marL="487440" indent="-637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Highlighted  example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r>
              <a:tr h="517320">
                <a:tc rowSpan="2">
                  <a:txBody>
                    <a:bodyPr lIns="0" rIns="0" tIns="324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ving  the wa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 reform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4068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al framework paves way for competition, prevented government from  awarding contracts/concessions via unsolicited bid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7680">
                <a:tc v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4068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toring financial capabilities of distribution companies is important step  towards building creditworthines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f8f9"/>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0" rIns="0" tIns="40680" bIns="0" anchor="t">
                      <a:noAutofit/>
                    </a:bodyPr>
                    <a:p>
                      <a:pPr marL="507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titutional  attributions  (1</a:t>
                      </a:r>
                      <a:r>
                        <a:rPr b="0" lang="en-US" sz="1300" spc="-1" strike="noStrike" baseline="25000">
                          <a:solidFill>
                            <a:srgbClr val="000000"/>
                          </a:solidFill>
                          <a:latin typeface="Arial"/>
                          <a:ea typeface="Arial"/>
                        </a:rPr>
                        <a:t>st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4068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st reforms in some cases intended to include a component of planning  and oversight over security of supply, but blurry institutional attributions and  lack of technical capabilities prevented their full implementation.</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7680">
                <a:tc rowSpan="2">
                  <a:txBody>
                    <a:bodyPr lIns="0" rIns="0" tIns="7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beralization  &amp; marginalism  (1</a:t>
                      </a:r>
                      <a:r>
                        <a:rPr b="0" lang="en-US" sz="1300" spc="-1" strike="noStrike" baseline="25000">
                          <a:solidFill>
                            <a:srgbClr val="000000"/>
                          </a:solidFill>
                          <a:latin typeface="Arial"/>
                          <a:ea typeface="Arial"/>
                        </a:rPr>
                        <a:t>st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roach based on spot markets + short-term contracts + administratively-  set capacity prices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underinvestment and scarcity in some countrie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v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41400" bIns="0" anchor="t">
                      <a:noAutofit/>
                    </a:bodyPr>
                    <a:p>
                      <a:pPr marL="507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centivizing efficient contracting by distcos via administratively-set  prices caps proved hard, due to difficulties in setting proper caps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need for transparent solution that captured market dynamic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9720">
                <a:tc>
                  <a:txBody>
                    <a:bodyPr lIns="0" rIns="0" tIns="1800" bIns="0" anchor="t">
                      <a:noAutofit/>
                    </a:bodyPr>
                    <a:p>
                      <a:pPr marL="50760">
                        <a:lnSpc>
                          <a:spcPts val="1437"/>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file of  investments  (1</a:t>
                      </a:r>
                      <a:r>
                        <a:rPr b="0" lang="en-US" sz="1200" spc="-1" strike="noStrike" baseline="24000">
                          <a:solidFill>
                            <a:srgbClr val="000000"/>
                          </a:solidFill>
                          <a:latin typeface="Arial"/>
                          <a:ea typeface="Arial"/>
                        </a:rPr>
                        <a:t>st</a:t>
                      </a:r>
                      <a:r>
                        <a:rPr b="0" lang="en-US" sz="1200" spc="-1" strike="noStrike">
                          <a:solidFill>
                            <a:srgbClr val="000000"/>
                          </a:solidFill>
                          <a:latin typeface="Arial"/>
                          <a:ea typeface="Arial"/>
                        </a:rPr>
                        <a:t>.reform)</a:t>
                      </a: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56520" bIns="0" anchor="t">
                      <a:noAutofit/>
                    </a:bodyPr>
                    <a:p>
                      <a:pPr marL="50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ly after 1</a:t>
                      </a:r>
                      <a:r>
                        <a:rPr b="0" lang="en-US" sz="1300" spc="-1" strike="noStrike" baseline="25000">
                          <a:solidFill>
                            <a:srgbClr val="000000"/>
                          </a:solidFill>
                          <a:latin typeface="Arial"/>
                          <a:ea typeface="Arial"/>
                        </a:rPr>
                        <a:t>st </a:t>
                      </a:r>
                      <a:r>
                        <a:rPr b="0" lang="en-US" sz="1400" spc="-1" strike="noStrike">
                          <a:solidFill>
                            <a:srgbClr val="000000"/>
                          </a:solidFill>
                          <a:latin typeface="Arial"/>
                          <a:ea typeface="Arial"/>
                        </a:rPr>
                        <a:t>reform, concentration of investments in opex-intensive  thermal technologies was verified in some countries, meaningful behavior.</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de4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0" rIns="0" tIns="39240" bIns="0" anchor="t">
                      <a:noAutofit/>
                    </a:bodyPr>
                    <a:p>
                      <a:pPr marL="5076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ning &amp;  guidance  (2</a:t>
                      </a:r>
                      <a:r>
                        <a:rPr b="0" lang="en-US" sz="1300" spc="-1" strike="noStrike" baseline="25000">
                          <a:solidFill>
                            <a:srgbClr val="000000"/>
                          </a:solidFill>
                          <a:latin typeface="Arial"/>
                          <a:ea typeface="Arial"/>
                        </a:rPr>
                        <a:t>nd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39240" bIns="0" anchor="t">
                      <a:noAutofit/>
                    </a:bodyPr>
                    <a:p>
                      <a:pPr marL="5076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trengthening of the planning function, offering guidance to the market-  based expansion and/or backstop mechanisms to ensure security of supply,  was a common element in the second wave of reforms in Latin America.</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ng-term  contracts  (2</a:t>
                      </a:r>
                      <a:r>
                        <a:rPr b="0" lang="en-US" sz="1300" spc="-1" strike="noStrike" baseline="25000">
                          <a:solidFill>
                            <a:srgbClr val="000000"/>
                          </a:solidFill>
                          <a:latin typeface="Arial"/>
                          <a:ea typeface="Arial"/>
                        </a:rPr>
                        <a:t>nd </a:t>
                      </a:r>
                      <a:r>
                        <a:rPr b="0" lang="en-US" sz="1400" spc="-1" strike="noStrike">
                          <a:solidFill>
                            <a:srgbClr val="000000"/>
                          </a:solidFill>
                          <a:latin typeface="Arial"/>
                          <a:ea typeface="Arial"/>
                        </a:rPr>
                        <a:t>reform)</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f8f9"/>
                    </a:solidFill>
                  </a:tcPr>
                </a:tc>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reation of mechanisms to ensure the demand for long-term contracts  (energy or reliability options) with conditions adapted to needs of new  projects was a common element of reform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f8f9"/>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29720">
                <a:tc>
                  <a:txBody>
                    <a:bodyPr lIns="0" rIns="0" tIns="87120" bIns="0" anchor="t">
                      <a:noAutofit/>
                    </a:bodyPr>
                    <a:p>
                      <a:pPr marL="50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etition to  award contracts  (2</a:t>
                      </a:r>
                      <a:r>
                        <a:rPr b="0" lang="en-US" sz="1200" spc="-1" strike="noStrike" baseline="24000">
                          <a:solidFill>
                            <a:srgbClr val="000000"/>
                          </a:solidFill>
                          <a:latin typeface="Arial"/>
                          <a:ea typeface="Arial"/>
                        </a:rPr>
                        <a:t>nd </a:t>
                      </a:r>
                      <a:r>
                        <a:rPr b="0" lang="en-US" sz="1200" spc="-1" strike="noStrike">
                          <a:solidFill>
                            <a:srgbClr val="000000"/>
                          </a:solidFill>
                          <a:latin typeface="Arial"/>
                          <a:ea typeface="Arial"/>
                        </a:rPr>
                        <a:t>reform)</a:t>
                      </a: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41400" bIns="0" anchor="t">
                      <a:noAutofit/>
                    </a:bodyPr>
                    <a:p>
                      <a:pPr marL="50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ctions play an important role in the solutions of the 2</a:t>
                      </a:r>
                      <a:r>
                        <a:rPr b="0" lang="en-US" sz="1300" spc="-1" strike="noStrike" baseline="25000">
                          <a:solidFill>
                            <a:srgbClr val="000000"/>
                          </a:solidFill>
                          <a:latin typeface="Arial"/>
                          <a:ea typeface="Arial"/>
                        </a:rPr>
                        <a:t>nd </a:t>
                      </a:r>
                      <a:r>
                        <a:rPr b="0" lang="en-US" sz="1400" spc="-1" strike="noStrike">
                          <a:solidFill>
                            <a:srgbClr val="000000"/>
                          </a:solidFill>
                          <a:latin typeface="Arial"/>
                          <a:ea typeface="Arial"/>
                        </a:rPr>
                        <a:t>reform, as efficient  &amp; transparent means of awarding contracts, and operationalizing guidance  to the market while retaining the contestability of central plans.</a:t>
                      </a:r>
                      <a:endParaRPr b="0" lang="en-US" sz="14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1" name="object 3"/>
          <p:cNvSpPr/>
          <p:nvPr/>
        </p:nvSpPr>
        <p:spPr>
          <a:xfrm>
            <a:off x="8718480" y="6589800"/>
            <a:ext cx="27000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7</a:t>
            </a:r>
            <a:endParaRPr b="0" lang="en-US" sz="1200" spc="-1" strike="noStrike">
              <a:solidFill>
                <a:srgbClr val="003366"/>
              </a:solidFill>
              <a:latin typeface="Arial"/>
            </a:endParaRPr>
          </a:p>
        </p:txBody>
      </p:sp>
      <p:sp>
        <p:nvSpPr>
          <p:cNvPr id="342" name="object 4"/>
          <p:cNvSpPr/>
          <p:nvPr/>
        </p:nvSpPr>
        <p:spPr>
          <a:xfrm>
            <a:off x="7724880" y="849240"/>
            <a:ext cx="366480" cy="2304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3" name="object 5"/>
          <p:cNvSpPr/>
          <p:nvPr/>
        </p:nvSpPr>
        <p:spPr>
          <a:xfrm>
            <a:off x="8381880" y="849240"/>
            <a:ext cx="368280" cy="2304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4" name="object 6"/>
          <p:cNvSpPr/>
          <p:nvPr/>
        </p:nvSpPr>
        <p:spPr>
          <a:xfrm>
            <a:off x="8250120" y="1352520"/>
            <a:ext cx="368280" cy="2300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5" name="object 7"/>
          <p:cNvSpPr/>
          <p:nvPr/>
        </p:nvSpPr>
        <p:spPr>
          <a:xfrm>
            <a:off x="7867800" y="1352520"/>
            <a:ext cx="355320" cy="2318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6" name="object 8"/>
          <p:cNvSpPr/>
          <p:nvPr/>
        </p:nvSpPr>
        <p:spPr>
          <a:xfrm>
            <a:off x="7480440" y="1376280"/>
            <a:ext cx="376200" cy="21924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7" name="object 10"/>
          <p:cNvSpPr/>
          <p:nvPr/>
        </p:nvSpPr>
        <p:spPr>
          <a:xfrm>
            <a:off x="7709040" y="2003400"/>
            <a:ext cx="368280" cy="2286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8" name="object 11"/>
          <p:cNvSpPr/>
          <p:nvPr/>
        </p:nvSpPr>
        <p:spPr>
          <a:xfrm>
            <a:off x="8420040" y="2000160"/>
            <a:ext cx="355680" cy="23184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49" name="object 12"/>
          <p:cNvSpPr/>
          <p:nvPr/>
        </p:nvSpPr>
        <p:spPr>
          <a:xfrm>
            <a:off x="7412040" y="2603520"/>
            <a:ext cx="368280" cy="2286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0" name="object 13"/>
          <p:cNvSpPr/>
          <p:nvPr/>
        </p:nvSpPr>
        <p:spPr>
          <a:xfrm>
            <a:off x="7810560" y="2603520"/>
            <a:ext cx="368280" cy="22860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1" name="object 14"/>
          <p:cNvSpPr/>
          <p:nvPr/>
        </p:nvSpPr>
        <p:spPr>
          <a:xfrm>
            <a:off x="8210520" y="2616120"/>
            <a:ext cx="376200" cy="21924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2" name="object 18"/>
          <p:cNvSpPr/>
          <p:nvPr/>
        </p:nvSpPr>
        <p:spPr>
          <a:xfrm>
            <a:off x="7711920" y="3257640"/>
            <a:ext cx="366840" cy="23004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3" name="object 19"/>
          <p:cNvSpPr/>
          <p:nvPr/>
        </p:nvSpPr>
        <p:spPr>
          <a:xfrm>
            <a:off x="8386920" y="3271680"/>
            <a:ext cx="376200" cy="21924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4" name="object 20"/>
          <p:cNvSpPr/>
          <p:nvPr/>
        </p:nvSpPr>
        <p:spPr>
          <a:xfrm>
            <a:off x="7581960" y="4475160"/>
            <a:ext cx="366480" cy="22860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5" name="object 21"/>
          <p:cNvSpPr/>
          <p:nvPr/>
        </p:nvSpPr>
        <p:spPr>
          <a:xfrm>
            <a:off x="8053560" y="4475160"/>
            <a:ext cx="366480" cy="22860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6" name="object 22"/>
          <p:cNvSpPr/>
          <p:nvPr/>
        </p:nvSpPr>
        <p:spPr>
          <a:xfrm>
            <a:off x="8521560" y="4471920"/>
            <a:ext cx="355680" cy="23184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7" name="object 23"/>
          <p:cNvSpPr/>
          <p:nvPr/>
        </p:nvSpPr>
        <p:spPr>
          <a:xfrm>
            <a:off x="7454880" y="5184720"/>
            <a:ext cx="368280" cy="22860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8" name="object 24"/>
          <p:cNvSpPr/>
          <p:nvPr/>
        </p:nvSpPr>
        <p:spPr>
          <a:xfrm>
            <a:off x="7861320" y="5184720"/>
            <a:ext cx="368280" cy="22860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59" name="object 25"/>
          <p:cNvSpPr/>
          <p:nvPr/>
        </p:nvSpPr>
        <p:spPr>
          <a:xfrm>
            <a:off x="8267760" y="5181480"/>
            <a:ext cx="355680" cy="23184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0" name="object 26"/>
          <p:cNvSpPr/>
          <p:nvPr/>
        </p:nvSpPr>
        <p:spPr>
          <a:xfrm>
            <a:off x="8656560" y="5207040"/>
            <a:ext cx="374760" cy="22068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1" name="object 27"/>
          <p:cNvSpPr/>
          <p:nvPr/>
        </p:nvSpPr>
        <p:spPr>
          <a:xfrm>
            <a:off x="7454880" y="5950080"/>
            <a:ext cx="368280" cy="22860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2" name="object 28"/>
          <p:cNvSpPr/>
          <p:nvPr/>
        </p:nvSpPr>
        <p:spPr>
          <a:xfrm>
            <a:off x="7861320" y="5950080"/>
            <a:ext cx="368280" cy="22860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3" name="object 29"/>
          <p:cNvSpPr/>
          <p:nvPr/>
        </p:nvSpPr>
        <p:spPr>
          <a:xfrm>
            <a:off x="8674200" y="5946840"/>
            <a:ext cx="355680" cy="231840"/>
          </a:xfrm>
          <a:prstGeom prst="rect">
            <a:avLst/>
          </a:prstGeom>
          <a:blipFill rotWithShape="0">
            <a:blip r:embed="rId2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4" name="object 30"/>
          <p:cNvSpPr/>
          <p:nvPr/>
        </p:nvSpPr>
        <p:spPr>
          <a:xfrm>
            <a:off x="8267760" y="5972040"/>
            <a:ext cx="376200" cy="219240"/>
          </a:xfrm>
          <a:prstGeom prst="rect">
            <a:avLst/>
          </a:prstGeom>
          <a:blipFill rotWithShape="0">
            <a:blip r:embed="rId2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5" name="object 31"/>
          <p:cNvSpPr/>
          <p:nvPr/>
        </p:nvSpPr>
        <p:spPr>
          <a:xfrm>
            <a:off x="3174840" y="6545160"/>
            <a:ext cx="283212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verview of main lessons</a:t>
            </a:r>
            <a:endParaRPr b="0" lang="en-US" sz="1800" spc="-1" strike="noStrike">
              <a:solidFill>
                <a:srgbClr val="003366"/>
              </a:solidFill>
              <a:latin typeface="Arial"/>
            </a:endParaRPr>
          </a:p>
        </p:txBody>
      </p:sp>
      <p:sp>
        <p:nvSpPr>
          <p:cNvPr id="366" name="object 32"/>
          <p:cNvSpPr/>
          <p:nvPr/>
        </p:nvSpPr>
        <p:spPr>
          <a:xfrm>
            <a:off x="8496360" y="3867120"/>
            <a:ext cx="368280" cy="230040"/>
          </a:xfrm>
          <a:prstGeom prst="rect">
            <a:avLst/>
          </a:prstGeom>
          <a:blipFill rotWithShape="0">
            <a:blip r:embed="rId2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7" name="object 33"/>
          <p:cNvSpPr/>
          <p:nvPr/>
        </p:nvSpPr>
        <p:spPr>
          <a:xfrm>
            <a:off x="7591320" y="3868560"/>
            <a:ext cx="368280" cy="228600"/>
          </a:xfrm>
          <a:prstGeom prst="rect">
            <a:avLst/>
          </a:prstGeom>
          <a:blipFill rotWithShape="0">
            <a:blip r:embed="rId2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68" name="object 34"/>
          <p:cNvSpPr/>
          <p:nvPr/>
        </p:nvSpPr>
        <p:spPr>
          <a:xfrm>
            <a:off x="8040600" y="3884760"/>
            <a:ext cx="376200" cy="218880"/>
          </a:xfrm>
          <a:prstGeom prst="rect">
            <a:avLst/>
          </a:prstGeom>
          <a:blipFill rotWithShape="0">
            <a:blip r:embed="rId2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49400"/>
            <a:ext cx="48513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ving the way for reforms</a:t>
            </a:r>
            <a:endParaRPr b="1" lang="en-US" sz="2400" spc="-1" strike="noStrike">
              <a:solidFill>
                <a:srgbClr val="cc0000"/>
              </a:solidFill>
              <a:latin typeface="Arial"/>
            </a:endParaRPr>
          </a:p>
        </p:txBody>
      </p:sp>
      <p:sp>
        <p:nvSpPr>
          <p:cNvPr id="370" name="object 3"/>
          <p:cNvSpPr/>
          <p:nvPr/>
        </p:nvSpPr>
        <p:spPr>
          <a:xfrm>
            <a:off x="152280" y="968400"/>
            <a:ext cx="8374320" cy="5292000"/>
          </a:xfrm>
          <a:prstGeom prst="rect">
            <a:avLst/>
          </a:prstGeom>
          <a:noFill/>
          <a:ln w="0">
            <a:noFill/>
          </a:ln>
        </p:spPr>
        <p:style>
          <a:lnRef idx="0"/>
          <a:fillRef idx="0"/>
          <a:effectRef idx="0"/>
          <a:fontRef idx="minor"/>
        </p:style>
        <p:txBody>
          <a:bodyPr lIns="0" rIns="0" tIns="12600" bIns="0" anchor="t">
            <a:spAutoFit/>
          </a:bodyPr>
          <a:p>
            <a:pPr marL="355680" indent="-343080">
              <a:lnSpc>
                <a:spcPct val="14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Legal framework established at onset of reform prevented  governmental institutions from awarding concession contracts  via acceptance of unsolicited bids </a:t>
            </a:r>
            <a:r>
              <a:rPr b="0" lang="en-US" sz="2000" spc="-1" strike="noStrike">
                <a:solidFill>
                  <a:srgbClr val="042745"/>
                </a:solidFill>
                <a:latin typeface="Wingdings"/>
                <a:ea typeface="Wingdings"/>
              </a:rPr>
              <a:t></a:t>
            </a:r>
            <a:r>
              <a:rPr b="0" lang="en-US" sz="2000" spc="-1" strike="noStrike">
                <a:solidFill>
                  <a:srgbClr val="042745"/>
                </a:solidFill>
                <a:latin typeface="Times New Roman"/>
                <a:ea typeface="Times New Roman"/>
              </a:rPr>
              <a:t> </a:t>
            </a:r>
            <a:r>
              <a:rPr b="0" lang="en-US" sz="2000" spc="-1" strike="noStrike">
                <a:solidFill>
                  <a:srgbClr val="042745"/>
                </a:solidFill>
                <a:latin typeface="Arial"/>
                <a:ea typeface="Arial"/>
              </a:rPr>
              <a:t>competitive tender required:</a:t>
            </a:r>
            <a:endParaRPr b="0" lang="en-US" sz="2000" spc="-1" strike="noStrike">
              <a:solidFill>
                <a:srgbClr val="003366"/>
              </a:solidFill>
              <a:latin typeface="Arial"/>
            </a:endParaRPr>
          </a:p>
          <a:p>
            <a:pPr marL="355680" indent="-343080">
              <a:lnSpc>
                <a:spcPct val="140000"/>
              </a:lnSpc>
              <a:spcBef>
                <a:spcPts val="47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echanism targeted initially at setting context for privatizations,  but played important role for introduction of auctions later:</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g., project-specific auctions to award generation concessions</a:t>
            </a:r>
            <a:endParaRPr b="0" lang="en-US" sz="1900" spc="-1" strike="noStrike">
              <a:solidFill>
                <a:srgbClr val="003366"/>
              </a:solidFill>
              <a:latin typeface="Arial"/>
            </a:endParaRPr>
          </a:p>
          <a:p>
            <a:pPr marL="355680" indent="-343080">
              <a:spcBef>
                <a:spcPts val="913"/>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ssociated with long-term contracts, transmission concessions, etc.</a:t>
            </a:r>
            <a:endParaRPr b="0" lang="en-US" sz="1900" spc="-1" strike="noStrike">
              <a:solidFill>
                <a:srgbClr val="003366"/>
              </a:solidFill>
              <a:latin typeface="Arial"/>
            </a:endParaRPr>
          </a:p>
          <a:p>
            <a:pPr marL="355680" indent="-343080">
              <a:lnSpc>
                <a:spcPct val="140000"/>
              </a:lnSpc>
              <a:spcBef>
                <a:spcPts val="4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echanism does not preclude market entry of merchant projects:  these require only an </a:t>
            </a:r>
            <a:r>
              <a:rPr b="0" i="1" lang="en-US" sz="1900" spc="-1" strike="noStrike">
                <a:solidFill>
                  <a:srgbClr val="042745"/>
                </a:solidFill>
                <a:latin typeface="Arial"/>
                <a:ea typeface="Arial"/>
              </a:rPr>
              <a:t>authorization </a:t>
            </a:r>
            <a:r>
              <a:rPr b="0" lang="en-US" sz="1900" spc="-1" strike="noStrike">
                <a:solidFill>
                  <a:srgbClr val="042745"/>
                </a:solidFill>
                <a:latin typeface="Arial"/>
                <a:ea typeface="Arial"/>
              </a:rPr>
              <a:t>(or similar), rather than concession.</a:t>
            </a:r>
            <a:endParaRPr b="0" lang="en-US" sz="1900" spc="-1" strike="noStrike">
              <a:solidFill>
                <a:srgbClr val="003366"/>
              </a:solidFill>
              <a:latin typeface="Arial"/>
            </a:endParaRPr>
          </a:p>
          <a:p>
            <a:pPr marL="355680" indent="-343080">
              <a:spcBef>
                <a:spcPts val="13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xamples:</a:t>
            </a:r>
            <a:endParaRPr b="0" lang="en-US" sz="1900" spc="-1" strike="noStrike">
              <a:solidFill>
                <a:srgbClr val="003366"/>
              </a:solidFill>
              <a:latin typeface="Arial"/>
            </a:endParaRPr>
          </a:p>
          <a:p>
            <a:pPr lvl="1" marL="1155600" indent="-228600">
              <a:spcBef>
                <a:spcPts val="136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Brazil: Laws #8,987 (“Concessions Law”).</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eru: system of public tenders for privatization.</a:t>
            </a:r>
            <a:endParaRPr b="0" lang="en-US" sz="1900" spc="-1" strike="noStrike">
              <a:solidFill>
                <a:srgbClr val="003366"/>
              </a:solidFill>
              <a:latin typeface="Arial"/>
            </a:endParaRPr>
          </a:p>
        </p:txBody>
      </p:sp>
      <p:sp>
        <p:nvSpPr>
          <p:cNvPr id="371" name="object 4"/>
          <p:cNvSpPr/>
          <p:nvPr/>
        </p:nvSpPr>
        <p:spPr>
          <a:xfrm>
            <a:off x="868356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72" name="object 5"/>
          <p:cNvSpPr/>
          <p:nvPr/>
        </p:nvSpPr>
        <p:spPr>
          <a:xfrm>
            <a:off x="5943600" y="5560920"/>
            <a:ext cx="366840" cy="2304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73" name="object 6"/>
          <p:cNvSpPr/>
          <p:nvPr/>
        </p:nvSpPr>
        <p:spPr>
          <a:xfrm>
            <a:off x="6553080" y="6018120"/>
            <a:ext cx="366840" cy="2304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74" name="object 7"/>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D1D8-2FCE-4881-9B0A-DB4F47E78518}"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149400"/>
            <a:ext cx="48513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ving the way for reforms</a:t>
            </a:r>
            <a:endParaRPr b="1" lang="en-US" sz="2400" spc="-1" strike="noStrike">
              <a:solidFill>
                <a:srgbClr val="cc0000"/>
              </a:solidFill>
              <a:latin typeface="Arial"/>
            </a:endParaRPr>
          </a:p>
        </p:txBody>
      </p:sp>
      <p:sp>
        <p:nvSpPr>
          <p:cNvPr id="376" name="object 3"/>
          <p:cNvSpPr/>
          <p:nvPr/>
        </p:nvSpPr>
        <p:spPr>
          <a:xfrm>
            <a:off x="152280" y="905040"/>
            <a:ext cx="8490240" cy="5501880"/>
          </a:xfrm>
          <a:prstGeom prst="rect">
            <a:avLst/>
          </a:prstGeom>
          <a:noFill/>
          <a:ln w="0">
            <a:noFill/>
          </a:ln>
        </p:spPr>
        <p:style>
          <a:lnRef idx="0"/>
          <a:fillRef idx="0"/>
          <a:effectRef idx="0"/>
          <a:fontRef idx="minor"/>
        </p:style>
        <p:txBody>
          <a:bodyPr lIns="0" rIns="0" tIns="84960" bIns="0" anchor="t">
            <a:spAutoFit/>
          </a:bodyPr>
          <a:p>
            <a:pPr algn="ctr">
              <a:spcBef>
                <a:spcPts val="675"/>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Restoration of financial capabilities of distribution companies is an important</a:t>
            </a:r>
            <a:endParaRPr b="0" lang="en-US" sz="1900" spc="-1" strike="noStrike">
              <a:solidFill>
                <a:srgbClr val="003366"/>
              </a:solidFill>
              <a:latin typeface="Arial"/>
            </a:endParaRPr>
          </a:p>
          <a:p>
            <a:pPr>
              <a:spcBef>
                <a:spcPts val="575"/>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step for strengthening confidence of gen. investors (creditworthiness):</a:t>
            </a:r>
            <a:endParaRPr b="0" lang="en-US" sz="1900" spc="-1" strike="noStrike">
              <a:solidFill>
                <a:srgbClr val="003366"/>
              </a:solidFill>
              <a:latin typeface="Arial"/>
            </a:endParaRPr>
          </a:p>
          <a:p>
            <a:pPr>
              <a:spcBef>
                <a:spcPts val="1188"/>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fforts to make tariffs cost-reflective were made in all countries.</a:t>
            </a:r>
            <a:endParaRPr b="0" lang="en-US" sz="1700" spc="-1" strike="noStrike">
              <a:solidFill>
                <a:srgbClr val="003366"/>
              </a:solidFill>
              <a:latin typeface="Arial"/>
            </a:endParaRPr>
          </a:p>
          <a:p>
            <a:pPr>
              <a:spcBef>
                <a:spcPts val="1225"/>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Direct capital injections by treasury were an important element in some.</a:t>
            </a:r>
            <a:endParaRPr b="0" lang="en-US" sz="1700" spc="-1" strike="noStrike">
              <a:solidFill>
                <a:srgbClr val="003366"/>
              </a:solidFill>
              <a:latin typeface="Arial"/>
            </a:endParaRPr>
          </a:p>
          <a:p>
            <a:pPr>
              <a:lnSpc>
                <a:spcPct val="140000"/>
              </a:lnSpc>
              <a:spcBef>
                <a:spcPts val="414"/>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ommonly, restoration of financial capabilities is also instrument to restore value  of assets before privatization </a:t>
            </a:r>
            <a:r>
              <a:rPr b="0" lang="en-US" sz="1700" spc="-1" strike="noStrike">
                <a:solidFill>
                  <a:srgbClr val="042745"/>
                </a:solidFill>
                <a:latin typeface="Wingdings"/>
                <a:ea typeface="Wingdings"/>
              </a:rPr>
              <a:t></a:t>
            </a:r>
            <a:r>
              <a:rPr b="0" lang="en-US" sz="1700" spc="-1" strike="noStrike">
                <a:solidFill>
                  <a:srgbClr val="042745"/>
                </a:solidFill>
                <a:latin typeface="Times New Roman"/>
                <a:ea typeface="Times New Roman"/>
              </a:rPr>
              <a:t> </a:t>
            </a:r>
            <a:r>
              <a:rPr b="0" lang="en-US" sz="1700" spc="-1" strike="noStrike">
                <a:solidFill>
                  <a:srgbClr val="042745"/>
                </a:solidFill>
                <a:latin typeface="Arial"/>
                <a:ea typeface="Arial"/>
              </a:rPr>
              <a:t>value generation leveraged by confidence.</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And initiating the process of privatization via distribution companies</a:t>
            </a:r>
            <a:endParaRPr b="0" lang="en-US" sz="1700" spc="-1" strike="noStrike">
              <a:solidFill>
                <a:srgbClr val="003366"/>
              </a:solidFill>
              <a:latin typeface="Arial"/>
            </a:endParaRPr>
          </a:p>
          <a:p>
            <a:pPr>
              <a:spcBef>
                <a:spcPts val="814"/>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was part of the strategy in many countries.</a:t>
            </a:r>
            <a:endParaRPr b="0" lang="en-US" sz="1700" spc="-1" strike="noStrike">
              <a:solidFill>
                <a:srgbClr val="003366"/>
              </a:solidFill>
              <a:latin typeface="Arial"/>
            </a:endParaRPr>
          </a:p>
          <a:p>
            <a:pPr>
              <a:spcBef>
                <a:spcPts val="1225"/>
              </a:spcBef>
              <a:buClr>
                <a:srgbClr val="a39274"/>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xamples:</a:t>
            </a:r>
            <a:endParaRPr b="0" lang="en-US" sz="1700" spc="-1" strike="noStrike">
              <a:solidFill>
                <a:srgbClr val="003366"/>
              </a:solidFill>
              <a:latin typeface="Arial"/>
            </a:endParaRPr>
          </a:p>
          <a:p>
            <a:pPr lvl="1" marL="1155600" indent="-228600">
              <a:lnSpc>
                <a:spcPct val="140000"/>
              </a:lnSpc>
              <a:spcBef>
                <a:spcPts val="414"/>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Brazil: efforts towards cost-reflectiveness with Law #8631/1993,  privatization started with distribution utilities.</a:t>
            </a:r>
            <a:endParaRPr b="0" lang="en-US" sz="1700" spc="-1" strike="noStrike">
              <a:solidFill>
                <a:srgbClr val="003366"/>
              </a:solidFill>
              <a:latin typeface="Arial"/>
            </a:endParaRPr>
          </a:p>
          <a:p>
            <a:pPr lvl="1" marL="1155600" indent="-228600">
              <a:lnSpc>
                <a:spcPct val="140000"/>
              </a:lnSpc>
              <a:spcBef>
                <a:spcPts val="400"/>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hile: efforts involving cost-reflectiveness of tariffs and divestitures  (“dispensable assets”) initiated in 1974.</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41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Turkey: privatization efforts started with distribution utilities.</a:t>
            </a:r>
            <a:endParaRPr b="0" lang="en-US" sz="1700" spc="-1" strike="noStrike">
              <a:solidFill>
                <a:srgbClr val="003366"/>
              </a:solidFill>
              <a:latin typeface="Arial"/>
            </a:endParaRPr>
          </a:p>
        </p:txBody>
      </p:sp>
      <p:sp>
        <p:nvSpPr>
          <p:cNvPr id="377" name="object 4"/>
          <p:cNvSpPr/>
          <p:nvPr/>
        </p:nvSpPr>
        <p:spPr>
          <a:xfrm>
            <a:off x="868356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78" name="object 5"/>
          <p:cNvSpPr/>
          <p:nvPr/>
        </p:nvSpPr>
        <p:spPr>
          <a:xfrm>
            <a:off x="5627520" y="4952880"/>
            <a:ext cx="36864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79" name="object 6"/>
          <p:cNvSpPr/>
          <p:nvPr/>
        </p:nvSpPr>
        <p:spPr>
          <a:xfrm>
            <a:off x="5226120" y="5765760"/>
            <a:ext cx="376200" cy="2192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0" name="object 7"/>
          <p:cNvSpPr/>
          <p:nvPr/>
        </p:nvSpPr>
        <p:spPr>
          <a:xfrm>
            <a:off x="7086600" y="6172200"/>
            <a:ext cx="366840" cy="2286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1" name="object 8"/>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B51D-382D-4947-8F17-D47EC1FB78D7}"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0"/>
            <a:ext cx="674532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need for clear institutional attributions</a:t>
            </a:r>
            <a:endParaRPr b="1" lang="en-US" sz="2400" spc="-1" strike="noStrike">
              <a:solidFill>
                <a:srgbClr val="cc0000"/>
              </a:solidFill>
              <a:latin typeface="Arial"/>
            </a:endParaRPr>
          </a:p>
        </p:txBody>
      </p:sp>
      <p:sp>
        <p:nvSpPr>
          <p:cNvPr id="383" name="object 3"/>
          <p:cNvSpPr/>
          <p:nvPr/>
        </p:nvSpPr>
        <p:spPr>
          <a:xfrm>
            <a:off x="152280" y="946080"/>
            <a:ext cx="8783640" cy="5392800"/>
          </a:xfrm>
          <a:prstGeom prst="rect">
            <a:avLst/>
          </a:prstGeom>
          <a:noFill/>
          <a:ln w="0">
            <a:noFill/>
          </a:ln>
        </p:spPr>
        <p:style>
          <a:lnRef idx="0"/>
          <a:fillRef idx="0"/>
          <a:effectRef idx="0"/>
          <a:fontRef idx="minor"/>
        </p:style>
        <p:txBody>
          <a:bodyPr lIns="0" rIns="0" tIns="12600" bIns="0" anchor="t">
            <a:spAutoFit/>
          </a:bodyPr>
          <a:p>
            <a:pPr marL="355680" indent="-343080">
              <a:lnSpc>
                <a:spcPct val="14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In some Latin American countries, the first reform already sought to include a  component of oversight of security of supply and/or planning, but to little effect:</a:t>
            </a:r>
            <a:endParaRPr b="0" lang="en-US" sz="1900" spc="-1" strike="noStrike">
              <a:solidFill>
                <a:srgbClr val="003366"/>
              </a:solidFill>
              <a:latin typeface="Arial"/>
            </a:endParaRPr>
          </a:p>
          <a:p>
            <a:pPr marL="355680" indent="-343080">
              <a:lnSpc>
                <a:spcPct val="140000"/>
              </a:lnSpc>
              <a:spcBef>
                <a:spcPts val="451"/>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nforcement of this attribution was limited due to lack of technical capabilities  or unclear allocation of responsibilities.</a:t>
            </a:r>
            <a:endParaRPr b="0" lang="en-US" sz="1700" spc="-1" strike="noStrike">
              <a:solidFill>
                <a:srgbClr val="003366"/>
              </a:solidFill>
              <a:latin typeface="Arial"/>
            </a:endParaRPr>
          </a:p>
          <a:p>
            <a:pPr lvl="1" marL="1155600" indent="-228600">
              <a:lnSpc>
                <a:spcPct val="140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xample: In Brazil, National Council for Energy Policy had attribution  of overseeing security of supply, but the cabinet-level body did not  have technical means to fulfill this requisite.</a:t>
            </a:r>
            <a:endParaRPr b="0" lang="en-US" sz="1700" spc="-1" strike="noStrike">
              <a:solidFill>
                <a:srgbClr val="003366"/>
              </a:solidFill>
              <a:latin typeface="Arial"/>
            </a:endParaRPr>
          </a:p>
          <a:p>
            <a:pPr marL="355680" indent="-343080">
              <a:spcBef>
                <a:spcPts val="122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Or there were no mechanisms to ensure that (indicative) generation expansion</a:t>
            </a:r>
            <a:endParaRPr b="0" lang="en-US" sz="1700" spc="-1" strike="noStrike">
              <a:solidFill>
                <a:srgbClr val="003366"/>
              </a:solidFill>
              <a:latin typeface="Arial"/>
            </a:endParaRPr>
          </a:p>
          <a:p>
            <a:pPr marL="355680" indent="-343080">
              <a:spcBef>
                <a:spcPts val="8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lanning effectively resulted in guidance to the market.</a:t>
            </a:r>
            <a:endParaRPr b="0" lang="en-US" sz="1700" spc="-1" strike="noStrike">
              <a:solidFill>
                <a:srgbClr val="003366"/>
              </a:solidFill>
              <a:latin typeface="Arial"/>
            </a:endParaRPr>
          </a:p>
          <a:p>
            <a:pPr lvl="1" marL="1155600" indent="-228600">
              <a:lnSpc>
                <a:spcPct val="140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xample: In Colombia, UPME was established as a planning body  before the first reform and was maintained after it. But the issuing of  indicative generation expansion plans (facilitating access to information)  or the backstop mechanism to contract new generation (yearly supply/  demand balance) were only established as part of second reform.</a:t>
            </a:r>
            <a:endParaRPr b="0" lang="en-US" sz="1700" spc="-1" strike="noStrike">
              <a:solidFill>
                <a:srgbClr val="003366"/>
              </a:solidFill>
              <a:latin typeface="Arial"/>
            </a:endParaRPr>
          </a:p>
        </p:txBody>
      </p:sp>
      <p:sp>
        <p:nvSpPr>
          <p:cNvPr id="384" name="object 4"/>
          <p:cNvSpPr/>
          <p:nvPr/>
        </p:nvSpPr>
        <p:spPr>
          <a:xfrm>
            <a:off x="8472600" y="3200400"/>
            <a:ext cx="3664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5" name="object 5"/>
          <p:cNvSpPr/>
          <p:nvPr/>
        </p:nvSpPr>
        <p:spPr>
          <a:xfrm>
            <a:off x="8472600" y="5254560"/>
            <a:ext cx="353880" cy="2318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86" name="object 6"/>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A751-0954-4A7E-B7A8-94D382A9A5FB}"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52280" y="0"/>
            <a:ext cx="53690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liberalization and marginalism</a:t>
            </a:r>
            <a:endParaRPr b="1" lang="en-US" sz="2400" spc="-1" strike="noStrike">
              <a:solidFill>
                <a:srgbClr val="cc0000"/>
              </a:solidFill>
              <a:latin typeface="Arial"/>
            </a:endParaRPr>
          </a:p>
        </p:txBody>
      </p:sp>
      <p:sp>
        <p:nvSpPr>
          <p:cNvPr id="388" name="object 3"/>
          <p:cNvSpPr/>
          <p:nvPr/>
        </p:nvSpPr>
        <p:spPr>
          <a:xfrm>
            <a:off x="152280" y="912960"/>
            <a:ext cx="8401320" cy="5409360"/>
          </a:xfrm>
          <a:prstGeom prst="rect">
            <a:avLst/>
          </a:prstGeom>
          <a:noFill/>
          <a:ln w="0">
            <a:noFill/>
          </a:ln>
        </p:spPr>
        <p:style>
          <a:lnRef idx="0"/>
          <a:fillRef idx="0"/>
          <a:effectRef idx="0"/>
          <a:fontRef idx="minor"/>
        </p:style>
        <p:txBody>
          <a:bodyPr lIns="0" rIns="0" tIns="64800" bIns="0" anchor="t">
            <a:spAutoFit/>
          </a:bodyPr>
          <a:p>
            <a:pPr marL="12600">
              <a:spcBef>
                <a:spcPts val="513"/>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In some countries, the marginalist approach based on signals sent from spot market</a:t>
            </a:r>
            <a:endParaRPr b="0" lang="en-US" sz="1700" spc="-1" strike="noStrike">
              <a:solidFill>
                <a:srgbClr val="003366"/>
              </a:solidFill>
              <a:latin typeface="Arial"/>
            </a:endParaRPr>
          </a:p>
          <a:p>
            <a:pPr marL="12600">
              <a:spcBef>
                <a:spcPts val="414"/>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rices did not suffice to attract investments and ensure security of supply:</a:t>
            </a:r>
            <a:endParaRPr b="0" lang="en-US" sz="1700" spc="-1" strike="noStrike">
              <a:solidFill>
                <a:srgbClr val="003366"/>
              </a:solidFill>
              <a:latin typeface="Arial"/>
            </a:endParaRPr>
          </a:p>
          <a:p>
            <a:pPr marL="12600">
              <a:lnSpc>
                <a:spcPct val="120000"/>
              </a:lnSpc>
              <a:spcBef>
                <a:spcPts val="40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ven where there was an obligation to cover demand via long-term contracts, the  prevailing contract terms (durations, lead times) resulting from free negotiation in the  market were not fit to support investments in new generation.</a:t>
            </a:r>
            <a:endParaRPr b="0" lang="en-US" sz="1600" spc="-1" strike="noStrike">
              <a:solidFill>
                <a:srgbClr val="003366"/>
              </a:solidFill>
              <a:latin typeface="Arial"/>
            </a:endParaRPr>
          </a:p>
          <a:p>
            <a:pPr marL="12600">
              <a:spcBef>
                <a:spcPts val="77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roblems verified even in countries that implemented regulated capacity payments.</a:t>
            </a:r>
            <a:endParaRPr b="0" lang="en-US" sz="1600" spc="-1" strike="noStrike">
              <a:solidFill>
                <a:srgbClr val="003366"/>
              </a:solidFill>
              <a:latin typeface="Arial"/>
            </a:endParaRPr>
          </a:p>
          <a:p>
            <a:pPr marL="12600">
              <a:spcBef>
                <a:spcPts val="76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xamples:</a:t>
            </a:r>
            <a:endParaRPr b="0" lang="en-US" sz="1600" spc="-1" strike="noStrike">
              <a:solidFill>
                <a:srgbClr val="003366"/>
              </a:solidFill>
              <a:latin typeface="Arial"/>
            </a:endParaRPr>
          </a:p>
          <a:p>
            <a:pPr lvl="1" marL="1155600" indent="-228600">
              <a:lnSpc>
                <a:spcPct val="12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Brazil: obligation to cover 85% (later 90%) of demand via contracts,  no capacity payments. Rationing in 2001.</a:t>
            </a:r>
            <a:endParaRPr b="0" lang="en-US" sz="1600" spc="-1" strike="noStrike">
              <a:solidFill>
                <a:srgbClr val="003366"/>
              </a:solidFill>
              <a:latin typeface="Arial"/>
            </a:endParaRPr>
          </a:p>
          <a:p>
            <a:pPr lvl="1" marL="1155600" indent="-228600">
              <a:lnSpc>
                <a:spcPct val="12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u: obligation to cover 100% of demand via contracts; administratively-  set capacity payments (with settlement markets). Sluggish investments  after 2001 and deterioration of reserve margins.</a:t>
            </a:r>
            <a:endParaRPr b="0" lang="en-US" sz="1600" spc="-1" strike="noStrike">
              <a:solidFill>
                <a:srgbClr val="003366"/>
              </a:solidFill>
              <a:latin typeface="Arial"/>
            </a:endParaRPr>
          </a:p>
          <a:p>
            <a:pPr lvl="1" marL="1155600" indent="-228600">
              <a:lnSpc>
                <a:spcPct val="120000"/>
              </a:lnSpc>
              <a:spcBef>
                <a:spcPts val="37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hile: obligation to cover 100% of demand via contracts; administratively-  set capacity payments (with settlement markets). Rationing in 1998-1999.</a:t>
            </a:r>
            <a:endParaRPr b="0" lang="en-US" sz="1600" spc="-1" strike="noStrike">
              <a:solidFill>
                <a:srgbClr val="003366"/>
              </a:solidFill>
              <a:latin typeface="Arial"/>
            </a:endParaRPr>
          </a:p>
          <a:p>
            <a:pPr marL="12600">
              <a:spcBef>
                <a:spcPts val="77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Turkey may be seen as a counter-example.</a:t>
            </a:r>
            <a:endParaRPr b="0" lang="en-US" sz="1600" spc="-1" strike="noStrike">
              <a:solidFill>
                <a:srgbClr val="003366"/>
              </a:solidFill>
              <a:latin typeface="Arial"/>
            </a:endParaRPr>
          </a:p>
          <a:p>
            <a:pPr lvl="1" marL="1155600" indent="-228600">
              <a:lnSpc>
                <a:spcPct val="12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Yet, demand slowdown/retraction in 2008/2009 was key in dissipating concerns  about security of supply, and context of reform included very specific items.</a:t>
            </a:r>
            <a:endParaRPr b="0" lang="en-US" sz="1600" spc="-1" strike="noStrike">
              <a:solidFill>
                <a:srgbClr val="003366"/>
              </a:solidFill>
              <a:latin typeface="Arial"/>
            </a:endParaRPr>
          </a:p>
        </p:txBody>
      </p:sp>
      <p:sp>
        <p:nvSpPr>
          <p:cNvPr id="389"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390" name="object 5"/>
          <p:cNvSpPr/>
          <p:nvPr/>
        </p:nvSpPr>
        <p:spPr>
          <a:xfrm>
            <a:off x="8610480" y="3311640"/>
            <a:ext cx="366840" cy="2300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1" name="object 6"/>
          <p:cNvSpPr/>
          <p:nvPr/>
        </p:nvSpPr>
        <p:spPr>
          <a:xfrm>
            <a:off x="8613720" y="4341960"/>
            <a:ext cx="368280" cy="2300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2" name="object 7"/>
          <p:cNvSpPr/>
          <p:nvPr/>
        </p:nvSpPr>
        <p:spPr>
          <a:xfrm>
            <a:off x="8610480" y="5214960"/>
            <a:ext cx="374760" cy="21888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3" name="object 8"/>
          <p:cNvSpPr/>
          <p:nvPr/>
        </p:nvSpPr>
        <p:spPr>
          <a:xfrm>
            <a:off x="8610480" y="5977080"/>
            <a:ext cx="406440" cy="376200"/>
          </a:xfrm>
          <a:custGeom>
            <a:avLst/>
            <a:gdLst/>
            <a:ahLst/>
            <a:rect l="l" t="t" r="r" b="b"/>
            <a:pathLst>
              <a:path w="406400" h="375920">
                <a:moveTo>
                  <a:pt x="0" y="375666"/>
                </a:moveTo>
                <a:lnTo>
                  <a:pt x="406146" y="375666"/>
                </a:lnTo>
                <a:lnTo>
                  <a:pt x="406146" y="0"/>
                </a:lnTo>
                <a:lnTo>
                  <a:pt x="0" y="0"/>
                </a:lnTo>
                <a:lnTo>
                  <a:pt x="0" y="375666"/>
                </a:lnTo>
                <a:close/>
              </a:path>
            </a:pathLst>
          </a:custGeom>
          <a:solidFill>
            <a:srgbClr val="9c9cd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94" name="object 9"/>
          <p:cNvSpPr/>
          <p:nvPr/>
        </p:nvSpPr>
        <p:spPr>
          <a:xfrm>
            <a:off x="8618400" y="6108840"/>
            <a:ext cx="368280" cy="2300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95" name="object 10"/>
          <p:cNvSpPr/>
          <p:nvPr/>
        </p:nvSpPr>
        <p:spPr>
          <a:xfrm>
            <a:off x="8629560" y="5986440"/>
            <a:ext cx="357120" cy="123840"/>
          </a:xfrm>
          <a:custGeom>
            <a:avLst/>
            <a:gdLst/>
            <a:ahLst/>
            <a:rect l="l" t="t" r="r" b="b"/>
            <a:pathLst>
              <a:path w="356870" h="124460">
                <a:moveTo>
                  <a:pt x="356616" y="62102"/>
                </a:moveTo>
                <a:lnTo>
                  <a:pt x="0" y="62102"/>
                </a:lnTo>
                <a:lnTo>
                  <a:pt x="178308" y="124205"/>
                </a:lnTo>
                <a:lnTo>
                  <a:pt x="356616" y="62102"/>
                </a:lnTo>
                <a:close/>
              </a:path>
              <a:path w="356870" h="124460">
                <a:moveTo>
                  <a:pt x="286512" y="0"/>
                </a:moveTo>
                <a:lnTo>
                  <a:pt x="70104" y="0"/>
                </a:lnTo>
                <a:lnTo>
                  <a:pt x="70104" y="62102"/>
                </a:lnTo>
                <a:lnTo>
                  <a:pt x="286512" y="62102"/>
                </a:lnTo>
                <a:lnTo>
                  <a:pt x="286512" y="0"/>
                </a:lnTo>
                <a:close/>
              </a:path>
            </a:pathLst>
          </a:custGeom>
          <a:solidFill>
            <a:srgbClr val="6f2f9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96" name="object 11"/>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F890-809C-4E7C-9FBF-DA1C59B6C478}"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0"/>
            <a:ext cx="53690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liberalization and marginalism</a:t>
            </a:r>
            <a:endParaRPr b="1" lang="en-US" sz="2400" spc="-1" strike="noStrike">
              <a:solidFill>
                <a:srgbClr val="cc0000"/>
              </a:solidFill>
              <a:latin typeface="Arial"/>
            </a:endParaRPr>
          </a:p>
        </p:txBody>
      </p:sp>
      <p:sp>
        <p:nvSpPr>
          <p:cNvPr id="398" name="object 3"/>
          <p:cNvSpPr/>
          <p:nvPr/>
        </p:nvSpPr>
        <p:spPr>
          <a:xfrm>
            <a:off x="152280" y="982800"/>
            <a:ext cx="8508960" cy="5566320"/>
          </a:xfrm>
          <a:prstGeom prst="rect">
            <a:avLst/>
          </a:prstGeom>
          <a:noFill/>
          <a:ln w="0">
            <a:noFill/>
          </a:ln>
        </p:spPr>
        <p:style>
          <a:lnRef idx="0"/>
          <a:fillRef idx="0"/>
          <a:effectRef idx="0"/>
          <a:fontRef idx="minor"/>
        </p:style>
        <p:txBody>
          <a:bodyPr lIns="0" rIns="0" tIns="74160" bIns="0" anchor="t">
            <a:spAutoFit/>
          </a:bodyPr>
          <a:p>
            <a:pPr marL="12600">
              <a:spcBef>
                <a:spcPts val="587"/>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Incentivizing efficient contracting behavior of distcos via administratively-</a:t>
            </a:r>
            <a:endParaRPr b="0" lang="en-US" sz="2000" spc="-1" strike="noStrike">
              <a:solidFill>
                <a:srgbClr val="003366"/>
              </a:solidFill>
              <a:latin typeface="Arial"/>
            </a:endParaRPr>
          </a:p>
          <a:p>
            <a:pPr marL="12600">
              <a:spcBef>
                <a:spcPts val="47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set price caps proved hard, highlighting need for other solution.</a:t>
            </a:r>
            <a:endParaRPr b="0" lang="en-US" sz="2000" spc="-1" strike="noStrike">
              <a:solidFill>
                <a:srgbClr val="003366"/>
              </a:solidFill>
              <a:latin typeface="Arial"/>
            </a:endParaRPr>
          </a:p>
          <a:p>
            <a:pPr marL="12600">
              <a:spcBef>
                <a:spcPts val="92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xamples:</a:t>
            </a:r>
            <a:endParaRPr b="0" lang="en-US" sz="1900" spc="-1" strike="noStrike">
              <a:solidFill>
                <a:srgbClr val="003366"/>
              </a:solidFill>
              <a:latin typeface="Arial"/>
            </a:endParaRPr>
          </a:p>
          <a:p>
            <a:pPr lvl="1" marL="11556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eru:</a:t>
            </a:r>
            <a:endParaRPr b="0" lang="en-US" sz="1900" spc="-1" strike="noStrike">
              <a:solidFill>
                <a:srgbClr val="003366"/>
              </a:solidFill>
              <a:latin typeface="Arial"/>
            </a:endParaRPr>
          </a:p>
          <a:p>
            <a:pPr lvl="2" marL="16128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t>
            </a:r>
            <a:r>
              <a:rPr b="0" lang="en-US" sz="1900" spc="-1" strike="noStrike">
                <a:solidFill>
                  <a:srgbClr val="042745"/>
                </a:solidFill>
                <a:latin typeface="Arial"/>
                <a:ea typeface="Arial"/>
              </a:rPr>
              <a:t>Busbar tariff’ was determined by governmental institutions</a:t>
            </a:r>
            <a:endParaRPr b="0" lang="en-US" sz="1900" spc="-1" strike="noStrike">
              <a:solidFill>
                <a:srgbClr val="003366"/>
              </a:solidFill>
              <a:latin typeface="Arial"/>
            </a:endParaRPr>
          </a:p>
          <a:p>
            <a:pPr marL="12600" algn="just">
              <a:lnSpc>
                <a:spcPct val="12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by means of simulation and functioned as basis for determining  pass-through to tariffs of regulated distribution consumers. This  aimed at providing incentives for efficient contracting by distcos.</a:t>
            </a:r>
            <a:endParaRPr b="0" lang="en-US" sz="1900" spc="-1" strike="noStrike">
              <a:solidFill>
                <a:srgbClr val="003366"/>
              </a:solidFill>
              <a:latin typeface="Arial"/>
            </a:endParaRPr>
          </a:p>
          <a:p>
            <a:pPr lvl="2" marL="1612800" indent="-228600">
              <a:lnSpc>
                <a:spcPct val="120000"/>
              </a:lnSpc>
              <a:spcBef>
                <a:spcPts val="462"/>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But simulations failed to capture market dynamics and did  not function as inefficient benchmark for contract prices,  constraining investments in generation.</a:t>
            </a:r>
            <a:endParaRPr b="0" lang="en-US" sz="1900" spc="-1" strike="noStrike">
              <a:solidFill>
                <a:srgbClr val="003366"/>
              </a:solidFill>
              <a:latin typeface="Arial"/>
            </a:endParaRPr>
          </a:p>
          <a:p>
            <a:pPr lvl="1" marL="11556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Chile: analogous situation with ‘Node Prices’.</a:t>
            </a:r>
            <a:endParaRPr b="0" lang="en-US" sz="1900" spc="-1" strike="noStrike">
              <a:solidFill>
                <a:srgbClr val="003366"/>
              </a:solidFill>
              <a:latin typeface="Arial"/>
            </a:endParaRPr>
          </a:p>
          <a:p>
            <a:pPr marL="12600">
              <a:lnSpc>
                <a:spcPct val="120000"/>
              </a:lnSpc>
              <a:spcBef>
                <a:spcPts val="4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Solution to problem would later involve auctions as a transparent  mechanism of price discovery.</a:t>
            </a:r>
            <a:endParaRPr b="0" lang="en-US" sz="1900" spc="-1" strike="noStrike">
              <a:solidFill>
                <a:srgbClr val="003366"/>
              </a:solidFill>
              <a:latin typeface="Arial"/>
            </a:endParaRPr>
          </a:p>
        </p:txBody>
      </p:sp>
      <p:sp>
        <p:nvSpPr>
          <p:cNvPr id="399"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2)</a:t>
            </a:r>
            <a:endParaRPr b="0" lang="en-US" sz="1200" spc="-1" strike="noStrike">
              <a:solidFill>
                <a:srgbClr val="003366"/>
              </a:solidFill>
              <a:latin typeface="Arial"/>
            </a:endParaRPr>
          </a:p>
        </p:txBody>
      </p:sp>
      <p:sp>
        <p:nvSpPr>
          <p:cNvPr id="400" name="object 5"/>
          <p:cNvSpPr/>
          <p:nvPr/>
        </p:nvSpPr>
        <p:spPr>
          <a:xfrm>
            <a:off x="8613720" y="228600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1" name="object 6"/>
          <p:cNvSpPr/>
          <p:nvPr/>
        </p:nvSpPr>
        <p:spPr>
          <a:xfrm>
            <a:off x="8610480" y="5343480"/>
            <a:ext cx="374760" cy="2192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2" name="object 7"/>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216C-A9D6-4374-BDE4-510ECC9D2C80}"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0"/>
            <a:ext cx="834552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profile of investments immediately after reform</a:t>
            </a:r>
            <a:endParaRPr b="1" lang="en-US" sz="2400" spc="-1" strike="noStrike">
              <a:solidFill>
                <a:srgbClr val="cc0000"/>
              </a:solidFill>
              <a:latin typeface="Arial"/>
            </a:endParaRPr>
          </a:p>
        </p:txBody>
      </p:sp>
      <p:sp>
        <p:nvSpPr>
          <p:cNvPr id="404" name="object 3"/>
          <p:cNvSpPr/>
          <p:nvPr/>
        </p:nvSpPr>
        <p:spPr>
          <a:xfrm>
            <a:off x="152280" y="1055520"/>
            <a:ext cx="8595000" cy="4240800"/>
          </a:xfrm>
          <a:prstGeom prst="rect">
            <a:avLst/>
          </a:prstGeom>
          <a:noFill/>
          <a:ln w="0">
            <a:noFill/>
          </a:ln>
        </p:spPr>
        <p:style>
          <a:lnRef idx="0"/>
          <a:fillRef idx="0"/>
          <a:effectRef idx="0"/>
          <a:fontRef idx="minor"/>
        </p:style>
        <p:txBody>
          <a:bodyPr lIns="0" rIns="0" tIns="12600" bIns="0" anchor="t">
            <a:spAutoFit/>
          </a:bodyPr>
          <a:p>
            <a:pPr marL="355680" indent="-343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Immediately after first reform, some countries saw a concentration  of investments in opex-intensive thermal technologies:</a:t>
            </a:r>
            <a:endParaRPr b="0" lang="en-US" sz="2200" spc="-1" strike="noStrike">
              <a:solidFill>
                <a:srgbClr val="003366"/>
              </a:solidFill>
              <a:latin typeface="Arial"/>
            </a:endParaRPr>
          </a:p>
          <a:p>
            <a:pPr marL="355680" indent="-34308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Hesitance to commit to capital-intensive technologies with large payback  times is an expected response from investors to an incipient market.</a:t>
            </a:r>
            <a:endParaRPr b="0" lang="en-US" sz="1900" spc="-1" strike="noStrike">
              <a:solidFill>
                <a:srgbClr val="003366"/>
              </a:solidFill>
              <a:latin typeface="Arial"/>
            </a:endParaRPr>
          </a:p>
          <a:p>
            <a:pPr marL="355680" indent="-343080">
              <a:lnSpc>
                <a:spcPct val="150000"/>
              </a:lnSpc>
              <a:spcBef>
                <a:spcPts val="462"/>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These capacity additions played an important role in these countries, and  some facilities were later subject to conversions to more efficient fuels  (natural gas) and configurations (closed-cycle gas turbines) when the  conditions regarding fuel availability and investment context evolved.</a:t>
            </a:r>
            <a:endParaRPr b="0" lang="en-US" sz="1900" spc="-1" strike="noStrike">
              <a:solidFill>
                <a:srgbClr val="003366"/>
              </a:solidFill>
              <a:latin typeface="Arial"/>
            </a:endParaRPr>
          </a:p>
          <a:p>
            <a:pPr marL="355680" indent="-343080">
              <a:spcBef>
                <a:spcPts val="1599"/>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xamples:</a:t>
            </a:r>
            <a:endParaRPr b="0" lang="en-US" sz="1900" spc="-1" strike="noStrike">
              <a:solidFill>
                <a:srgbClr val="003366"/>
              </a:solidFill>
              <a:latin typeface="Arial"/>
            </a:endParaRPr>
          </a:p>
        </p:txBody>
      </p:sp>
      <p:sp>
        <p:nvSpPr>
          <p:cNvPr id="405" name="object 4"/>
          <p:cNvSpPr/>
          <p:nvPr/>
        </p:nvSpPr>
        <p:spPr>
          <a:xfrm>
            <a:off x="1066680" y="5487840"/>
            <a:ext cx="2440080" cy="1084320"/>
          </a:xfrm>
          <a:prstGeom prst="rect">
            <a:avLst/>
          </a:prstGeom>
          <a:noFill/>
          <a:ln w="0">
            <a:noFill/>
          </a:ln>
        </p:spPr>
        <p:style>
          <a:lnRef idx="0"/>
          <a:fillRef idx="0"/>
          <a:effectRef idx="0"/>
          <a:fontRef idx="minor"/>
        </p:style>
        <p:txBody>
          <a:bodyPr lIns="0" rIns="0" tIns="12600" bIns="0" anchor="t">
            <a:spAutoFit/>
          </a:bodyPr>
          <a:p>
            <a:pPr marL="241200" indent="-228600">
              <a:spcBef>
                <a:spcPts val="99"/>
              </a:spcBef>
              <a:buClr>
                <a:srgbClr val="a39274"/>
              </a:buClr>
              <a:buFont typeface="Arial"/>
              <a:buChar char="•"/>
              <a:tabLst>
                <a:tab algn="l" pos="239760"/>
                <a:tab algn="l" pos="241200"/>
                <a:tab algn="l" pos="17431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rgentina</a:t>
            </a:r>
            <a:r>
              <a:rPr b="0" lang="en-US" sz="1900" spc="-1" strike="noStrike">
                <a:solidFill>
                  <a:srgbClr val="042745"/>
                </a:solidFill>
                <a:latin typeface="Arial"/>
                <a:ea typeface="Arial"/>
              </a:rPr>
              <a:t>	</a:t>
            </a:r>
            <a:r>
              <a:rPr b="0" lang="en-US" sz="1900" spc="-1" strike="noStrike">
                <a:solidFill>
                  <a:srgbClr val="042745"/>
                </a:solidFill>
                <a:latin typeface="Arial"/>
                <a:ea typeface="Arial"/>
              </a:rPr>
              <a:t>, Chile</a:t>
            </a:r>
            <a:endParaRPr b="0" lang="en-US" sz="1900" spc="-1" strike="noStrike">
              <a:solidFill>
                <a:srgbClr val="003366"/>
              </a:solidFill>
              <a:latin typeface="Arial"/>
            </a:endParaRPr>
          </a:p>
          <a:p>
            <a:pPr marL="241200" indent="-228600">
              <a:spcBef>
                <a:spcPts val="1599"/>
              </a:spcBef>
              <a:buClr>
                <a:srgbClr val="a39274"/>
              </a:buClr>
              <a:buFont typeface="Arial"/>
              <a:buChar char="•"/>
              <a:tabLst>
                <a:tab algn="l" pos="239760"/>
                <a:tab algn="l" pos="241200"/>
                <a:tab algn="l" pos="17431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lso, Colombia</a:t>
            </a:r>
            <a:endParaRPr b="0" lang="en-US" sz="1900" spc="-1" strike="noStrike">
              <a:solidFill>
                <a:srgbClr val="003366"/>
              </a:solidFill>
              <a:latin typeface="Arial"/>
            </a:endParaRPr>
          </a:p>
        </p:txBody>
      </p:sp>
      <p:sp>
        <p:nvSpPr>
          <p:cNvPr id="406" name="object 5"/>
          <p:cNvSpPr/>
          <p:nvPr/>
        </p:nvSpPr>
        <p:spPr>
          <a:xfrm>
            <a:off x="3535200" y="5487840"/>
            <a:ext cx="2090880" cy="1663200"/>
          </a:xfrm>
          <a:prstGeom prst="rect">
            <a:avLst/>
          </a:prstGeom>
          <a:noFill/>
          <a:ln w="0">
            <a:noFill/>
          </a:ln>
        </p:spPr>
        <p:style>
          <a:lnRef idx="0"/>
          <a:fillRef idx="0"/>
          <a:effectRef idx="0"/>
          <a:fontRef idx="minor"/>
        </p:style>
        <p:txBody>
          <a:bodyPr lIns="0" rIns="0" tIns="12600" bIns="0" anchor="t">
            <a:spAutoFit/>
          </a:bodyPr>
          <a:p>
            <a:pPr marL="492120">
              <a:spcBef>
                <a:spcPts val="99"/>
              </a:spcBef>
              <a:tabLst>
                <a:tab algn="l" pos="0"/>
                <a:tab algn="l" pos="200808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and Peru</a:t>
            </a:r>
            <a:r>
              <a:rPr b="0" lang="en-US" sz="1900" spc="-1" strike="noStrike">
                <a:solidFill>
                  <a:srgbClr val="042745"/>
                </a:solidFill>
                <a:latin typeface="Arial"/>
                <a:ea typeface="Arial"/>
              </a:rPr>
              <a:t>	</a:t>
            </a:r>
            <a:r>
              <a:rPr b="0" lang="en-US" sz="1900" spc="-1" strike="noStrike">
                <a:solidFill>
                  <a:srgbClr val="042745"/>
                </a:solidFill>
                <a:latin typeface="Arial"/>
                <a:ea typeface="Arial"/>
              </a:rPr>
              <a:t>.</a:t>
            </a:r>
            <a:endParaRPr b="0" lang="en-US" sz="1900" spc="-1" strike="noStrike">
              <a:solidFill>
                <a:srgbClr val="003366"/>
              </a:solidFill>
              <a:latin typeface="Arial"/>
            </a:endParaRPr>
          </a:p>
          <a:p>
            <a:pPr marL="492120">
              <a:spcBef>
                <a:spcPts val="1599"/>
              </a:spcBef>
              <a:tabLst>
                <a:tab algn="l" pos="0"/>
                <a:tab algn="l" pos="200808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to some extent).</a:t>
            </a:r>
            <a:endParaRPr b="0" lang="en-US" sz="1900" spc="-1" strike="noStrike">
              <a:solidFill>
                <a:srgbClr val="003366"/>
              </a:solidFill>
              <a:latin typeface="Arial"/>
            </a:endParaRPr>
          </a:p>
        </p:txBody>
      </p:sp>
      <p:sp>
        <p:nvSpPr>
          <p:cNvPr id="407" name="object 6"/>
          <p:cNvSpPr/>
          <p:nvPr/>
        </p:nvSpPr>
        <p:spPr>
          <a:xfrm>
            <a:off x="3098880" y="6027840"/>
            <a:ext cx="355680" cy="2300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8" name="object 7"/>
          <p:cNvSpPr/>
          <p:nvPr/>
        </p:nvSpPr>
        <p:spPr>
          <a:xfrm>
            <a:off x="5094360" y="5548320"/>
            <a:ext cx="368280" cy="2286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09" name="object 8"/>
          <p:cNvSpPr/>
          <p:nvPr/>
        </p:nvSpPr>
        <p:spPr>
          <a:xfrm>
            <a:off x="2425680" y="5553000"/>
            <a:ext cx="366840" cy="2304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10" name="object 9"/>
          <p:cNvSpPr/>
          <p:nvPr/>
        </p:nvSpPr>
        <p:spPr>
          <a:xfrm>
            <a:off x="3573360" y="5557680"/>
            <a:ext cx="376200" cy="2192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11" name="object 10"/>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C36E-2F0D-4B42-901E-8E5E6B82F5B2}"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84"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A9BC-549F-4135-96B6-46B5D4F6111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85" name="object 3"/>
          <p:cNvSpPr/>
          <p:nvPr/>
        </p:nvSpPr>
        <p:spPr>
          <a:xfrm>
            <a:off x="533520" y="1219320"/>
            <a:ext cx="883908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0"/>
            <a:ext cx="74678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planning</a:t>
            </a:r>
            <a:br>
              <a:rPr sz="2400"/>
            </a:br>
            <a:r>
              <a:rPr b="1" lang="en-US" sz="2400" spc="-1" strike="noStrike">
                <a:solidFill>
                  <a:srgbClr val="cc0000"/>
                </a:solidFill>
                <a:latin typeface="Arial"/>
              </a:rPr>
              <a:t>and guidance to market-based expansion</a:t>
            </a:r>
            <a:endParaRPr b="1" lang="en-US" sz="2400" spc="-1" strike="noStrike">
              <a:solidFill>
                <a:srgbClr val="cc0000"/>
              </a:solidFill>
              <a:latin typeface="Arial"/>
            </a:endParaRPr>
          </a:p>
        </p:txBody>
      </p:sp>
      <p:sp>
        <p:nvSpPr>
          <p:cNvPr id="413" name="object 3"/>
          <p:cNvSpPr/>
          <p:nvPr/>
        </p:nvSpPr>
        <p:spPr>
          <a:xfrm>
            <a:off x="8720280" y="6581880"/>
            <a:ext cx="27936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4</a:t>
            </a:r>
            <a:endParaRPr b="0" lang="en-US" sz="1200" spc="-1" strike="noStrike">
              <a:solidFill>
                <a:srgbClr val="003366"/>
              </a:solidFill>
              <a:latin typeface="Arial"/>
            </a:endParaRPr>
          </a:p>
        </p:txBody>
      </p:sp>
      <p:sp>
        <p:nvSpPr>
          <p:cNvPr id="414" name="object 4"/>
          <p:cNvSpPr/>
          <p:nvPr/>
        </p:nvSpPr>
        <p:spPr>
          <a:xfrm>
            <a:off x="152280" y="1023840"/>
            <a:ext cx="8310600" cy="1320120"/>
          </a:xfrm>
          <a:prstGeom prst="rect">
            <a:avLst/>
          </a:prstGeom>
          <a:noFill/>
          <a:ln w="0">
            <a:noFill/>
          </a:ln>
        </p:spPr>
        <p:style>
          <a:lnRef idx="0"/>
          <a:fillRef idx="0"/>
          <a:effectRef idx="0"/>
          <a:fontRef idx="minor"/>
        </p:style>
        <p:txBody>
          <a:bodyPr lIns="0" rIns="0" tIns="12600" bIns="0" anchor="t">
            <a:spAutoFit/>
          </a:bodyPr>
          <a:p>
            <a:pPr marL="355680" indent="-343080">
              <a:lnSpc>
                <a:spcPct val="125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A strengthening of the functions of planning and oversight of security of supply was  a common element in the second wave of reforms in Latin America:</a:t>
            </a:r>
            <a:endParaRPr b="0" lang="en-US" sz="1700" spc="-1" strike="noStrike">
              <a:solidFill>
                <a:srgbClr val="003366"/>
              </a:solidFill>
              <a:latin typeface="Arial"/>
            </a:endParaRPr>
          </a:p>
          <a:p>
            <a:pPr marL="355680" indent="-343080">
              <a:lnSpc>
                <a:spcPct val="125000"/>
              </a:lnSpc>
              <a:spcBef>
                <a:spcPts val="40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This included a clearer definition of institutional attributions, though not all  countries created a agency dedicated exclusively to planning.</a:t>
            </a:r>
            <a:endParaRPr b="0" lang="en-US" sz="1600" spc="-1" strike="noStrike">
              <a:solidFill>
                <a:srgbClr val="003366"/>
              </a:solidFill>
              <a:latin typeface="Arial"/>
            </a:endParaRPr>
          </a:p>
        </p:txBody>
      </p:sp>
      <p:sp>
        <p:nvSpPr>
          <p:cNvPr id="415" name="object 5"/>
          <p:cNvSpPr/>
          <p:nvPr/>
        </p:nvSpPr>
        <p:spPr>
          <a:xfrm>
            <a:off x="609480" y="3394080"/>
            <a:ext cx="8293320" cy="3238200"/>
          </a:xfrm>
          <a:prstGeom prst="rect">
            <a:avLst/>
          </a:prstGeom>
          <a:noFill/>
          <a:ln w="0">
            <a:noFill/>
          </a:ln>
        </p:spPr>
        <p:style>
          <a:lnRef idx="0"/>
          <a:fillRef idx="0"/>
          <a:effectRef idx="0"/>
          <a:fontRef idx="minor"/>
        </p:style>
        <p:txBody>
          <a:bodyPr lIns="0" rIns="0" tIns="122040" bIns="0" anchor="t">
            <a:spAutoFit/>
          </a:bodyPr>
          <a:p>
            <a:pPr marL="298440" indent="-285840">
              <a:spcBef>
                <a:spcPts val="964"/>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lanning offers guidance to market-based generation expansion, which can be done by:</a:t>
            </a:r>
            <a:endParaRPr b="0" lang="en-US" sz="1600" spc="-1" strike="noStrike">
              <a:solidFill>
                <a:srgbClr val="003366"/>
              </a:solidFill>
              <a:latin typeface="Arial"/>
            </a:endParaRPr>
          </a:p>
          <a:p>
            <a:pPr lvl="1" marL="698400" indent="-228600">
              <a:spcBef>
                <a:spcPts val="862"/>
              </a:spcBef>
              <a:buClr>
                <a:srgbClr val="a39274"/>
              </a:buClr>
              <a:buFont typeface="Arial"/>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iodic issuing of indicative plans to facilitate access to information and reduce</a:t>
            </a:r>
            <a:endParaRPr b="0" lang="en-US" sz="1600" spc="-1" strike="noStrike">
              <a:solidFill>
                <a:srgbClr val="003366"/>
              </a:solidFill>
              <a:latin typeface="Arial"/>
            </a:endParaRPr>
          </a:p>
          <a:p>
            <a:pPr marL="298440" indent="-285840">
              <a:spcBef>
                <a:spcPts val="476"/>
              </a:spcBef>
              <a:tabLst>
                <a:tab algn="l" pos="0"/>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information asymmetries (e.g., Brazil and Colombia).</a:t>
            </a:r>
            <a:endParaRPr b="0" lang="en-US" sz="1600" spc="-1" strike="noStrike">
              <a:solidFill>
                <a:srgbClr val="003366"/>
              </a:solidFill>
              <a:latin typeface="Arial"/>
            </a:endParaRPr>
          </a:p>
          <a:p>
            <a:pPr lvl="1" marL="698400" indent="-228600">
              <a:lnSpc>
                <a:spcPct val="125000"/>
              </a:lnSpc>
              <a:spcBef>
                <a:spcPts val="388"/>
              </a:spcBef>
              <a:buClr>
                <a:srgbClr val="a39274"/>
              </a:buClr>
              <a:buFont typeface="Arial"/>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Generating relevant information for the application of </a:t>
            </a:r>
            <a:r>
              <a:rPr b="0" i="1" lang="en-US" sz="1600" spc="-1" strike="noStrike">
                <a:solidFill>
                  <a:srgbClr val="042745"/>
                </a:solidFill>
                <a:latin typeface="Arial"/>
                <a:ea typeface="Arial"/>
              </a:rPr>
              <a:t>backstop </a:t>
            </a:r>
            <a:r>
              <a:rPr b="0" lang="en-US" sz="1600" spc="-1" strike="noStrike">
                <a:solidFill>
                  <a:srgbClr val="042745"/>
                </a:solidFill>
                <a:latin typeface="Arial"/>
                <a:ea typeface="Arial"/>
              </a:rPr>
              <a:t>mechanisms to  ensure security of supply (e.g., Brazil, Peru, Colombia).</a:t>
            </a:r>
            <a:endParaRPr b="0" lang="en-US" sz="1600" spc="-1" strike="noStrike">
              <a:solidFill>
                <a:srgbClr val="003366"/>
              </a:solidFill>
              <a:latin typeface="Arial"/>
            </a:endParaRPr>
          </a:p>
          <a:p>
            <a:pPr lvl="1" marL="698400" indent="-228600" algn="just">
              <a:lnSpc>
                <a:spcPct val="125000"/>
              </a:lnSpc>
              <a:spcBef>
                <a:spcPts val="388"/>
              </a:spcBef>
              <a:buClr>
                <a:srgbClr val="a39274"/>
              </a:buClr>
              <a:buFont typeface="Arial"/>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Aiding policymakers in their role of defining rules and attributes of auctions that relate to guidance to market-based expansion (e.g., Brazil, Peru, Colombia and, more recently, Chile).</a:t>
            </a:r>
            <a:endParaRPr b="0" lang="en-US" sz="1600" spc="-1" strike="noStrike">
              <a:solidFill>
                <a:srgbClr val="003366"/>
              </a:solidFill>
              <a:latin typeface="Arial"/>
            </a:endParaRPr>
          </a:p>
          <a:p>
            <a:pPr marL="298440" indent="-285840">
              <a:spcBef>
                <a:spcPts val="862"/>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Decentralized declaration of demand by distribution companies in auctions is also part of planning process.</a:t>
            </a:r>
            <a:endParaRPr b="0" lang="en-US" sz="1600" spc="-1" strike="noStrike">
              <a:solidFill>
                <a:srgbClr val="003366"/>
              </a:solidFill>
              <a:latin typeface="Arial"/>
            </a:endParaRPr>
          </a:p>
        </p:txBody>
      </p:sp>
      <p:sp>
        <p:nvSpPr>
          <p:cNvPr id="416" name="object 6"/>
          <p:cNvSpPr/>
          <p:nvPr/>
        </p:nvSpPr>
        <p:spPr>
          <a:xfrm>
            <a:off x="1130400" y="6550200"/>
            <a:ext cx="197460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Including CNE and MoE.</a:t>
            </a:r>
            <a:endParaRPr b="0" lang="en-US" sz="9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Including MINEM and Osinergmin.</a:t>
            </a:r>
            <a:endParaRPr b="0" lang="en-US" sz="900" spc="-1" strike="noStrike">
              <a:solidFill>
                <a:srgbClr val="003366"/>
              </a:solidFill>
              <a:latin typeface="Arial"/>
            </a:endParaRPr>
          </a:p>
        </p:txBody>
      </p:sp>
      <p:graphicFrame>
        <p:nvGraphicFramePr>
          <p:cNvPr id="417" name=""/>
          <p:cNvGraphicFramePr/>
          <p:nvPr/>
        </p:nvGraphicFramePr>
        <p:xfrm>
          <a:off x="298440" y="2482920"/>
          <a:ext cx="8540640" cy="834840"/>
        </p:xfrm>
        <a:graphic>
          <a:graphicData uri="http://schemas.openxmlformats.org/drawingml/2006/table">
            <a:tbl>
              <a:tblPr/>
              <a:tblGrid>
                <a:gridCol w="1160640"/>
                <a:gridCol w="1844640"/>
                <a:gridCol w="1844640"/>
                <a:gridCol w="1846080"/>
                <a:gridCol w="1844640"/>
              </a:tblGrid>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ountry</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egulation</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marL="22392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lanning attribution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System operator</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c>
                  <a:txBody>
                    <a:bodyPr lIns="0" rIns="0" tIns="0" bIns="0" anchor="t">
                      <a:noAutofit/>
                    </a:bodyPr>
                    <a:p>
                      <a:pPr marL="144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Market operator</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42745"/>
                    </a:solidFill>
                  </a:tcPr>
                </a:tc>
              </a:tr>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razil</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EEL</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P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44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N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44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CE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6812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hil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N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983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tributed attributions</a:t>
                      </a:r>
                      <a:r>
                        <a:rPr b="0" lang="en-US" sz="1100" spc="-1" strike="noStrike">
                          <a:solidFill>
                            <a:srgbClr val="000000"/>
                          </a:solidFill>
                          <a:latin typeface="Calibri"/>
                          <a:ea typeface="Calibri"/>
                        </a:rPr>
                        <a:t>†</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DEC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olombia</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REG</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ME</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XM (CND)</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t">
                      <a:noAutofit/>
                    </a:bodyPr>
                    <a:p>
                      <a:pPr marL="144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XM (ASIC)</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66680">
                <a:tc>
                  <a:txBody>
                    <a:bodyPr lIns="0" rIns="0" tIns="0" bIns="0" anchor="t">
                      <a:noAutofit/>
                    </a:bodyPr>
                    <a:p>
                      <a:pPr marL="7308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eru</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abd2ff"/>
                    </a:solidFill>
                  </a:tcPr>
                </a:tc>
                <a:tc>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SINERGMIN</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983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tributed attributions</a:t>
                      </a:r>
                      <a:r>
                        <a:rPr b="0" lang="en-US" sz="1100" spc="-1" strike="noStrike">
                          <a:solidFill>
                            <a:srgbClr val="000000"/>
                          </a:solidFill>
                          <a:latin typeface="Calibri"/>
                          <a:ea typeface="Calibri"/>
                        </a:rPr>
                        <a:t>‡</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marL="12600" algn="ct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ES</a:t>
                      </a:r>
                      <a:endParaRPr b="0" lang="en-US" sz="1100" spc="-1" strike="noStrike">
                        <a:solidFill>
                          <a:srgbClr val="003366"/>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object 8"/>
          <p:cNvSpPr/>
          <p:nvPr/>
        </p:nvSpPr>
        <p:spPr>
          <a:xfrm>
            <a:off x="7783560" y="546876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19" name="object 9"/>
          <p:cNvSpPr/>
          <p:nvPr/>
        </p:nvSpPr>
        <p:spPr>
          <a:xfrm>
            <a:off x="8190000" y="5468760"/>
            <a:ext cx="366480" cy="2286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0" name="object 10"/>
          <p:cNvSpPr/>
          <p:nvPr/>
        </p:nvSpPr>
        <p:spPr>
          <a:xfrm>
            <a:off x="7780320" y="5776920"/>
            <a:ext cx="355680" cy="2318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1" name="object 11"/>
          <p:cNvSpPr/>
          <p:nvPr/>
        </p:nvSpPr>
        <p:spPr>
          <a:xfrm>
            <a:off x="8190000" y="5789520"/>
            <a:ext cx="376200" cy="2192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2" name="object 12"/>
          <p:cNvSpPr/>
          <p:nvPr/>
        </p:nvSpPr>
        <p:spPr>
          <a:xfrm>
            <a:off x="7824960" y="4272120"/>
            <a:ext cx="366480" cy="22860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3" name="object 13"/>
          <p:cNvSpPr/>
          <p:nvPr/>
        </p:nvSpPr>
        <p:spPr>
          <a:xfrm>
            <a:off x="8211960" y="4268880"/>
            <a:ext cx="357480" cy="23184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4" name="object 14"/>
          <p:cNvSpPr/>
          <p:nvPr/>
        </p:nvSpPr>
        <p:spPr>
          <a:xfrm>
            <a:off x="7596360" y="4923000"/>
            <a:ext cx="366480" cy="22860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5" name="object 15"/>
          <p:cNvSpPr/>
          <p:nvPr/>
        </p:nvSpPr>
        <p:spPr>
          <a:xfrm>
            <a:off x="8002440" y="4923000"/>
            <a:ext cx="368280" cy="2286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26" name="object 16"/>
          <p:cNvSpPr/>
          <p:nvPr/>
        </p:nvSpPr>
        <p:spPr>
          <a:xfrm>
            <a:off x="8408880" y="4919760"/>
            <a:ext cx="355680" cy="23184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1920" y="0"/>
            <a:ext cx="5661000" cy="95256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reating  demand for long-term contracts</a:t>
            </a:r>
            <a:endParaRPr b="1" lang="en-US" sz="2400" spc="-1" strike="noStrike">
              <a:solidFill>
                <a:srgbClr val="cc0000"/>
              </a:solidFill>
              <a:latin typeface="Arial"/>
            </a:endParaRPr>
          </a:p>
        </p:txBody>
      </p:sp>
      <p:sp>
        <p:nvSpPr>
          <p:cNvPr id="428" name="object 3"/>
          <p:cNvSpPr/>
          <p:nvPr/>
        </p:nvSpPr>
        <p:spPr>
          <a:xfrm>
            <a:off x="152280" y="909720"/>
            <a:ext cx="8271000" cy="5314680"/>
          </a:xfrm>
          <a:prstGeom prst="rect">
            <a:avLst/>
          </a:prstGeom>
          <a:noFill/>
          <a:ln w="0">
            <a:noFill/>
          </a:ln>
        </p:spPr>
        <p:style>
          <a:lnRef idx="0"/>
          <a:fillRef idx="0"/>
          <a:effectRef idx="0"/>
          <a:fontRef idx="minor"/>
        </p:style>
        <p:txBody>
          <a:bodyPr lIns="0" rIns="0" tIns="78120" bIns="0" anchor="t">
            <a:spAutoFit/>
          </a:bodyPr>
          <a:p>
            <a:pPr marL="12600">
              <a:spcBef>
                <a:spcPts val="612"/>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The creation of mechanisms to ensure the demand for long-term contracts with</a:t>
            </a:r>
            <a:endParaRPr b="0" lang="en-US" sz="1700" spc="-1" strike="noStrike">
              <a:solidFill>
                <a:srgbClr val="003366"/>
              </a:solidFill>
              <a:latin typeface="Arial"/>
            </a:endParaRPr>
          </a:p>
          <a:p>
            <a:pPr marL="12600">
              <a:spcBef>
                <a:spcPts val="513"/>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onditions adapted to needs of new projects was a common element of reforms:</a:t>
            </a:r>
            <a:endParaRPr b="0" lang="en-US" sz="1700" spc="-1" strike="noStrike">
              <a:solidFill>
                <a:srgbClr val="003366"/>
              </a:solidFill>
              <a:latin typeface="Arial"/>
            </a:endParaRPr>
          </a:p>
          <a:p>
            <a:pPr marL="12600">
              <a:lnSpc>
                <a:spcPct val="125000"/>
              </a:lnSpc>
              <a:spcBef>
                <a:spcPts val="40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ontracts adapted to needs of new projects not only due to duration (long durations  easing financing), but also lead times (to allow implementation).</a:t>
            </a:r>
            <a:endParaRPr b="0" lang="en-US" sz="1600" spc="-1" strike="noStrike">
              <a:solidFill>
                <a:srgbClr val="003366"/>
              </a:solidFill>
              <a:latin typeface="Arial"/>
            </a:endParaRPr>
          </a:p>
          <a:p>
            <a:pPr marL="12600">
              <a:lnSpc>
                <a:spcPct val="125000"/>
              </a:lnSpc>
              <a:spcBef>
                <a:spcPts val="388"/>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This was invariably associated to the use of auctions as means of contracting  capacity/energy (or reliability options, in the case of Colombia), mainly for distcos.</a:t>
            </a:r>
            <a:endParaRPr b="0" lang="en-US" sz="1600" spc="-1" strike="noStrike">
              <a:solidFill>
                <a:srgbClr val="003366"/>
              </a:solidFill>
              <a:latin typeface="Arial"/>
            </a:endParaRPr>
          </a:p>
          <a:p>
            <a:pPr marL="12600">
              <a:spcBef>
                <a:spcPts val="8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Generators must back up their commitments in auctions with firm energy/capacity.</a:t>
            </a:r>
            <a:endParaRPr b="0" lang="en-US" sz="1600" spc="-1" strike="noStrike">
              <a:solidFill>
                <a:srgbClr val="003366"/>
              </a:solidFill>
              <a:latin typeface="Arial"/>
            </a:endParaRPr>
          </a:p>
          <a:p>
            <a:pPr lvl="1" marL="1155600" indent="-228600">
              <a:spcBef>
                <a:spcPts val="862"/>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In Chile, only identification of underlying physical facilities since 2013.</a:t>
            </a:r>
            <a:endParaRPr b="0" lang="en-US" sz="1600" spc="-1" strike="noStrike">
              <a:solidFill>
                <a:srgbClr val="003366"/>
              </a:solidFill>
              <a:latin typeface="Arial"/>
            </a:endParaRPr>
          </a:p>
          <a:p>
            <a:pPr marL="12600">
              <a:spcBef>
                <a:spcPts val="8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xamples:</a:t>
            </a:r>
            <a:endParaRPr b="0" lang="en-US" sz="1600" spc="-1" strike="noStrike">
              <a:solidFill>
                <a:srgbClr val="003366"/>
              </a:solidFill>
              <a:latin typeface="Arial"/>
            </a:endParaRPr>
          </a:p>
          <a:p>
            <a:pPr lvl="1" marL="1155600" indent="-228600">
              <a:lnSpc>
                <a:spcPct val="125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Brazil: centralized auctions to contract </a:t>
            </a:r>
            <a:r>
              <a:rPr b="0" i="1" lang="en-US" sz="1600" spc="-1" strike="noStrike">
                <a:solidFill>
                  <a:srgbClr val="042745"/>
                </a:solidFill>
                <a:latin typeface="Arial"/>
                <a:ea typeface="Arial"/>
              </a:rPr>
              <a:t>new energy </a:t>
            </a:r>
            <a:r>
              <a:rPr b="0" lang="en-US" sz="1600" spc="-1" strike="noStrike">
                <a:solidFill>
                  <a:srgbClr val="042745"/>
                </a:solidFill>
                <a:latin typeface="Arial"/>
                <a:ea typeface="Arial"/>
              </a:rPr>
              <a:t>by distcos, with  contract duration and lead times defined by government.</a:t>
            </a:r>
            <a:endParaRPr b="0" lang="en-US" sz="1600" spc="-1" strike="noStrike">
              <a:solidFill>
                <a:srgbClr val="003366"/>
              </a:solidFill>
              <a:latin typeface="Arial"/>
            </a:endParaRPr>
          </a:p>
          <a:p>
            <a:pPr lvl="1" marL="1155600" indent="-228600" algn="just">
              <a:lnSpc>
                <a:spcPct val="125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u and Chile: decentralized auctions to contract firm capacity and  associated energy by distcos, auction design by distcos but rules on  lead times (and contract duration for Peru)</a:t>
            </a:r>
            <a:endParaRPr b="0" lang="en-US" sz="1600" spc="-1" strike="noStrike">
              <a:solidFill>
                <a:srgbClr val="003366"/>
              </a:solidFill>
              <a:latin typeface="Arial"/>
            </a:endParaRPr>
          </a:p>
          <a:p>
            <a:pPr lvl="1" marL="1155600" indent="-228600">
              <a:lnSpc>
                <a:spcPct val="125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olombia: centralized auctions to contract reliability options, specific  rules on contract duration and lead times fit to new projects.</a:t>
            </a:r>
            <a:endParaRPr b="0" lang="en-US" sz="1600" spc="-1" strike="noStrike">
              <a:solidFill>
                <a:srgbClr val="003366"/>
              </a:solidFill>
              <a:latin typeface="Arial"/>
            </a:endParaRPr>
          </a:p>
        </p:txBody>
      </p:sp>
      <p:sp>
        <p:nvSpPr>
          <p:cNvPr id="429" name="object 4"/>
          <p:cNvSpPr/>
          <p:nvPr/>
        </p:nvSpPr>
        <p:spPr>
          <a:xfrm>
            <a:off x="8288280" y="427500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0" name="object 5"/>
          <p:cNvSpPr/>
          <p:nvPr/>
        </p:nvSpPr>
        <p:spPr>
          <a:xfrm>
            <a:off x="8288280" y="4791240"/>
            <a:ext cx="368280" cy="2300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1" name="object 6"/>
          <p:cNvSpPr/>
          <p:nvPr/>
        </p:nvSpPr>
        <p:spPr>
          <a:xfrm>
            <a:off x="8294760" y="5873760"/>
            <a:ext cx="355680" cy="2318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2" name="object 7"/>
          <p:cNvSpPr/>
          <p:nvPr/>
        </p:nvSpPr>
        <p:spPr>
          <a:xfrm>
            <a:off x="8273880" y="5199120"/>
            <a:ext cx="376560" cy="21888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3" name="object 8"/>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9AE6-5E73-4F3D-80DC-10F1E8E2D276}"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0"/>
            <a:ext cx="66326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ompetitive</a:t>
            </a:r>
            <a:br>
              <a:rPr sz="2400"/>
            </a:br>
            <a:r>
              <a:rPr b="1" lang="en-US" sz="2400" spc="-1" strike="noStrike">
                <a:solidFill>
                  <a:srgbClr val="cc0000"/>
                </a:solidFill>
                <a:latin typeface="Arial"/>
              </a:rPr>
              <a:t>tenders to award long-term contracts</a:t>
            </a:r>
            <a:endParaRPr b="1" lang="en-US" sz="2400" spc="-1" strike="noStrike">
              <a:solidFill>
                <a:srgbClr val="cc0000"/>
              </a:solidFill>
              <a:latin typeface="Arial"/>
            </a:endParaRPr>
          </a:p>
        </p:txBody>
      </p:sp>
      <p:sp>
        <p:nvSpPr>
          <p:cNvPr id="435" name="object 5"/>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5C33-8365-4005-B2CD-BD3150AD478B}"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
        <p:nvSpPr>
          <p:cNvPr id="436" name="object 3"/>
          <p:cNvSpPr/>
          <p:nvPr/>
        </p:nvSpPr>
        <p:spPr>
          <a:xfrm>
            <a:off x="152280" y="1019160"/>
            <a:ext cx="8379000" cy="5367960"/>
          </a:xfrm>
          <a:prstGeom prst="rect">
            <a:avLst/>
          </a:prstGeom>
          <a:noFill/>
          <a:ln w="0">
            <a:noFill/>
          </a:ln>
        </p:spPr>
        <p:style>
          <a:lnRef idx="0"/>
          <a:fillRef idx="0"/>
          <a:effectRef idx="0"/>
          <a:fontRef idx="minor"/>
        </p:style>
        <p:txBody>
          <a:bodyPr lIns="0" rIns="0" tIns="12600" bIns="0" anchor="t">
            <a:spAutoFit/>
          </a:bodyPr>
          <a:p>
            <a:pPr marL="355680" indent="-343080">
              <a:lnSpc>
                <a:spcPct val="125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Auctions used in Latin American countries as means of selecting agents  to which long-term contracts are awarded:</a:t>
            </a:r>
            <a:endParaRPr b="0" lang="en-US" sz="1900" spc="-1" strike="noStrike">
              <a:solidFill>
                <a:srgbClr val="003366"/>
              </a:solidFill>
              <a:latin typeface="Arial"/>
            </a:endParaRPr>
          </a:p>
          <a:p>
            <a:pPr marL="355680" indent="-343080">
              <a:spcBef>
                <a:spcPts val="950"/>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Auctions represent efficient &amp; transparent means of awarding contracts:</a:t>
            </a:r>
            <a:endParaRPr b="0" lang="en-US" sz="1700" spc="-1" strike="noStrike">
              <a:solidFill>
                <a:srgbClr val="003366"/>
              </a:solidFill>
              <a:latin typeface="Arial"/>
            </a:endParaRPr>
          </a:p>
          <a:p>
            <a:pPr lvl="1" marL="1155600" indent="-228600">
              <a:spcBef>
                <a:spcPts val="913"/>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Efficiency </a:t>
            </a:r>
            <a:r>
              <a:rPr b="0" lang="en-US" sz="1700" spc="-1" strike="noStrike">
                <a:solidFill>
                  <a:srgbClr val="042745"/>
                </a:solidFill>
                <a:latin typeface="Wingdings"/>
                <a:ea typeface="Wingdings"/>
              </a:rPr>
              <a:t></a:t>
            </a:r>
            <a:r>
              <a:rPr b="0" lang="en-US" sz="1700" spc="-1" strike="noStrike">
                <a:solidFill>
                  <a:srgbClr val="042745"/>
                </a:solidFill>
                <a:latin typeface="Times New Roman"/>
                <a:ea typeface="Times New Roman"/>
              </a:rPr>
              <a:t> </a:t>
            </a:r>
            <a:r>
              <a:rPr b="0" lang="en-US" sz="1700" spc="-1" strike="noStrike">
                <a:solidFill>
                  <a:srgbClr val="042745"/>
                </a:solidFill>
                <a:latin typeface="Arial"/>
                <a:ea typeface="Arial"/>
              </a:rPr>
              <a:t>affordability ensured by competition.</a:t>
            </a:r>
            <a:endParaRPr b="0" lang="en-US" sz="1700" spc="-1" strike="noStrike">
              <a:solidFill>
                <a:srgbClr val="003366"/>
              </a:solidFill>
              <a:latin typeface="Arial"/>
            </a:endParaRPr>
          </a:p>
          <a:p>
            <a:pPr lvl="1" marL="1155600" indent="-228600">
              <a:spcBef>
                <a:spcPts val="92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Transparent mechanism of price discovery.</a:t>
            </a:r>
            <a:endParaRPr b="0" lang="en-US" sz="1700" spc="-1" strike="noStrike">
              <a:solidFill>
                <a:srgbClr val="003366"/>
              </a:solidFill>
              <a:latin typeface="Arial"/>
            </a:endParaRPr>
          </a:p>
          <a:p>
            <a:pPr lvl="1" marL="1155600" indent="-228600">
              <a:lnSpc>
                <a:spcPct val="125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These are attractive features to all countries – particularly these seeking  solutions to problems in determining administratively-set capacity prices  (in Colombia) and price caps for pass-through of energy contracting to  consumers (in Peru, Chile).</a:t>
            </a:r>
            <a:endParaRPr b="0" lang="en-US" sz="1700" spc="-1" strike="noStrike">
              <a:solidFill>
                <a:srgbClr val="003366"/>
              </a:solidFill>
              <a:latin typeface="Arial"/>
            </a:endParaRPr>
          </a:p>
          <a:p>
            <a:pPr marL="355680" indent="-343080">
              <a:spcBef>
                <a:spcPts val="91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Auctions make it easier to operationalize guidance to market-base expansion:</a:t>
            </a:r>
            <a:endParaRPr b="0" lang="en-US" sz="1700" spc="-1" strike="noStrike">
              <a:solidFill>
                <a:srgbClr val="003366"/>
              </a:solidFill>
              <a:latin typeface="Arial"/>
            </a:endParaRPr>
          </a:p>
          <a:p>
            <a:pPr lvl="1" marL="1155600" indent="-228600">
              <a:lnSpc>
                <a:spcPct val="125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olicymakers can determine parameters such as reservation prices, type of  auctioned contracts (tailored to certain technologies), eligible technologies.</a:t>
            </a:r>
            <a:endParaRPr b="0" lang="en-US" sz="1700" spc="-1" strike="noStrike">
              <a:solidFill>
                <a:srgbClr val="003366"/>
              </a:solidFill>
              <a:latin typeface="Arial"/>
            </a:endParaRPr>
          </a:p>
          <a:p>
            <a:pPr marL="355680" indent="-343080">
              <a:spcBef>
                <a:spcPts val="91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Still, the competition process allows the </a:t>
            </a:r>
            <a:r>
              <a:rPr b="0" i="1" lang="en-US" sz="1700" spc="-1" strike="noStrike">
                <a:solidFill>
                  <a:srgbClr val="042745"/>
                </a:solidFill>
                <a:latin typeface="Arial"/>
                <a:ea typeface="Arial"/>
              </a:rPr>
              <a:t>contestability </a:t>
            </a:r>
            <a:r>
              <a:rPr b="0" lang="en-US" sz="1700" spc="-1" strike="noStrike">
                <a:solidFill>
                  <a:srgbClr val="042745"/>
                </a:solidFill>
                <a:latin typeface="Arial"/>
                <a:ea typeface="Arial"/>
              </a:rPr>
              <a:t>of central plans:</a:t>
            </a:r>
            <a:endParaRPr b="0" lang="en-US" sz="1700" spc="-1" strike="noStrike">
              <a:solidFill>
                <a:srgbClr val="003366"/>
              </a:solidFill>
              <a:latin typeface="Arial"/>
            </a:endParaRPr>
          </a:p>
          <a:p>
            <a:pPr lvl="1" marL="1155600" indent="-228600">
              <a:lnSpc>
                <a:spcPct val="125000"/>
              </a:lnSpc>
              <a:spcBef>
                <a:spcPts val="41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Policymakers can interpret signals sent by the market, such as closing  prices, </a:t>
            </a:r>
            <a:r>
              <a:rPr b="0" i="1" lang="en-US" sz="1700" spc="-1" strike="noStrike">
                <a:solidFill>
                  <a:srgbClr val="042745"/>
                </a:solidFill>
                <a:latin typeface="Arial"/>
                <a:ea typeface="Arial"/>
              </a:rPr>
              <a:t>void </a:t>
            </a:r>
            <a:r>
              <a:rPr b="0" lang="en-US" sz="1700" spc="-1" strike="noStrike">
                <a:solidFill>
                  <a:srgbClr val="042745"/>
                </a:solidFill>
                <a:latin typeface="Arial"/>
                <a:ea typeface="Arial"/>
              </a:rPr>
              <a:t>auctions, etc.</a:t>
            </a:r>
            <a:endParaRPr b="0" lang="en-US" sz="1700" spc="-1" strike="noStrike">
              <a:solidFill>
                <a:srgbClr val="003366"/>
              </a:solidFill>
              <a:latin typeface="Arial"/>
            </a:endParaRPr>
          </a:p>
        </p:txBody>
      </p:sp>
      <p:sp>
        <p:nvSpPr>
          <p:cNvPr id="437"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80" y="0"/>
            <a:ext cx="663264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ompetitive</a:t>
            </a:r>
            <a:br>
              <a:rPr sz="2400"/>
            </a:br>
            <a:r>
              <a:rPr b="1" lang="en-US" sz="2400" spc="-1" strike="noStrike">
                <a:solidFill>
                  <a:srgbClr val="cc0000"/>
                </a:solidFill>
                <a:latin typeface="Arial"/>
              </a:rPr>
              <a:t>tenders to award long-term contracts</a:t>
            </a:r>
            <a:endParaRPr b="1" lang="en-US" sz="2400" spc="-1" strike="noStrike">
              <a:solidFill>
                <a:srgbClr val="cc0000"/>
              </a:solidFill>
              <a:latin typeface="Arial"/>
            </a:endParaRPr>
          </a:p>
        </p:txBody>
      </p:sp>
      <p:sp>
        <p:nvSpPr>
          <p:cNvPr id="439" name="object 3"/>
          <p:cNvSpPr/>
          <p:nvPr/>
        </p:nvSpPr>
        <p:spPr>
          <a:xfrm>
            <a:off x="871560" y="1332000"/>
            <a:ext cx="7819920" cy="471096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Examples:</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Brazil: centralized auctions held by EPE, various guidance  mechanisms used.</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Peru: auctions held by Discos under oversight of regulator, or by central government via Proinversión, guidance used.</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hile: auctions held by Discos under oversight of regulator,  guidance has been gaining a more important role (for instance,  contracts tailored to renewable energy generators).</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lombia: centralized auctions, little guidance embedded  in auction design.</a:t>
            </a:r>
            <a:endParaRPr b="0" lang="en-US" sz="2000" spc="-1" strike="noStrike">
              <a:solidFill>
                <a:srgbClr val="003366"/>
              </a:solidFill>
              <a:latin typeface="Arial"/>
            </a:endParaRPr>
          </a:p>
        </p:txBody>
      </p:sp>
      <p:sp>
        <p:nvSpPr>
          <p:cNvPr id="440"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2)</a:t>
            </a:r>
            <a:endParaRPr b="0" lang="en-US" sz="1200" spc="-1" strike="noStrike">
              <a:solidFill>
                <a:srgbClr val="003366"/>
              </a:solidFill>
              <a:latin typeface="Arial"/>
            </a:endParaRPr>
          </a:p>
        </p:txBody>
      </p:sp>
      <p:sp>
        <p:nvSpPr>
          <p:cNvPr id="441" name="object 5"/>
          <p:cNvSpPr/>
          <p:nvPr/>
        </p:nvSpPr>
        <p:spPr>
          <a:xfrm>
            <a:off x="8445600" y="1828800"/>
            <a:ext cx="368280" cy="228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2" name="object 6"/>
          <p:cNvSpPr/>
          <p:nvPr/>
        </p:nvSpPr>
        <p:spPr>
          <a:xfrm>
            <a:off x="8445600" y="2747880"/>
            <a:ext cx="368280" cy="2286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3" name="object 7"/>
          <p:cNvSpPr/>
          <p:nvPr/>
        </p:nvSpPr>
        <p:spPr>
          <a:xfrm>
            <a:off x="8445600" y="5084640"/>
            <a:ext cx="355680" cy="2304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4" name="object 8"/>
          <p:cNvSpPr/>
          <p:nvPr/>
        </p:nvSpPr>
        <p:spPr>
          <a:xfrm>
            <a:off x="8447040" y="4248000"/>
            <a:ext cx="376200" cy="2192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5" name="object 9"/>
          <p:cNvSpPr/>
          <p:nvPr/>
        </p:nvSpPr>
        <p:spPr>
          <a:xfrm>
            <a:off x="8707320" y="6595920"/>
            <a:ext cx="30492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8AC2-C6A0-4590-A15D-04B234A9D3BE}" type="slidenum">
              <a:rPr b="1" lang="en-US" sz="1200" spc="-1" strike="noStrike">
                <a:solidFill>
                  <a:srgbClr val="ffffff"/>
                </a:solidFill>
                <a:latin typeface="Arial"/>
                <a:ea typeface="Arial"/>
              </a:rPr>
              <a:t>&lt;number&gt;</a:t>
            </a:fld>
            <a:endParaRPr b="0" lang="en-US" sz="12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281160"/>
            <a:ext cx="7543800" cy="38088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untry case: Brazil</a:t>
            </a:r>
            <a:endParaRPr b="1" lang="en-US" sz="2400" spc="-1" strike="noStrike">
              <a:solidFill>
                <a:srgbClr val="cc0000"/>
              </a:solidFill>
              <a:latin typeface="Arial"/>
            </a:endParaRPr>
          </a:p>
        </p:txBody>
      </p:sp>
      <p:sp>
        <p:nvSpPr>
          <p:cNvPr id="447" name="object 3"/>
          <p:cNvSpPr/>
          <p:nvPr/>
        </p:nvSpPr>
        <p:spPr>
          <a:xfrm>
            <a:off x="152280" y="1198440"/>
            <a:ext cx="8048880" cy="287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endParaRPr b="0" lang="en-US" sz="1800" spc="-1" strike="noStrike">
              <a:solidFill>
                <a:srgbClr val="003366"/>
              </a:solidFill>
              <a:latin typeface="Arial"/>
            </a:endParaRPr>
          </a:p>
        </p:txBody>
      </p:sp>
      <p:sp>
        <p:nvSpPr>
          <p:cNvPr id="448"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49"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098D-50BB-47BA-A539-22D06F7632A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149400"/>
            <a:ext cx="74440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tivation &amp; period preceding first reform</a:t>
            </a:r>
            <a:endParaRPr b="1" lang="en-US" sz="2400" spc="-1" strike="noStrike">
              <a:solidFill>
                <a:srgbClr val="cc0000"/>
              </a:solidFill>
              <a:latin typeface="Arial"/>
            </a:endParaRPr>
          </a:p>
        </p:txBody>
      </p:sp>
      <p:sp>
        <p:nvSpPr>
          <p:cNvPr id="451" name="object 3"/>
          <p:cNvSpPr/>
          <p:nvPr/>
        </p:nvSpPr>
        <p:spPr>
          <a:xfrm>
            <a:off x="0" y="838080"/>
            <a:ext cx="2389320" cy="106704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52" name="object 4"/>
          <p:cNvSpPr/>
          <p:nvPr/>
        </p:nvSpPr>
        <p:spPr>
          <a:xfrm>
            <a:off x="63360" y="1168560"/>
            <a:ext cx="1968480" cy="2118240"/>
          </a:xfrm>
          <a:prstGeom prst="rect">
            <a:avLst/>
          </a:prstGeom>
          <a:noFill/>
          <a:ln w="0">
            <a:noFill/>
          </a:ln>
        </p:spPr>
        <p:style>
          <a:lnRef idx="0"/>
          <a:fillRef idx="0"/>
          <a:effectRef idx="0"/>
          <a:fontRef idx="minor"/>
        </p:style>
        <p:txBody>
          <a:bodyPr lIns="0" rIns="0" tIns="12600" bIns="0" anchor="t">
            <a:spAutoFit/>
          </a:bodyPr>
          <a:p>
            <a:pPr marL="669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30’s</a:t>
            </a:r>
            <a:endParaRPr b="0" lang="en-US" sz="2400" spc="-1" strike="noStrike">
              <a:solidFill>
                <a:srgbClr val="003366"/>
              </a:solidFill>
              <a:latin typeface="Arial"/>
            </a:endParaRPr>
          </a:p>
          <a:p>
            <a:pPr marL="669960">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Brazilian State  starts participating  in generation  segment.</a:t>
            </a:r>
            <a:endParaRPr b="0" lang="en-US" sz="1700" spc="-1" strike="noStrike">
              <a:solidFill>
                <a:srgbClr val="003366"/>
              </a:solidFill>
              <a:latin typeface="Arial"/>
            </a:endParaRPr>
          </a:p>
        </p:txBody>
      </p:sp>
      <p:sp>
        <p:nvSpPr>
          <p:cNvPr id="453" name="object 5"/>
          <p:cNvSpPr/>
          <p:nvPr/>
        </p:nvSpPr>
        <p:spPr>
          <a:xfrm>
            <a:off x="63360" y="3013200"/>
            <a:ext cx="2105280" cy="31230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1934: Water Code  and National  Council for Water  and Electricity  created.</a:t>
            </a:r>
            <a:endParaRPr b="0" lang="en-US" sz="17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Federal government  takes responsibility  for G+T. Distribution  activity slowly  incorporated by  State governments.</a:t>
            </a:r>
            <a:endParaRPr b="0" lang="en-US" sz="1700" spc="-1" strike="noStrike">
              <a:solidFill>
                <a:srgbClr val="003366"/>
              </a:solidFill>
              <a:latin typeface="Arial"/>
            </a:endParaRPr>
          </a:p>
        </p:txBody>
      </p:sp>
      <p:sp>
        <p:nvSpPr>
          <p:cNvPr id="454" name="object 6"/>
          <p:cNvSpPr/>
          <p:nvPr/>
        </p:nvSpPr>
        <p:spPr>
          <a:xfrm>
            <a:off x="2259000" y="841320"/>
            <a:ext cx="2389320" cy="106668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55" name="object 7"/>
          <p:cNvSpPr/>
          <p:nvPr/>
        </p:nvSpPr>
        <p:spPr>
          <a:xfrm>
            <a:off x="2378160" y="1171440"/>
            <a:ext cx="2044440" cy="3425040"/>
          </a:xfrm>
          <a:prstGeom prst="rect">
            <a:avLst/>
          </a:prstGeom>
          <a:noFill/>
          <a:ln w="0">
            <a:noFill/>
          </a:ln>
        </p:spPr>
        <p:style>
          <a:lnRef idx="0"/>
          <a:fillRef idx="0"/>
          <a:effectRef idx="0"/>
          <a:fontRef idx="minor"/>
        </p:style>
        <p:txBody>
          <a:bodyPr lIns="0" rIns="0" tIns="12600" bIns="0" anchor="t">
            <a:spAutoFit/>
          </a:bodyPr>
          <a:p>
            <a:pPr marL="615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60’s</a:t>
            </a:r>
            <a:endParaRPr b="0" lang="en-US" sz="2400" spc="-1" strike="noStrike">
              <a:solidFill>
                <a:srgbClr val="003366"/>
              </a:solidFill>
              <a:latin typeface="Arial"/>
            </a:endParaRPr>
          </a:p>
          <a:p>
            <a:pPr marL="615960">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1962: Eletrobras,  federal company,  vested with  responsibility of  promoting and  enabling G+T+D  expansion and ops.</a:t>
            </a:r>
            <a:endParaRPr b="0" lang="en-US" sz="1700" spc="-1" strike="noStrike">
              <a:solidFill>
                <a:srgbClr val="003366"/>
              </a:solidFill>
              <a:latin typeface="Arial"/>
            </a:endParaRPr>
          </a:p>
        </p:txBody>
      </p:sp>
      <p:sp>
        <p:nvSpPr>
          <p:cNvPr id="456" name="object 8"/>
          <p:cNvSpPr/>
          <p:nvPr/>
        </p:nvSpPr>
        <p:spPr>
          <a:xfrm>
            <a:off x="2378160" y="3807000"/>
            <a:ext cx="1995480" cy="15678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Centralization of  financial resources  and decision  processes in  Eletrobras seen as  positive.</a:t>
            </a:r>
            <a:endParaRPr b="0" lang="en-US" sz="1700" spc="-1" strike="noStrike">
              <a:solidFill>
                <a:srgbClr val="003366"/>
              </a:solidFill>
              <a:latin typeface="Arial"/>
            </a:endParaRPr>
          </a:p>
        </p:txBody>
      </p:sp>
      <p:sp>
        <p:nvSpPr>
          <p:cNvPr id="457" name="object 9"/>
          <p:cNvSpPr/>
          <p:nvPr/>
        </p:nvSpPr>
        <p:spPr>
          <a:xfrm>
            <a:off x="2378160" y="5619600"/>
            <a:ext cx="1947600" cy="7902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Predominance of  public (federal and  state) companies.</a:t>
            </a:r>
            <a:endParaRPr b="0" lang="en-US" sz="1700" spc="-1" strike="noStrike">
              <a:solidFill>
                <a:srgbClr val="003366"/>
              </a:solidFill>
              <a:latin typeface="Arial"/>
            </a:endParaRPr>
          </a:p>
        </p:txBody>
      </p:sp>
      <p:sp>
        <p:nvSpPr>
          <p:cNvPr id="458" name="object 10"/>
          <p:cNvSpPr/>
          <p:nvPr/>
        </p:nvSpPr>
        <p:spPr>
          <a:xfrm>
            <a:off x="4516560" y="847800"/>
            <a:ext cx="2388960" cy="106668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59" name="object 11"/>
          <p:cNvSpPr/>
          <p:nvPr/>
        </p:nvSpPr>
        <p:spPr>
          <a:xfrm>
            <a:off x="4592520" y="1176480"/>
            <a:ext cx="1968480" cy="2390040"/>
          </a:xfrm>
          <a:prstGeom prst="rect">
            <a:avLst/>
          </a:prstGeom>
          <a:noFill/>
          <a:ln w="0">
            <a:noFill/>
          </a:ln>
        </p:spPr>
        <p:style>
          <a:lnRef idx="0"/>
          <a:fillRef idx="0"/>
          <a:effectRef idx="0"/>
          <a:fontRef idx="minor"/>
        </p:style>
        <p:txBody>
          <a:bodyPr lIns="0" rIns="0" tIns="12600" bIns="0" anchor="t">
            <a:spAutoFit/>
          </a:bodyPr>
          <a:p>
            <a:pPr marL="6588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70’s</a:t>
            </a:r>
            <a:endParaRPr b="0" lang="en-US" sz="2400" spc="-1" strike="noStrike">
              <a:solidFill>
                <a:srgbClr val="003366"/>
              </a:solidFill>
              <a:latin typeface="Arial"/>
            </a:endParaRPr>
          </a:p>
          <a:p>
            <a:pPr marL="65880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1973: Oil crisis  triggers increasing  inflation and  interest rates.</a:t>
            </a:r>
            <a:endParaRPr b="0" lang="en-US" sz="1700" spc="-1" strike="noStrike">
              <a:solidFill>
                <a:srgbClr val="003366"/>
              </a:solidFill>
              <a:latin typeface="Arial"/>
            </a:endParaRPr>
          </a:p>
        </p:txBody>
      </p:sp>
      <p:sp>
        <p:nvSpPr>
          <p:cNvPr id="460" name="object 12"/>
          <p:cNvSpPr/>
          <p:nvPr/>
        </p:nvSpPr>
        <p:spPr>
          <a:xfrm>
            <a:off x="4592520" y="3033720"/>
            <a:ext cx="1855800" cy="20862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Tariff equalization  &amp; tariffs below  cost- reflective  levels:  disincentives to  operational  efficiency</a:t>
            </a:r>
            <a:endParaRPr b="0" lang="en-US" sz="1700" spc="-1" strike="noStrike">
              <a:solidFill>
                <a:srgbClr val="003366"/>
              </a:solidFill>
              <a:latin typeface="Arial"/>
            </a:endParaRPr>
          </a:p>
        </p:txBody>
      </p:sp>
      <p:sp>
        <p:nvSpPr>
          <p:cNvPr id="461" name="object 13"/>
          <p:cNvSpPr/>
          <p:nvPr/>
        </p:nvSpPr>
        <p:spPr>
          <a:xfrm>
            <a:off x="4599000" y="5100480"/>
            <a:ext cx="3882960" cy="131184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Massive investment in hydropower to</a:t>
            </a:r>
            <a:endParaRPr b="0" lang="en-US" sz="17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reduce oil dependence.</a:t>
            </a:r>
            <a:endParaRPr b="0" lang="en-US" sz="17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Governments using electricity as  instrument to manage inflation.</a:t>
            </a:r>
            <a:endParaRPr b="0" lang="en-US" sz="1700" spc="-1" strike="noStrike">
              <a:solidFill>
                <a:srgbClr val="003366"/>
              </a:solidFill>
              <a:latin typeface="Arial"/>
            </a:endParaRPr>
          </a:p>
        </p:txBody>
      </p:sp>
      <p:sp>
        <p:nvSpPr>
          <p:cNvPr id="462" name="object 14"/>
          <p:cNvSpPr/>
          <p:nvPr/>
        </p:nvSpPr>
        <p:spPr>
          <a:xfrm>
            <a:off x="6754680" y="847800"/>
            <a:ext cx="2389320" cy="1066680"/>
          </a:xfrm>
          <a:custGeom>
            <a:avLst/>
            <a:gdLst/>
            <a:ahLst/>
            <a:rect l="l" t="t" r="r" b="b"/>
            <a:pathLst>
              <a:path w="2388870" h="1066800">
                <a:moveTo>
                  <a:pt x="1855470" y="0"/>
                </a:moveTo>
                <a:lnTo>
                  <a:pt x="1855470" y="266700"/>
                </a:lnTo>
                <a:lnTo>
                  <a:pt x="0" y="266700"/>
                </a:lnTo>
                <a:lnTo>
                  <a:pt x="266700" y="533400"/>
                </a:lnTo>
                <a:lnTo>
                  <a:pt x="0" y="800100"/>
                </a:lnTo>
                <a:lnTo>
                  <a:pt x="1855470" y="800100"/>
                </a:lnTo>
                <a:lnTo>
                  <a:pt x="1855470" y="1066800"/>
                </a:lnTo>
                <a:lnTo>
                  <a:pt x="2388870" y="533400"/>
                </a:lnTo>
                <a:lnTo>
                  <a:pt x="1855470" y="0"/>
                </a:lnTo>
                <a:close/>
              </a:path>
            </a:pathLst>
          </a:custGeom>
          <a:solidFill>
            <a:srgbClr val="71bec5"/>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63" name="object 15"/>
          <p:cNvSpPr/>
          <p:nvPr/>
        </p:nvSpPr>
        <p:spPr>
          <a:xfrm>
            <a:off x="6764400" y="1176480"/>
            <a:ext cx="1743120" cy="3227760"/>
          </a:xfrm>
          <a:prstGeom prst="rect">
            <a:avLst/>
          </a:prstGeom>
          <a:noFill/>
          <a:ln w="0">
            <a:noFill/>
          </a:ln>
        </p:spPr>
        <p:style>
          <a:lnRef idx="0"/>
          <a:fillRef idx="0"/>
          <a:effectRef idx="0"/>
          <a:fontRef idx="minor"/>
        </p:style>
        <p:txBody>
          <a:bodyPr lIns="0" rIns="0" tIns="12600" bIns="0" anchor="t">
            <a:spAutoFit/>
          </a:bodyPr>
          <a:p>
            <a:pPr marL="725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5f91"/>
                </a:solidFill>
                <a:latin typeface="Arial"/>
                <a:ea typeface="Arial"/>
              </a:rPr>
              <a:t>1980’s</a:t>
            </a:r>
            <a:endParaRPr b="0" lang="en-US" sz="2400" spc="-1" strike="noStrike">
              <a:solidFill>
                <a:srgbClr val="003366"/>
              </a:solidFill>
              <a:latin typeface="Arial"/>
            </a:endParaRPr>
          </a:p>
          <a:p>
            <a:pPr marL="725400">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Low tariffs and  increasing debts  lead to financial  distress of  utilities.</a:t>
            </a:r>
            <a:endParaRPr b="0" lang="en-US" sz="1700" spc="-1" strike="noStrike">
              <a:solidFill>
                <a:srgbClr val="003366"/>
              </a:solidFill>
              <a:latin typeface="Arial"/>
            </a:endParaRPr>
          </a:p>
        </p:txBody>
      </p:sp>
      <p:sp>
        <p:nvSpPr>
          <p:cNvPr id="464" name="object 16"/>
          <p:cNvSpPr/>
          <p:nvPr/>
        </p:nvSpPr>
        <p:spPr>
          <a:xfrm>
            <a:off x="6764400" y="3355920"/>
            <a:ext cx="1923840" cy="10494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65f91"/>
                </a:solidFill>
                <a:latin typeface="Arial"/>
                <a:ea typeface="Arial"/>
              </a:rPr>
              <a:t>Investments in  nearly all  segments come to  a halt.</a:t>
            </a:r>
            <a:endParaRPr b="0" lang="en-US" sz="1700" spc="-1" strike="noStrike">
              <a:solidFill>
                <a:srgbClr val="003366"/>
              </a:solidFill>
              <a:latin typeface="Arial"/>
            </a:endParaRPr>
          </a:p>
        </p:txBody>
      </p:sp>
      <p:sp>
        <p:nvSpPr>
          <p:cNvPr id="465" name="object 17"/>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66" name="object 18"/>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96F2-0F39-46AD-823F-81DDFFAEE31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149400"/>
            <a:ext cx="683604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equence of main events</a:t>
            </a:r>
            <a:endParaRPr b="1" lang="en-US" sz="2400" spc="-1" strike="noStrike">
              <a:solidFill>
                <a:srgbClr val="cc0000"/>
              </a:solidFill>
              <a:latin typeface="Arial"/>
            </a:endParaRPr>
          </a:p>
        </p:txBody>
      </p:sp>
      <p:sp>
        <p:nvSpPr>
          <p:cNvPr id="468" name="object 3"/>
          <p:cNvSpPr/>
          <p:nvPr/>
        </p:nvSpPr>
        <p:spPr>
          <a:xfrm>
            <a:off x="146160" y="2514600"/>
            <a:ext cx="1450800" cy="969840"/>
          </a:xfrm>
          <a:prstGeom prst="rect">
            <a:avLst/>
          </a:prstGeom>
          <a:solidFill>
            <a:srgbClr val="71bec5"/>
          </a:solidFill>
          <a:ln w="0">
            <a:noFill/>
          </a:ln>
        </p:spPr>
        <p:style>
          <a:lnRef idx="0"/>
          <a:fillRef idx="0"/>
          <a:effectRef idx="0"/>
          <a:fontRef idx="minor"/>
        </p:style>
        <p:txBody>
          <a:bodyPr lIns="0" rIns="0" tIns="4068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3</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Restoration of  financial  capabilities</a:t>
            </a:r>
            <a:endParaRPr b="0" lang="en-US" sz="1400" spc="-1" strike="noStrike">
              <a:solidFill>
                <a:srgbClr val="003366"/>
              </a:solidFill>
              <a:latin typeface="Arial"/>
            </a:endParaRPr>
          </a:p>
        </p:txBody>
      </p:sp>
      <p:sp>
        <p:nvSpPr>
          <p:cNvPr id="469" name="object 4"/>
          <p:cNvSpPr/>
          <p:nvPr/>
        </p:nvSpPr>
        <p:spPr>
          <a:xfrm>
            <a:off x="1749600" y="2514600"/>
            <a:ext cx="1450800" cy="1609200"/>
          </a:xfrm>
          <a:prstGeom prst="rect">
            <a:avLst/>
          </a:prstGeom>
          <a:solidFill>
            <a:srgbClr val="71bec5"/>
          </a:solidFill>
          <a:ln w="0">
            <a:noFill/>
          </a:ln>
        </p:spPr>
        <p:style>
          <a:lnRef idx="0"/>
          <a:fillRef idx="0"/>
          <a:effectRef idx="0"/>
          <a:fontRef idx="minor"/>
        </p:style>
        <p:txBody>
          <a:bodyPr lIns="0" rIns="0" tIns="4068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5</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IPP,</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c1c1d"/>
                </a:solidFill>
                <a:latin typeface="Arial"/>
                <a:ea typeface="Arial"/>
              </a:rPr>
              <a:t>deregulated  </a:t>
            </a:r>
            <a:r>
              <a:rPr b="1" lang="en-US" sz="1400" spc="-1" strike="noStrike">
                <a:solidFill>
                  <a:srgbClr val="0c1c1d"/>
                </a:solidFill>
                <a:latin typeface="Arial"/>
                <a:ea typeface="Arial"/>
              </a:rPr>
              <a:t>consumer,  partial  restructuring,  open access</a:t>
            </a:r>
            <a:endParaRPr b="0" lang="en-US" sz="1400" spc="-1" strike="noStrike">
              <a:solidFill>
                <a:srgbClr val="003366"/>
              </a:solidFill>
              <a:latin typeface="Arial"/>
            </a:endParaRPr>
          </a:p>
        </p:txBody>
      </p:sp>
      <p:sp>
        <p:nvSpPr>
          <p:cNvPr id="470" name="object 5"/>
          <p:cNvSpPr/>
          <p:nvPr/>
        </p:nvSpPr>
        <p:spPr>
          <a:xfrm>
            <a:off x="3352680" y="3733920"/>
            <a:ext cx="4035600" cy="544320"/>
          </a:xfrm>
          <a:prstGeom prst="rect">
            <a:avLst/>
          </a:prstGeom>
          <a:solidFill>
            <a:srgbClr val="71bec5"/>
          </a:solidFill>
          <a:ln w="0">
            <a:noFill/>
          </a:ln>
        </p:spPr>
        <p:style>
          <a:lnRef idx="0"/>
          <a:fillRef idx="0"/>
          <a:effectRef idx="0"/>
          <a:fontRef idx="minor"/>
        </p:style>
        <p:txBody>
          <a:bodyPr lIns="0" rIns="0" tIns="4140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5-1998</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Privatization (partial, focus on distribution)</a:t>
            </a:r>
            <a:endParaRPr b="0" lang="en-US" sz="1400" spc="-1" strike="noStrike">
              <a:solidFill>
                <a:srgbClr val="003366"/>
              </a:solidFill>
              <a:latin typeface="Arial"/>
            </a:endParaRPr>
          </a:p>
        </p:txBody>
      </p:sp>
      <p:sp>
        <p:nvSpPr>
          <p:cNvPr id="471" name="object 6"/>
          <p:cNvSpPr/>
          <p:nvPr/>
        </p:nvSpPr>
        <p:spPr>
          <a:xfrm>
            <a:off x="3733920" y="2509920"/>
            <a:ext cx="3654360" cy="1183680"/>
          </a:xfrm>
          <a:prstGeom prst="rect">
            <a:avLst/>
          </a:prstGeom>
          <a:solidFill>
            <a:srgbClr val="71bec5"/>
          </a:solidFill>
          <a:ln w="0">
            <a:noFill/>
          </a:ln>
        </p:spPr>
        <p:style>
          <a:lnRef idx="0"/>
          <a:fillRef idx="0"/>
          <a:effectRef idx="0"/>
          <a:fontRef idx="minor"/>
        </p:style>
        <p:txBody>
          <a:bodyPr lIns="0" rIns="0" tIns="41400" bIns="0" anchor="t">
            <a:spAutoFit/>
          </a:bodyPr>
          <a:p>
            <a:pPr marL="140184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6-1998</a:t>
            </a:r>
            <a:endParaRPr b="0" lang="en-US" sz="1400" spc="-1" strike="noStrike">
              <a:solidFill>
                <a:srgbClr val="003366"/>
              </a:solidFill>
              <a:latin typeface="Arial"/>
            </a:endParaRPr>
          </a:p>
          <a:p>
            <a:pPr marL="14018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Institutional organization and  attributions: regulator (1996),  ISO and market operator (1998)</a:t>
            </a:r>
            <a:endParaRPr b="0" lang="en-US" sz="1400" spc="-1" strike="noStrike">
              <a:solidFill>
                <a:srgbClr val="003366"/>
              </a:solidFill>
              <a:latin typeface="Arial"/>
            </a:endParaRPr>
          </a:p>
        </p:txBody>
      </p:sp>
      <p:sp>
        <p:nvSpPr>
          <p:cNvPr id="472" name="object 7"/>
          <p:cNvSpPr/>
          <p:nvPr/>
        </p:nvSpPr>
        <p:spPr>
          <a:xfrm>
            <a:off x="7540560" y="2509920"/>
            <a:ext cx="1451160" cy="970560"/>
          </a:xfrm>
          <a:prstGeom prst="rect">
            <a:avLst/>
          </a:prstGeom>
          <a:solidFill>
            <a:srgbClr val="71bec5"/>
          </a:solidFill>
          <a:ln w="0">
            <a:noFill/>
          </a:ln>
        </p:spPr>
        <p:style>
          <a:lnRef idx="0"/>
          <a:fillRef idx="0"/>
          <a:effectRef idx="0"/>
          <a:fontRef idx="minor"/>
        </p:style>
        <p:txBody>
          <a:bodyPr lIns="0" rIns="0" tIns="4140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1998</a:t>
            </a:r>
            <a:endParaRPr b="0" lang="en-US" sz="1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Arial"/>
                <a:ea typeface="Arial"/>
              </a:rPr>
              <a:t>Wholesale  competition  and contracts</a:t>
            </a:r>
            <a:endParaRPr b="0" lang="en-US" sz="1400" spc="-1" strike="noStrike">
              <a:solidFill>
                <a:srgbClr val="003366"/>
              </a:solidFill>
              <a:latin typeface="Arial"/>
            </a:endParaRPr>
          </a:p>
        </p:txBody>
      </p:sp>
      <p:sp>
        <p:nvSpPr>
          <p:cNvPr id="473" name="object 8"/>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74" name="object 9"/>
          <p:cNvSpPr/>
          <p:nvPr/>
        </p:nvSpPr>
        <p:spPr>
          <a:xfrm>
            <a:off x="25560" y="6566040"/>
            <a:ext cx="304560" cy="284040"/>
          </a:xfrm>
          <a:custGeom>
            <a:avLst/>
            <a:gdLst/>
            <a:ahLst/>
            <a:rect l="l" t="t" r="r" b="b"/>
            <a:pathLst>
              <a:path w="304800" h="284479">
                <a:moveTo>
                  <a:pt x="152400" y="0"/>
                </a:moveTo>
                <a:lnTo>
                  <a:pt x="104229" y="7245"/>
                </a:lnTo>
                <a:lnTo>
                  <a:pt x="62394" y="27419"/>
                </a:lnTo>
                <a:lnTo>
                  <a:pt x="29404" y="58183"/>
                </a:lnTo>
                <a:lnTo>
                  <a:pt x="7769" y="97194"/>
                </a:lnTo>
                <a:lnTo>
                  <a:pt x="0" y="142113"/>
                </a:lnTo>
                <a:lnTo>
                  <a:pt x="7769" y="187031"/>
                </a:lnTo>
                <a:lnTo>
                  <a:pt x="29404" y="226042"/>
                </a:lnTo>
                <a:lnTo>
                  <a:pt x="62394" y="256805"/>
                </a:lnTo>
                <a:lnTo>
                  <a:pt x="104229" y="276980"/>
                </a:lnTo>
                <a:lnTo>
                  <a:pt x="152400" y="284225"/>
                </a:lnTo>
                <a:lnTo>
                  <a:pt x="200568" y="276980"/>
                </a:lnTo>
                <a:lnTo>
                  <a:pt x="242403" y="256805"/>
                </a:lnTo>
                <a:lnTo>
                  <a:pt x="275394" y="226042"/>
                </a:lnTo>
                <a:lnTo>
                  <a:pt x="297030" y="187031"/>
                </a:lnTo>
                <a:lnTo>
                  <a:pt x="304800" y="142113"/>
                </a:lnTo>
                <a:lnTo>
                  <a:pt x="297030" y="97194"/>
                </a:lnTo>
                <a:lnTo>
                  <a:pt x="275394" y="58183"/>
                </a:lnTo>
                <a:lnTo>
                  <a:pt x="242403" y="27419"/>
                </a:lnTo>
                <a:lnTo>
                  <a:pt x="200568" y="7245"/>
                </a:lnTo>
                <a:lnTo>
                  <a:pt x="152400" y="0"/>
                </a:lnTo>
                <a:close/>
              </a:path>
            </a:pathLst>
          </a:custGeom>
          <a:solidFill>
            <a:srgbClr val="6b6bc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75" name="object 10"/>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44E6-384A-46C2-B125-1156233F81D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51920" y="0"/>
            <a:ext cx="7085160" cy="952560"/>
          </a:xfrm>
          <a:prstGeom prst="rect">
            <a:avLst/>
          </a:prstGeom>
          <a:noFill/>
          <a:ln w="0">
            <a:noFill/>
          </a:ln>
        </p:spPr>
        <p:txBody>
          <a:bodyPr lIns="0" rIns="0" tIns="12240" bIns="0" anchor="b">
            <a:noAutofit/>
          </a:bodyPr>
          <a:p>
            <a:pPr marL="12600" indent="0" algn="r">
              <a:lnSpc>
                <a:spcPts val="3648"/>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a:t>
            </a:r>
            <a:br>
              <a:rPr sz="2400"/>
            </a:br>
            <a:r>
              <a:rPr b="1" lang="en-US" sz="2400" spc="-1" strike="noStrike">
                <a:solidFill>
                  <a:srgbClr val="cc0000"/>
                </a:solidFill>
                <a:latin typeface="Arial"/>
              </a:rPr>
              <a:t>legal fundaments before Electricity Law</a:t>
            </a:r>
            <a:endParaRPr b="1" lang="en-US" sz="2400" spc="-1" strike="noStrike">
              <a:solidFill>
                <a:srgbClr val="cc0000"/>
              </a:solidFill>
              <a:latin typeface="Arial"/>
            </a:endParaRPr>
          </a:p>
        </p:txBody>
      </p:sp>
      <p:sp>
        <p:nvSpPr>
          <p:cNvPr id="477" name="object 3"/>
          <p:cNvSpPr/>
          <p:nvPr/>
        </p:nvSpPr>
        <p:spPr>
          <a:xfrm>
            <a:off x="152280" y="1273320"/>
            <a:ext cx="8782200" cy="48322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Important legal fundaments established before 1995:</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1993: Law #8,631:</a:t>
            </a:r>
            <a:endParaRPr b="0" lang="en-US" sz="2000" spc="-1" strike="noStrike">
              <a:solidFill>
                <a:srgbClr val="003366"/>
              </a:solidFill>
              <a:latin typeface="Arial"/>
            </a:endParaRPr>
          </a:p>
          <a:p>
            <a:pPr lvl="1" marL="1155600" indent="-228600">
              <a:spcBef>
                <a:spcPts val="1675"/>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estoration of creditworthiness of off-takers</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1995: Laws #8,987 (“Concessions Law”):</a:t>
            </a:r>
            <a:endParaRPr b="0" lang="en-US" sz="2000" spc="-1" strike="noStrike">
              <a:solidFill>
                <a:srgbClr val="003366"/>
              </a:solidFill>
              <a:latin typeface="Arial"/>
            </a:endParaRPr>
          </a:p>
          <a:p>
            <a:pPr lvl="1" marL="1155600" indent="-228600">
              <a:spcBef>
                <a:spcPts val="1675"/>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Laid legal basis for concession contracts.</a:t>
            </a:r>
            <a:endParaRPr b="0" lang="en-US" sz="2000" spc="-1" strike="noStrike">
              <a:solidFill>
                <a:srgbClr val="003366"/>
              </a:solidFill>
              <a:latin typeface="Arial"/>
            </a:endParaRPr>
          </a:p>
          <a:p>
            <a:pPr lvl="1" marL="1155600" indent="-228600">
              <a:lnSpc>
                <a:spcPct val="150000"/>
              </a:lnSpc>
              <a:spcBef>
                <a:spcPts val="476"/>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Established that competitive processes (tenders and auctions)  are mandatory to award new concessions.</a:t>
            </a:r>
            <a:endParaRPr b="0" lang="en-US" sz="2000" spc="-1" strike="noStrike">
              <a:solidFill>
                <a:srgbClr val="003366"/>
              </a:solidFill>
              <a:latin typeface="Arial"/>
            </a:endParaRPr>
          </a:p>
          <a:p>
            <a:pPr lvl="1" marL="1155600" indent="-228600">
              <a:lnSpc>
                <a:spcPct val="150000"/>
              </a:lnSpc>
              <a:spcBef>
                <a:spcPts val="476"/>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reated solid framework for concessions in all infrastructure sectors  (enforceability of contracts, mechanisms for resolution of disputes,  etc.).</a:t>
            </a:r>
            <a:endParaRPr b="0" lang="en-US" sz="2000" spc="-1" strike="noStrike">
              <a:solidFill>
                <a:srgbClr val="003366"/>
              </a:solidFill>
              <a:latin typeface="Arial"/>
            </a:endParaRPr>
          </a:p>
        </p:txBody>
      </p:sp>
      <p:sp>
        <p:nvSpPr>
          <p:cNvPr id="478"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79"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AF89-8B52-4315-9043-92FCDE3C5F0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1920" y="0"/>
            <a:ext cx="8123400" cy="95256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restoration of financial  capabilities and creditworthiness of off-takers</a:t>
            </a:r>
            <a:endParaRPr b="1" lang="en-US" sz="2400" spc="-1" strike="noStrike">
              <a:solidFill>
                <a:srgbClr val="cc0000"/>
              </a:solidFill>
              <a:latin typeface="Arial"/>
            </a:endParaRPr>
          </a:p>
        </p:txBody>
      </p:sp>
      <p:sp>
        <p:nvSpPr>
          <p:cNvPr id="481" name="object 3"/>
          <p:cNvSpPr/>
          <p:nvPr/>
        </p:nvSpPr>
        <p:spPr>
          <a:xfrm>
            <a:off x="152280" y="1436760"/>
            <a:ext cx="8596440" cy="28216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1993: Law #8,631:</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emoves national uniform electricity tariff to eliminate cross-subsidies  between companies, step towards cost-reflective tariffs.</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Established obligation of supply contracts between generators and  distribution companies (Discos).</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Treasury assumed USD 26 billion of utilities’ debt</a:t>
            </a:r>
            <a:endParaRPr b="0" lang="en-US" sz="2000" spc="-1" strike="noStrike">
              <a:solidFill>
                <a:srgbClr val="003366"/>
              </a:solidFill>
              <a:latin typeface="Arial"/>
            </a:endParaRPr>
          </a:p>
        </p:txBody>
      </p:sp>
      <p:sp>
        <p:nvSpPr>
          <p:cNvPr id="482"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83"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950A-804B-4320-96EF-C8044D49720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52280" y="149400"/>
            <a:ext cx="45799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restructuring</a:t>
            </a:r>
            <a:endParaRPr b="1" lang="en-US" sz="2400" spc="-1" strike="noStrike">
              <a:solidFill>
                <a:srgbClr val="cc0000"/>
              </a:solidFill>
              <a:latin typeface="Arial"/>
            </a:endParaRPr>
          </a:p>
        </p:txBody>
      </p:sp>
      <p:sp>
        <p:nvSpPr>
          <p:cNvPr id="485" name="object 3"/>
          <p:cNvSpPr/>
          <p:nvPr/>
        </p:nvSpPr>
        <p:spPr>
          <a:xfrm>
            <a:off x="152280" y="1162080"/>
            <a:ext cx="8315280" cy="44532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Vertical unbundling:</a:t>
            </a:r>
            <a:endParaRPr b="0" lang="en-US" sz="1900" spc="-1" strike="noStrike">
              <a:solidFill>
                <a:srgbClr val="003366"/>
              </a:solidFill>
              <a:latin typeface="Arial"/>
            </a:endParaRPr>
          </a:p>
          <a:p>
            <a:pPr marL="12600">
              <a:spcBef>
                <a:spcPts val="127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Separation of G&amp;T and D&amp;C, provisions for creation of traders.</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G&amp;T allowed to remain bundled, but open access introduced (for T and D).</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D and commercialization for regulated consumers as a bundled activity.</a:t>
            </a:r>
            <a:endParaRPr b="0" lang="en-US" sz="1700" spc="-1" strike="noStrike">
              <a:solidFill>
                <a:srgbClr val="003366"/>
              </a:solidFill>
              <a:latin typeface="Arial"/>
            </a:endParaRPr>
          </a:p>
          <a:p>
            <a:pPr marL="12600">
              <a:spcBef>
                <a:spcPts val="122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Competition in G and commercialization.</a:t>
            </a:r>
            <a:endParaRPr b="0" lang="en-US" sz="1700" spc="-1" strike="noStrike">
              <a:solidFill>
                <a:srgbClr val="003366"/>
              </a:solidFill>
              <a:latin typeface="Arial"/>
            </a:endParaRPr>
          </a:p>
          <a:p>
            <a:pPr lvl="1" marL="11556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However, self-dealing between G and D allowed up to 30%.</a:t>
            </a:r>
            <a:endParaRPr b="0" lang="en-US" sz="1700" spc="-1" strike="noStrike">
              <a:solidFill>
                <a:srgbClr val="003366"/>
              </a:solidFill>
              <a:latin typeface="Arial"/>
            </a:endParaRPr>
          </a:p>
          <a:p>
            <a:pPr marL="12600">
              <a:spcBef>
                <a:spcPts val="122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Regulated monopolies in T&amp;D (with auctions for T).</a:t>
            </a:r>
            <a:endParaRPr b="0" lang="en-US" sz="1700" spc="-1" strike="noStrike">
              <a:solidFill>
                <a:srgbClr val="003366"/>
              </a:solidFill>
              <a:latin typeface="Arial"/>
            </a:endParaRPr>
          </a:p>
          <a:p>
            <a:pPr marL="12600">
              <a:spcBef>
                <a:spcPts val="1324"/>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a:t>
            </a:r>
            <a:r>
              <a:rPr b="0" lang="en-US" sz="1600" spc="-1" strike="noStrike">
                <a:solidFill>
                  <a:srgbClr val="a39274"/>
                </a:solidFill>
                <a:latin typeface="Arial"/>
                <a:ea typeface="Arial"/>
              </a:rPr>
              <a:t>	</a:t>
            </a:r>
            <a:r>
              <a:rPr b="0" lang="en-US" sz="1900" spc="-1" strike="noStrike">
                <a:solidFill>
                  <a:srgbClr val="042745"/>
                </a:solidFill>
                <a:latin typeface="Arial"/>
                <a:ea typeface="Arial"/>
              </a:rPr>
              <a:t>Horizontal unbundling:</a:t>
            </a:r>
            <a:endParaRPr b="0" lang="en-US" sz="1900" spc="-1" strike="noStrike">
              <a:solidFill>
                <a:srgbClr val="003366"/>
              </a:solidFill>
              <a:latin typeface="Arial"/>
            </a:endParaRPr>
          </a:p>
          <a:p>
            <a:pPr marL="12600">
              <a:lnSpc>
                <a:spcPct val="140000"/>
              </a:lnSpc>
              <a:spcBef>
                <a:spcPts val="451"/>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Facilitated by existence of several subsidiaries of Eletrobras  (federal level) and several state-level companies</a:t>
            </a:r>
            <a:endParaRPr b="0" lang="en-US" sz="1700" spc="-1" strike="noStrike">
              <a:solidFill>
                <a:srgbClr val="003366"/>
              </a:solidFill>
              <a:latin typeface="Arial"/>
            </a:endParaRPr>
          </a:p>
          <a:p>
            <a:pPr marL="12600">
              <a:lnSpc>
                <a:spcPct val="140000"/>
              </a:lnSpc>
              <a:spcBef>
                <a:spcPts val="41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Vesting contracts introduced to limit market power  (theoretically only 5 years).</a:t>
            </a:r>
            <a:endParaRPr b="0" lang="en-US" sz="1700" spc="-1" strike="noStrike">
              <a:solidFill>
                <a:srgbClr val="003366"/>
              </a:solidFill>
              <a:latin typeface="Arial"/>
            </a:endParaRPr>
          </a:p>
        </p:txBody>
      </p:sp>
      <p:sp>
        <p:nvSpPr>
          <p:cNvPr id="486"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87"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AFE3-825D-41C2-BED4-88353D6715F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87"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3451-4520-4D92-B348-96A186FD86A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88" name="object 3"/>
          <p:cNvSpPr/>
          <p:nvPr/>
        </p:nvSpPr>
        <p:spPr>
          <a:xfrm>
            <a:off x="914400" y="1295280"/>
            <a:ext cx="804852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1920" y="149400"/>
            <a:ext cx="448956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privatization</a:t>
            </a:r>
            <a:endParaRPr b="1" lang="en-US" sz="2400" spc="-1" strike="noStrike">
              <a:solidFill>
                <a:srgbClr val="cc0000"/>
              </a:solidFill>
              <a:latin typeface="Arial"/>
            </a:endParaRPr>
          </a:p>
        </p:txBody>
      </p:sp>
      <p:sp>
        <p:nvSpPr>
          <p:cNvPr id="489" name="object 3"/>
          <p:cNvSpPr/>
          <p:nvPr/>
        </p:nvSpPr>
        <p:spPr>
          <a:xfrm>
            <a:off x="152280" y="1090440"/>
            <a:ext cx="7950240" cy="500328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Distribution:</a:t>
            </a:r>
            <a:endParaRPr b="0" lang="en-US" sz="2000" spc="-1" strike="noStrike">
              <a:solidFill>
                <a:srgbClr val="003366"/>
              </a:solidFill>
              <a:latin typeface="Arial"/>
            </a:endParaRPr>
          </a:p>
          <a:p>
            <a:pPr marL="12600">
              <a:spcBef>
                <a:spcPts val="138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First segment to be privatized.</a:t>
            </a:r>
            <a:endParaRPr b="0" lang="en-US" sz="1900" spc="-1" strike="noStrike">
              <a:solidFill>
                <a:srgbClr val="003366"/>
              </a:solidFill>
              <a:latin typeface="Arial"/>
            </a:endParaRPr>
          </a:p>
          <a:p>
            <a:pPr marL="12600">
              <a:spcBef>
                <a:spcPts val="13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Important step towards creditworthiness of off-takers.</a:t>
            </a:r>
            <a:endParaRPr b="0" lang="en-US" sz="1900" spc="-1" strike="noStrike">
              <a:solidFill>
                <a:srgbClr val="003366"/>
              </a:solidFill>
              <a:latin typeface="Arial"/>
            </a:endParaRPr>
          </a:p>
          <a:p>
            <a:pPr marL="12600">
              <a:spcBef>
                <a:spcPts val="136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Very successful process:</a:t>
            </a:r>
            <a:endParaRPr b="0" lang="en-US" sz="1900" spc="-1" strike="noStrike">
              <a:solidFill>
                <a:srgbClr val="003366"/>
              </a:solidFill>
              <a:latin typeface="Arial"/>
            </a:endParaRPr>
          </a:p>
          <a:p>
            <a:pPr lvl="1" marL="1155600" indent="-228600">
              <a:lnSpc>
                <a:spcPct val="100000"/>
              </a:lnSpc>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aid prices 50% above the floor established by government.</a:t>
            </a:r>
            <a:endParaRPr b="0" lang="en-US" sz="1900" spc="-1" strike="noStrike">
              <a:solidFill>
                <a:srgbClr val="003366"/>
              </a:solidFill>
              <a:latin typeface="Arial"/>
            </a:endParaRPr>
          </a:p>
          <a:p>
            <a:pPr lvl="1" marL="1155600" indent="-228600">
              <a:lnSpc>
                <a:spcPct val="100000"/>
              </a:lnSpc>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USD 19 billion in revenues for government.</a:t>
            </a:r>
            <a:endParaRPr b="0" lang="en-US" sz="1900" spc="-1" strike="noStrike">
              <a:solidFill>
                <a:srgbClr val="003366"/>
              </a:solidFill>
              <a:latin typeface="Arial"/>
            </a:endParaRPr>
          </a:p>
          <a:p>
            <a:pPr marL="12600">
              <a:spcBef>
                <a:spcPts val="142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Generation:</a:t>
            </a:r>
            <a:endParaRPr b="0" lang="en-US" sz="2000" spc="-1" strike="noStrike">
              <a:solidFill>
                <a:srgbClr val="003366"/>
              </a:solidFill>
              <a:latin typeface="Arial"/>
            </a:endParaRPr>
          </a:p>
          <a:p>
            <a:pPr marL="12600">
              <a:spcBef>
                <a:spcPts val="138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Only ~30% of generation assets privatized.</a:t>
            </a:r>
            <a:endParaRPr b="0" lang="en-US" sz="1900" spc="-1" strike="noStrike">
              <a:solidFill>
                <a:srgbClr val="003366"/>
              </a:solidFill>
              <a:latin typeface="Arial"/>
            </a:endParaRPr>
          </a:p>
          <a:p>
            <a:pPr marL="12600">
              <a:spcBef>
                <a:spcPts val="1363"/>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Political opposition interrupted process.</a:t>
            </a:r>
            <a:endParaRPr b="0" lang="en-US" sz="1900" spc="-1" strike="noStrike">
              <a:solidFill>
                <a:srgbClr val="003366"/>
              </a:solidFill>
              <a:latin typeface="Arial"/>
            </a:endParaRPr>
          </a:p>
          <a:p>
            <a:pPr marL="12600">
              <a:spcBef>
                <a:spcPts val="142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Transmission:</a:t>
            </a:r>
            <a:endParaRPr b="0" lang="en-US" sz="2000" spc="-1" strike="noStrike">
              <a:solidFill>
                <a:srgbClr val="003366"/>
              </a:solidFill>
              <a:latin typeface="Arial"/>
            </a:endParaRPr>
          </a:p>
          <a:p>
            <a:pPr marL="12600">
              <a:spcBef>
                <a:spcPts val="138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Similarly, low privatization rate (~10% at that time) and interruption.</a:t>
            </a:r>
            <a:endParaRPr b="0" lang="en-US" sz="1900" spc="-1" strike="noStrike">
              <a:solidFill>
                <a:srgbClr val="003366"/>
              </a:solidFill>
              <a:latin typeface="Arial"/>
            </a:endParaRPr>
          </a:p>
        </p:txBody>
      </p:sp>
      <p:sp>
        <p:nvSpPr>
          <p:cNvPr id="490"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91"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0AF1-4F7B-4717-96EF-A515BCC053C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object 2"/>
          <p:cNvSpPr/>
          <p:nvPr/>
        </p:nvSpPr>
        <p:spPr>
          <a:xfrm>
            <a:off x="484200" y="1784520"/>
            <a:ext cx="8251920" cy="4186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93" name="PlaceHolder 1"/>
          <p:cNvSpPr>
            <a:spLocks noGrp="1"/>
          </p:cNvSpPr>
          <p:nvPr>
            <p:ph type="title"/>
          </p:nvPr>
        </p:nvSpPr>
        <p:spPr>
          <a:xfrm>
            <a:off x="1600200" y="196200"/>
            <a:ext cx="7315200" cy="94680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mprovements of operational and  financial performance of distcos</a:t>
            </a:r>
            <a:endParaRPr b="1" lang="en-US" sz="2400" spc="-1" strike="noStrike">
              <a:solidFill>
                <a:srgbClr val="cc0000"/>
              </a:solidFill>
              <a:latin typeface="Arial"/>
            </a:endParaRPr>
          </a:p>
        </p:txBody>
      </p:sp>
      <p:sp>
        <p:nvSpPr>
          <p:cNvPr id="494" name="object 4"/>
          <p:cNvSpPr/>
          <p:nvPr/>
        </p:nvSpPr>
        <p:spPr>
          <a:xfrm>
            <a:off x="2514600" y="1720800"/>
            <a:ext cx="2575080" cy="681120"/>
          </a:xfrm>
          <a:custGeom>
            <a:avLst/>
            <a:gdLst/>
            <a:ahLst/>
            <a:rect l="l" t="t" r="r" b="b"/>
            <a:pathLst>
              <a:path w="2574925" h="681989">
                <a:moveTo>
                  <a:pt x="2461133" y="0"/>
                </a:moveTo>
                <a:lnTo>
                  <a:pt x="113664" y="0"/>
                </a:lnTo>
                <a:lnTo>
                  <a:pt x="69437" y="8937"/>
                </a:lnTo>
                <a:lnTo>
                  <a:pt x="33305" y="33305"/>
                </a:lnTo>
                <a:lnTo>
                  <a:pt x="8937" y="69437"/>
                </a:lnTo>
                <a:lnTo>
                  <a:pt x="0" y="113664"/>
                </a:lnTo>
                <a:lnTo>
                  <a:pt x="0" y="568325"/>
                </a:lnTo>
                <a:lnTo>
                  <a:pt x="8937" y="612552"/>
                </a:lnTo>
                <a:lnTo>
                  <a:pt x="33305" y="648684"/>
                </a:lnTo>
                <a:lnTo>
                  <a:pt x="69437" y="673052"/>
                </a:lnTo>
                <a:lnTo>
                  <a:pt x="113664" y="681989"/>
                </a:lnTo>
                <a:lnTo>
                  <a:pt x="2461133" y="681989"/>
                </a:lnTo>
                <a:lnTo>
                  <a:pt x="2505360" y="673052"/>
                </a:lnTo>
                <a:lnTo>
                  <a:pt x="2541492" y="648684"/>
                </a:lnTo>
                <a:lnTo>
                  <a:pt x="2565860" y="612552"/>
                </a:lnTo>
                <a:lnTo>
                  <a:pt x="2574798" y="568325"/>
                </a:lnTo>
                <a:lnTo>
                  <a:pt x="2574798" y="113664"/>
                </a:lnTo>
                <a:lnTo>
                  <a:pt x="2565860" y="69437"/>
                </a:lnTo>
                <a:lnTo>
                  <a:pt x="2541492" y="33305"/>
                </a:lnTo>
                <a:lnTo>
                  <a:pt x="2505360" y="8937"/>
                </a:lnTo>
                <a:lnTo>
                  <a:pt x="2461133" y="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95" name="object 5"/>
          <p:cNvSpPr/>
          <p:nvPr/>
        </p:nvSpPr>
        <p:spPr>
          <a:xfrm>
            <a:off x="2658960" y="1781280"/>
            <a:ext cx="2286000" cy="561600"/>
          </a:xfrm>
          <a:prstGeom prst="rect">
            <a:avLst/>
          </a:prstGeom>
          <a:noFill/>
          <a:ln w="0">
            <a:noFill/>
          </a:ln>
        </p:spPr>
        <p:style>
          <a:lnRef idx="0"/>
          <a:fillRef idx="0"/>
          <a:effectRef idx="0"/>
          <a:fontRef idx="minor"/>
        </p:style>
        <p:txBody>
          <a:bodyPr lIns="0" rIns="0" tIns="1260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9e00"/>
                </a:solidFill>
                <a:latin typeface="Arial"/>
                <a:ea typeface="Arial"/>
              </a:rPr>
              <a:t>DEC - Duration of</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9e00"/>
                </a:solidFill>
                <a:latin typeface="Arial"/>
                <a:ea typeface="Arial"/>
              </a:rPr>
              <a:t>interruptions [hours]</a:t>
            </a:r>
            <a:endParaRPr b="0" lang="en-US" sz="1800" spc="-1" strike="noStrike">
              <a:solidFill>
                <a:srgbClr val="003366"/>
              </a:solidFill>
              <a:latin typeface="Arial"/>
            </a:endParaRPr>
          </a:p>
        </p:txBody>
      </p:sp>
      <p:sp>
        <p:nvSpPr>
          <p:cNvPr id="496" name="object 6"/>
          <p:cNvSpPr/>
          <p:nvPr/>
        </p:nvSpPr>
        <p:spPr>
          <a:xfrm>
            <a:off x="5715000" y="1720800"/>
            <a:ext cx="2454120" cy="741240"/>
          </a:xfrm>
          <a:custGeom>
            <a:avLst/>
            <a:gdLst/>
            <a:ahLst/>
            <a:rect l="l" t="t" r="r" b="b"/>
            <a:pathLst>
              <a:path w="2454909" h="742314">
                <a:moveTo>
                  <a:pt x="2330704" y="0"/>
                </a:moveTo>
                <a:lnTo>
                  <a:pt x="123698" y="0"/>
                </a:lnTo>
                <a:lnTo>
                  <a:pt x="75545" y="9719"/>
                </a:lnTo>
                <a:lnTo>
                  <a:pt x="36226" y="36226"/>
                </a:lnTo>
                <a:lnTo>
                  <a:pt x="9719" y="75545"/>
                </a:lnTo>
                <a:lnTo>
                  <a:pt x="0" y="123698"/>
                </a:lnTo>
                <a:lnTo>
                  <a:pt x="0" y="618489"/>
                </a:lnTo>
                <a:lnTo>
                  <a:pt x="9719" y="666642"/>
                </a:lnTo>
                <a:lnTo>
                  <a:pt x="36226" y="705961"/>
                </a:lnTo>
                <a:lnTo>
                  <a:pt x="75545" y="732468"/>
                </a:lnTo>
                <a:lnTo>
                  <a:pt x="123698" y="742188"/>
                </a:lnTo>
                <a:lnTo>
                  <a:pt x="2330704" y="742188"/>
                </a:lnTo>
                <a:lnTo>
                  <a:pt x="2378856" y="732468"/>
                </a:lnTo>
                <a:lnTo>
                  <a:pt x="2418175" y="705961"/>
                </a:lnTo>
                <a:lnTo>
                  <a:pt x="2444682" y="666642"/>
                </a:lnTo>
                <a:lnTo>
                  <a:pt x="2454402" y="618489"/>
                </a:lnTo>
                <a:lnTo>
                  <a:pt x="2454402" y="123698"/>
                </a:lnTo>
                <a:lnTo>
                  <a:pt x="2444682" y="75545"/>
                </a:lnTo>
                <a:lnTo>
                  <a:pt x="2418175" y="36226"/>
                </a:lnTo>
                <a:lnTo>
                  <a:pt x="2378856" y="9719"/>
                </a:lnTo>
                <a:lnTo>
                  <a:pt x="2330704" y="0"/>
                </a:lnTo>
                <a:close/>
              </a:path>
            </a:pathLst>
          </a:custGeom>
          <a:solidFill>
            <a:srgbClr val="f1f1f1"/>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97" name="object 7"/>
          <p:cNvSpPr/>
          <p:nvPr/>
        </p:nvSpPr>
        <p:spPr>
          <a:xfrm>
            <a:off x="5881680" y="1784520"/>
            <a:ext cx="2120760" cy="561600"/>
          </a:xfrm>
          <a:prstGeom prst="rect">
            <a:avLst/>
          </a:prstGeom>
          <a:noFill/>
          <a:ln w="0">
            <a:noFill/>
          </a:ln>
        </p:spPr>
        <p:style>
          <a:lnRef idx="0"/>
          <a:fillRef idx="0"/>
          <a:effectRef idx="0"/>
          <a:fontRef idx="minor"/>
        </p:style>
        <p:txBody>
          <a:bodyPr lIns="0" rIns="0" tIns="12600" bIns="0" anchor="t">
            <a:spAutoFit/>
          </a:bodyPr>
          <a:p>
            <a:pPr marL="88920" indent="-7632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7e7e"/>
                </a:solidFill>
                <a:latin typeface="Arial"/>
                <a:ea typeface="Arial"/>
              </a:rPr>
              <a:t>FEC - Frequency of  interruptions [1/y]</a:t>
            </a:r>
            <a:endParaRPr b="0" lang="en-US" sz="1800" spc="-1" strike="noStrike">
              <a:solidFill>
                <a:srgbClr val="003366"/>
              </a:solidFill>
              <a:latin typeface="Arial"/>
            </a:endParaRPr>
          </a:p>
        </p:txBody>
      </p:sp>
      <p:sp>
        <p:nvSpPr>
          <p:cNvPr id="498" name="object 8"/>
          <p:cNvSpPr/>
          <p:nvPr/>
        </p:nvSpPr>
        <p:spPr>
          <a:xfrm>
            <a:off x="3902040" y="3265560"/>
            <a:ext cx="1371600" cy="457200"/>
          </a:xfrm>
          <a:custGeom>
            <a:avLst/>
            <a:gdLst/>
            <a:ahLst/>
            <a:rect l="l" t="t" r="r" b="b"/>
            <a:pathLst>
              <a:path w="1371600" h="457200">
                <a:moveTo>
                  <a:pt x="0" y="457200"/>
                </a:moveTo>
                <a:lnTo>
                  <a:pt x="1371600" y="457200"/>
                </a:lnTo>
                <a:lnTo>
                  <a:pt x="1371600" y="0"/>
                </a:lnTo>
                <a:lnTo>
                  <a:pt x="0" y="0"/>
                </a:lnTo>
                <a:lnTo>
                  <a:pt x="0" y="4572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499" name="object 9"/>
          <p:cNvSpPr/>
          <p:nvPr/>
        </p:nvSpPr>
        <p:spPr>
          <a:xfrm>
            <a:off x="6797520" y="4560840"/>
            <a:ext cx="1965600" cy="380880"/>
          </a:xfrm>
          <a:custGeom>
            <a:avLst/>
            <a:gdLst/>
            <a:ahLst/>
            <a:rect l="l" t="t" r="r" b="b"/>
            <a:pathLst>
              <a:path w="1965325" h="381000">
                <a:moveTo>
                  <a:pt x="0" y="381000"/>
                </a:moveTo>
                <a:lnTo>
                  <a:pt x="1965198" y="381000"/>
                </a:lnTo>
                <a:lnTo>
                  <a:pt x="1965198" y="0"/>
                </a:lnTo>
                <a:lnTo>
                  <a:pt x="0" y="0"/>
                </a:lnTo>
                <a:lnTo>
                  <a:pt x="0" y="3810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00" name="object 10"/>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2)</a:t>
            </a:r>
            <a:endParaRPr b="0" lang="en-US" sz="1200" spc="-1" strike="noStrike">
              <a:solidFill>
                <a:srgbClr val="003366"/>
              </a:solidFill>
              <a:latin typeface="Arial"/>
            </a:endParaRPr>
          </a:p>
        </p:txBody>
      </p:sp>
      <p:sp>
        <p:nvSpPr>
          <p:cNvPr id="501" name="object 11"/>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02" name="object 12"/>
          <p:cNvSpPr/>
          <p:nvPr/>
        </p:nvSpPr>
        <p:spPr>
          <a:xfrm>
            <a:off x="25560" y="6566040"/>
            <a:ext cx="304560" cy="284040"/>
          </a:xfrm>
          <a:custGeom>
            <a:avLst/>
            <a:gdLst/>
            <a:ahLst/>
            <a:rect l="l" t="t" r="r" b="b"/>
            <a:pathLst>
              <a:path w="304800" h="284479">
                <a:moveTo>
                  <a:pt x="152400" y="0"/>
                </a:moveTo>
                <a:lnTo>
                  <a:pt x="104229" y="7245"/>
                </a:lnTo>
                <a:lnTo>
                  <a:pt x="62394" y="27419"/>
                </a:lnTo>
                <a:lnTo>
                  <a:pt x="29404" y="58183"/>
                </a:lnTo>
                <a:lnTo>
                  <a:pt x="7769" y="97194"/>
                </a:lnTo>
                <a:lnTo>
                  <a:pt x="0" y="142113"/>
                </a:lnTo>
                <a:lnTo>
                  <a:pt x="7769" y="187031"/>
                </a:lnTo>
                <a:lnTo>
                  <a:pt x="29404" y="226042"/>
                </a:lnTo>
                <a:lnTo>
                  <a:pt x="62394" y="256805"/>
                </a:lnTo>
                <a:lnTo>
                  <a:pt x="104229" y="276980"/>
                </a:lnTo>
                <a:lnTo>
                  <a:pt x="152400" y="284225"/>
                </a:lnTo>
                <a:lnTo>
                  <a:pt x="200568" y="276980"/>
                </a:lnTo>
                <a:lnTo>
                  <a:pt x="242403" y="256805"/>
                </a:lnTo>
                <a:lnTo>
                  <a:pt x="275394" y="226042"/>
                </a:lnTo>
                <a:lnTo>
                  <a:pt x="297030" y="187031"/>
                </a:lnTo>
                <a:lnTo>
                  <a:pt x="304800" y="142113"/>
                </a:lnTo>
                <a:lnTo>
                  <a:pt x="297030" y="97194"/>
                </a:lnTo>
                <a:lnTo>
                  <a:pt x="275394" y="58183"/>
                </a:lnTo>
                <a:lnTo>
                  <a:pt x="242403" y="27419"/>
                </a:lnTo>
                <a:lnTo>
                  <a:pt x="200568" y="7245"/>
                </a:lnTo>
                <a:lnTo>
                  <a:pt x="152400" y="0"/>
                </a:lnTo>
                <a:close/>
              </a:path>
            </a:pathLst>
          </a:custGeom>
          <a:solidFill>
            <a:srgbClr val="6b6bc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03" name="object 13"/>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7BE8-DC6E-4B9F-926F-5D47A31D660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196200"/>
            <a:ext cx="7315200" cy="946800"/>
          </a:xfrm>
          <a:prstGeom prst="rect">
            <a:avLst/>
          </a:prstGeom>
          <a:noFill/>
          <a:ln w="0">
            <a:noFill/>
          </a:ln>
        </p:spPr>
        <p:txBody>
          <a:bodyPr lIns="0" rIns="0" tIns="67320" bIns="0" anchor="b">
            <a:noAutofit/>
          </a:bodyPr>
          <a:p>
            <a:pPr marL="12600" indent="0" algn="r">
              <a:lnSpc>
                <a:spcPts val="3461"/>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mprovements of operational and  financial performance of distcos</a:t>
            </a:r>
            <a:endParaRPr b="1" lang="en-US" sz="2400" spc="-1" strike="noStrike">
              <a:solidFill>
                <a:srgbClr val="cc0000"/>
              </a:solidFill>
              <a:latin typeface="Arial"/>
            </a:endParaRPr>
          </a:p>
        </p:txBody>
      </p:sp>
      <p:sp>
        <p:nvSpPr>
          <p:cNvPr id="505"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2)</a:t>
            </a:r>
            <a:endParaRPr b="0" lang="en-US" sz="1200" spc="-1" strike="noStrike">
              <a:solidFill>
                <a:srgbClr val="003366"/>
              </a:solidFill>
              <a:latin typeface="Arial"/>
            </a:endParaRPr>
          </a:p>
        </p:txBody>
      </p:sp>
      <p:sp>
        <p:nvSpPr>
          <p:cNvPr id="506" name="object 4"/>
          <p:cNvSpPr/>
          <p:nvPr/>
        </p:nvSpPr>
        <p:spPr>
          <a:xfrm>
            <a:off x="385920" y="2309760"/>
            <a:ext cx="8505720" cy="343692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07" name="object 5"/>
          <p:cNvSpPr/>
          <p:nvPr/>
        </p:nvSpPr>
        <p:spPr>
          <a:xfrm>
            <a:off x="179280" y="1197000"/>
            <a:ext cx="3429000" cy="3481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PFL, privatized in 1997</a:t>
            </a:r>
            <a:endParaRPr b="0" lang="en-US" sz="2200" spc="-1" strike="noStrike">
              <a:solidFill>
                <a:srgbClr val="003366"/>
              </a:solidFill>
              <a:latin typeface="Arial"/>
            </a:endParaRPr>
          </a:p>
        </p:txBody>
      </p:sp>
      <p:sp>
        <p:nvSpPr>
          <p:cNvPr id="508" name="object 6"/>
          <p:cNvSpPr/>
          <p:nvPr/>
        </p:nvSpPr>
        <p:spPr>
          <a:xfrm>
            <a:off x="7758000" y="4038480"/>
            <a:ext cx="1185840" cy="533520"/>
          </a:xfrm>
          <a:custGeom>
            <a:avLst/>
            <a:gdLst/>
            <a:ahLst/>
            <a:rect l="l" t="t" r="r" b="b"/>
            <a:pathLst>
              <a:path w="1186179" h="533400">
                <a:moveTo>
                  <a:pt x="0" y="533400"/>
                </a:moveTo>
                <a:lnTo>
                  <a:pt x="1185672" y="533400"/>
                </a:lnTo>
                <a:lnTo>
                  <a:pt x="1185672" y="0"/>
                </a:lnTo>
                <a:lnTo>
                  <a:pt x="0" y="0"/>
                </a:lnTo>
                <a:lnTo>
                  <a:pt x="0" y="5334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09" name="object 7"/>
          <p:cNvSpPr/>
          <p:nvPr/>
        </p:nvSpPr>
        <p:spPr>
          <a:xfrm>
            <a:off x="7837560" y="3419640"/>
            <a:ext cx="78588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EBIT [BRL]</a:t>
            </a:r>
            <a:endParaRPr b="0" lang="en-US" sz="1200" spc="-1" strike="noStrike">
              <a:solidFill>
                <a:srgbClr val="003366"/>
              </a:solidFill>
              <a:latin typeface="Arial"/>
            </a:endParaRPr>
          </a:p>
        </p:txBody>
      </p:sp>
      <p:sp>
        <p:nvSpPr>
          <p:cNvPr id="510" name="object 8"/>
          <p:cNvSpPr/>
          <p:nvPr/>
        </p:nvSpPr>
        <p:spPr>
          <a:xfrm>
            <a:off x="7758000" y="4648320"/>
            <a:ext cx="1185840" cy="533160"/>
          </a:xfrm>
          <a:custGeom>
            <a:avLst/>
            <a:gdLst/>
            <a:ahLst/>
            <a:rect l="l" t="t" r="r" b="b"/>
            <a:pathLst>
              <a:path w="1186179" h="533400">
                <a:moveTo>
                  <a:pt x="0" y="533400"/>
                </a:moveTo>
                <a:lnTo>
                  <a:pt x="1185672" y="533400"/>
                </a:lnTo>
                <a:lnTo>
                  <a:pt x="1185672" y="0"/>
                </a:lnTo>
                <a:lnTo>
                  <a:pt x="0" y="0"/>
                </a:lnTo>
                <a:lnTo>
                  <a:pt x="0" y="533400"/>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11" name="object 9"/>
          <p:cNvSpPr/>
          <p:nvPr/>
        </p:nvSpPr>
        <p:spPr>
          <a:xfrm>
            <a:off x="7837560" y="4067280"/>
            <a:ext cx="930240" cy="9896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Net revenues  [BRL]</a:t>
            </a:r>
            <a:endParaRPr b="0" lang="en-US" sz="12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Arial"/>
              </a:rPr>
              <a:t>EBIT margin  [BRL]</a:t>
            </a:r>
            <a:endParaRPr b="0" lang="en-US" sz="1200" spc="-1" strike="noStrike">
              <a:solidFill>
                <a:srgbClr val="003366"/>
              </a:solidFill>
              <a:latin typeface="Arial"/>
            </a:endParaRPr>
          </a:p>
        </p:txBody>
      </p:sp>
      <p:sp>
        <p:nvSpPr>
          <p:cNvPr id="512" name="object 10"/>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13" name="object 11"/>
          <p:cNvSpPr/>
          <p:nvPr/>
        </p:nvSpPr>
        <p:spPr>
          <a:xfrm>
            <a:off x="25560" y="6566040"/>
            <a:ext cx="304560" cy="284040"/>
          </a:xfrm>
          <a:custGeom>
            <a:avLst/>
            <a:gdLst/>
            <a:ahLst/>
            <a:rect l="l" t="t" r="r" b="b"/>
            <a:pathLst>
              <a:path w="304800" h="284479">
                <a:moveTo>
                  <a:pt x="152400" y="0"/>
                </a:moveTo>
                <a:lnTo>
                  <a:pt x="104229" y="7245"/>
                </a:lnTo>
                <a:lnTo>
                  <a:pt x="62394" y="27419"/>
                </a:lnTo>
                <a:lnTo>
                  <a:pt x="29404" y="58183"/>
                </a:lnTo>
                <a:lnTo>
                  <a:pt x="7769" y="97194"/>
                </a:lnTo>
                <a:lnTo>
                  <a:pt x="0" y="142113"/>
                </a:lnTo>
                <a:lnTo>
                  <a:pt x="7769" y="187031"/>
                </a:lnTo>
                <a:lnTo>
                  <a:pt x="29404" y="226042"/>
                </a:lnTo>
                <a:lnTo>
                  <a:pt x="62394" y="256805"/>
                </a:lnTo>
                <a:lnTo>
                  <a:pt x="104229" y="276980"/>
                </a:lnTo>
                <a:lnTo>
                  <a:pt x="152400" y="284225"/>
                </a:lnTo>
                <a:lnTo>
                  <a:pt x="200568" y="276980"/>
                </a:lnTo>
                <a:lnTo>
                  <a:pt x="242403" y="256805"/>
                </a:lnTo>
                <a:lnTo>
                  <a:pt x="275394" y="226042"/>
                </a:lnTo>
                <a:lnTo>
                  <a:pt x="297030" y="187031"/>
                </a:lnTo>
                <a:lnTo>
                  <a:pt x="304800" y="142113"/>
                </a:lnTo>
                <a:lnTo>
                  <a:pt x="297030" y="97194"/>
                </a:lnTo>
                <a:lnTo>
                  <a:pt x="275394" y="58183"/>
                </a:lnTo>
                <a:lnTo>
                  <a:pt x="242403" y="27419"/>
                </a:lnTo>
                <a:lnTo>
                  <a:pt x="200568" y="7245"/>
                </a:lnTo>
                <a:lnTo>
                  <a:pt x="152400" y="0"/>
                </a:lnTo>
                <a:close/>
              </a:path>
            </a:pathLst>
          </a:custGeom>
          <a:solidFill>
            <a:srgbClr val="6b6bc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14" name="object 12"/>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9717-683A-4D21-8F67-912198DAAE2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149400"/>
            <a:ext cx="66772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institutional organization</a:t>
            </a:r>
            <a:endParaRPr b="1" lang="en-US" sz="2400" spc="-1" strike="noStrike">
              <a:solidFill>
                <a:srgbClr val="cc0000"/>
              </a:solidFill>
              <a:latin typeface="Arial"/>
            </a:endParaRPr>
          </a:p>
        </p:txBody>
      </p:sp>
      <p:sp>
        <p:nvSpPr>
          <p:cNvPr id="516" name="object 3"/>
          <p:cNvSpPr/>
          <p:nvPr/>
        </p:nvSpPr>
        <p:spPr>
          <a:xfrm>
            <a:off x="152280" y="1249200"/>
            <a:ext cx="8483760" cy="49194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Ministry of Mines and Energy retained policy-making attributions</a:t>
            </a:r>
            <a:endParaRPr b="0" lang="en-US" sz="2200" spc="-1" strike="noStrike">
              <a:solidFill>
                <a:srgbClr val="003366"/>
              </a:solidFill>
              <a:latin typeface="Arial"/>
            </a:endParaRPr>
          </a:p>
          <a:p>
            <a:pPr marL="12600">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reation of regulator: ANEEL</a:t>
            </a:r>
            <a:endParaRPr b="0" lang="en-US" sz="2200" spc="-1" strike="noStrike">
              <a:solidFill>
                <a:srgbClr val="003366"/>
              </a:solidFill>
              <a:latin typeface="Arial"/>
            </a:endParaRPr>
          </a:p>
          <a:p>
            <a:pPr marL="12600">
              <a:spcBef>
                <a:spcPts val="1488"/>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Incentive-based regulation for distribution established.</a:t>
            </a:r>
            <a:endParaRPr b="0" lang="en-US" sz="2000" spc="-1" strike="noStrike">
              <a:solidFill>
                <a:srgbClr val="003366"/>
              </a:solidFill>
              <a:latin typeface="Arial"/>
            </a:endParaRPr>
          </a:p>
          <a:p>
            <a:pPr marL="12600">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reation of independent system operator (ISO): ONS (not a TSO)</a:t>
            </a:r>
            <a:endParaRPr b="0" lang="en-US" sz="2200" spc="-1" strike="noStrike">
              <a:solidFill>
                <a:srgbClr val="003366"/>
              </a:solidFill>
              <a:latin typeface="Arial"/>
            </a:endParaRPr>
          </a:p>
          <a:p>
            <a:pPr marL="12600">
              <a:spcBef>
                <a:spcPts val="147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Open access to electricity grid managed by ONS</a:t>
            </a:r>
            <a:endParaRPr b="0" lang="en-US" sz="2000" spc="-1" strike="noStrike">
              <a:solidFill>
                <a:srgbClr val="003366"/>
              </a:solidFill>
              <a:latin typeface="Arial"/>
            </a:endParaRPr>
          </a:p>
          <a:p>
            <a:pPr marL="1260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Establishment of wholesale market (MAE </a:t>
            </a:r>
            <a:r>
              <a:rPr b="0" lang="en-US" sz="2200" spc="-1" strike="noStrike">
                <a:solidFill>
                  <a:srgbClr val="042745"/>
                </a:solidFill>
                <a:latin typeface="Wingdings"/>
                <a:ea typeface="Wingdings"/>
              </a:rPr>
              <a:t></a:t>
            </a:r>
            <a:r>
              <a:rPr b="0" lang="en-US" sz="2200" spc="-1" strike="noStrike">
                <a:solidFill>
                  <a:srgbClr val="042745"/>
                </a:solidFill>
                <a:latin typeface="Times New Roman"/>
                <a:ea typeface="Times New Roman"/>
              </a:rPr>
              <a:t> </a:t>
            </a:r>
            <a:r>
              <a:rPr b="0" lang="en-US" sz="2200" spc="-1" strike="noStrike">
                <a:solidFill>
                  <a:srgbClr val="042745"/>
                </a:solidFill>
                <a:latin typeface="Arial"/>
                <a:ea typeface="Arial"/>
              </a:rPr>
              <a:t>later CCEE)</a:t>
            </a:r>
            <a:endParaRPr b="0" lang="en-US" sz="2200" spc="-1" strike="noStrike">
              <a:solidFill>
                <a:srgbClr val="003366"/>
              </a:solidFill>
              <a:latin typeface="Arial"/>
            </a:endParaRPr>
          </a:p>
          <a:p>
            <a:pPr marL="12600">
              <a:lnSpc>
                <a:spcPct val="14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The National Council of Energy Policy (CNPE) had formal  competence to carry out indicative planning:</a:t>
            </a:r>
            <a:endParaRPr b="0" lang="en-US" sz="2200" spc="-1" strike="noStrike">
              <a:solidFill>
                <a:srgbClr val="003366"/>
              </a:solidFill>
              <a:latin typeface="Arial"/>
            </a:endParaRPr>
          </a:p>
          <a:p>
            <a:pPr marL="12600">
              <a:spcBef>
                <a:spcPts val="1488"/>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In practice, </a:t>
            </a:r>
            <a:r>
              <a:rPr b="0" i="1" lang="en-US" sz="2000" spc="-1" strike="noStrike">
                <a:solidFill>
                  <a:srgbClr val="042745"/>
                </a:solidFill>
                <a:latin typeface="Arial"/>
                <a:ea typeface="Arial"/>
              </a:rPr>
              <a:t>it didn’t do so </a:t>
            </a:r>
            <a:r>
              <a:rPr b="0" lang="en-US" sz="2000" spc="-1" strike="noStrike">
                <a:solidFill>
                  <a:srgbClr val="042745"/>
                </a:solidFill>
                <a:latin typeface="Arial"/>
                <a:ea typeface="Arial"/>
              </a:rPr>
              <a:t>(cabinet-level board, limited technical staff)</a:t>
            </a:r>
            <a:endParaRPr b="0" lang="en-US" sz="2000" spc="-1" strike="noStrike">
              <a:solidFill>
                <a:srgbClr val="003366"/>
              </a:solidFill>
              <a:latin typeface="Arial"/>
            </a:endParaRPr>
          </a:p>
          <a:p>
            <a:pPr marL="12600">
              <a:spcBef>
                <a:spcPts val="1437"/>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Lack of formal instruments to guide market-based system expansion</a:t>
            </a:r>
            <a:endParaRPr b="0" lang="en-US" sz="2000" spc="-1" strike="noStrike">
              <a:solidFill>
                <a:srgbClr val="003366"/>
              </a:solidFill>
              <a:latin typeface="Arial"/>
            </a:endParaRPr>
          </a:p>
        </p:txBody>
      </p:sp>
      <p:sp>
        <p:nvSpPr>
          <p:cNvPr id="517"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18"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3DAF-D4F1-42EE-8ED1-13A50BDE15E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1920" y="149400"/>
            <a:ext cx="825660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competition and capital attraction</a:t>
            </a:r>
            <a:endParaRPr b="1" lang="en-US" sz="2400" spc="-1" strike="noStrike">
              <a:solidFill>
                <a:srgbClr val="cc0000"/>
              </a:solidFill>
              <a:latin typeface="Arial"/>
            </a:endParaRPr>
          </a:p>
        </p:txBody>
      </p:sp>
      <p:sp>
        <p:nvSpPr>
          <p:cNvPr id="520" name="object 3"/>
          <p:cNvSpPr/>
          <p:nvPr/>
        </p:nvSpPr>
        <p:spPr>
          <a:xfrm>
            <a:off x="152280" y="968400"/>
            <a:ext cx="8793360" cy="5248440"/>
          </a:xfrm>
          <a:prstGeom prst="rect">
            <a:avLst/>
          </a:prstGeom>
          <a:noFill/>
          <a:ln w="0">
            <a:noFill/>
          </a:ln>
        </p:spPr>
        <p:style>
          <a:lnRef idx="0"/>
          <a:fillRef idx="0"/>
          <a:effectRef idx="0"/>
          <a:fontRef idx="minor"/>
        </p:style>
        <p:txBody>
          <a:bodyPr lIns="0" rIns="0" tIns="12600" bIns="0" anchor="t">
            <a:spAutoFit/>
          </a:bodyPr>
          <a:p>
            <a:pPr marL="355680" indent="-343080">
              <a:lnSpc>
                <a:spcPct val="14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Spot prices and contracts freely negotiated in the market as sole signals  to attract investments in generation capacity additions:</a:t>
            </a:r>
            <a:endParaRPr b="0" lang="en-US" sz="2000" spc="-1" strike="noStrike">
              <a:solidFill>
                <a:srgbClr val="003366"/>
              </a:solidFill>
              <a:latin typeface="Arial"/>
            </a:endParaRPr>
          </a:p>
          <a:p>
            <a:pPr marL="355680" indent="-343080">
              <a:lnSpc>
                <a:spcPct val="140000"/>
              </a:lnSpc>
              <a:spcBef>
                <a:spcPts val="476"/>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ain assumption: signals from spot prices would suffice  to attract investments in new capacity.</a:t>
            </a:r>
            <a:endParaRPr b="0" lang="en-US" sz="1900" spc="-1" strike="noStrike">
              <a:solidFill>
                <a:srgbClr val="003366"/>
              </a:solidFill>
              <a:latin typeface="Arial"/>
            </a:endParaRPr>
          </a:p>
          <a:p>
            <a:pPr marL="355680" indent="-343080">
              <a:spcBef>
                <a:spcPts val="13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Lack of support by long-term contracts:</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Discos were free to negotiate supply contracts.</a:t>
            </a:r>
            <a:endParaRPr b="0" lang="en-US" sz="1900" spc="-1" strike="noStrike">
              <a:solidFill>
                <a:srgbClr val="003366"/>
              </a:solidFill>
              <a:latin typeface="Arial"/>
            </a:endParaRPr>
          </a:p>
          <a:p>
            <a:pPr lvl="2" marL="1612800" indent="-228600">
              <a:spcBef>
                <a:spcPts val="1261"/>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Obligation to be 85% contracted, but terms (duration and lead times)</a:t>
            </a:r>
            <a:endParaRPr b="0" lang="en-US" sz="1700" spc="-1" strike="noStrike">
              <a:solidFill>
                <a:srgbClr val="003366"/>
              </a:solidFill>
              <a:latin typeface="Arial"/>
            </a:endParaRPr>
          </a:p>
          <a:p>
            <a:pPr marL="355680" indent="-343080">
              <a:spcBef>
                <a:spcPts val="8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often not conductive to new investments.</a:t>
            </a:r>
            <a:endParaRPr b="0" lang="en-US" sz="1700" spc="-1" strike="noStrike">
              <a:solidFill>
                <a:srgbClr val="003366"/>
              </a:solidFill>
              <a:latin typeface="Arial"/>
            </a:endParaRPr>
          </a:p>
          <a:p>
            <a:pPr lvl="2" marL="1612800" indent="-228600">
              <a:spcBef>
                <a:spcPts val="122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But self-dealing allowed up to 30%, as already seen.</a:t>
            </a:r>
            <a:endParaRPr b="0" lang="en-US" sz="1700" spc="-1" strike="noStrike">
              <a:solidFill>
                <a:srgbClr val="003366"/>
              </a:solidFill>
              <a:latin typeface="Arial"/>
            </a:endParaRPr>
          </a:p>
          <a:p>
            <a:pPr marL="355680" indent="-343080">
              <a:spcBef>
                <a:spcPts val="132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Hesitation to invest:</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In thermal capacity: price/dispatch volatility in hydro-dominated system.</a:t>
            </a:r>
            <a:endParaRPr b="0" lang="en-US" sz="1900" spc="-1" strike="noStrike">
              <a:solidFill>
                <a:srgbClr val="003366"/>
              </a:solidFill>
              <a:latin typeface="Arial"/>
            </a:endParaRPr>
          </a:p>
          <a:p>
            <a:pPr lvl="1" marL="1155600" indent="-228600">
              <a:spcBef>
                <a:spcPts val="1375"/>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In hydro capacity: limited support to capital-intensive technologies.</a:t>
            </a:r>
            <a:endParaRPr b="0" lang="en-US" sz="1900" spc="-1" strike="noStrike">
              <a:solidFill>
                <a:srgbClr val="003366"/>
              </a:solidFill>
              <a:latin typeface="Arial"/>
            </a:endParaRPr>
          </a:p>
        </p:txBody>
      </p:sp>
      <p:sp>
        <p:nvSpPr>
          <p:cNvPr id="521"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22"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38DB-75B7-453D-BB8E-7D85418AA7F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149400"/>
            <a:ext cx="75121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luggish investments &amp; crisis</a:t>
            </a:r>
            <a:endParaRPr b="1" lang="en-US" sz="2400" spc="-1" strike="noStrike">
              <a:solidFill>
                <a:srgbClr val="cc0000"/>
              </a:solidFill>
              <a:latin typeface="Arial"/>
            </a:endParaRPr>
          </a:p>
        </p:txBody>
      </p:sp>
      <p:sp>
        <p:nvSpPr>
          <p:cNvPr id="524" name="object 3"/>
          <p:cNvSpPr/>
          <p:nvPr/>
        </p:nvSpPr>
        <p:spPr>
          <a:xfrm>
            <a:off x="152280" y="1197000"/>
            <a:ext cx="8686800" cy="138996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There was increased efficiency in implementation of generation:</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nstruction costs reduced by 30% for the more than 10 GW licensed.</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nstruction times reduced from 6-8 years to 4 years.</a:t>
            </a:r>
            <a:endParaRPr b="0" lang="en-US" sz="2000" spc="-1" strike="noStrike">
              <a:solidFill>
                <a:srgbClr val="003366"/>
              </a:solidFill>
              <a:latin typeface="Arial"/>
            </a:endParaRPr>
          </a:p>
        </p:txBody>
      </p:sp>
      <p:sp>
        <p:nvSpPr>
          <p:cNvPr id="525" name="object 4"/>
          <p:cNvSpPr/>
          <p:nvPr/>
        </p:nvSpPr>
        <p:spPr>
          <a:xfrm>
            <a:off x="152280" y="3206880"/>
            <a:ext cx="2355840" cy="2023920"/>
          </a:xfrm>
          <a:prstGeom prst="rect">
            <a:avLst/>
          </a:prstGeom>
          <a:noFill/>
          <a:ln w="0">
            <a:noFill/>
          </a:ln>
        </p:spPr>
        <p:style>
          <a:lnRef idx="0"/>
          <a:fillRef idx="0"/>
          <a:effectRef idx="0"/>
          <a:fontRef idx="minor"/>
        </p:style>
        <p:txBody>
          <a:bodyPr lIns="0" rIns="0" tIns="12600" bIns="0" anchor="t">
            <a:spAutoFit/>
          </a:bodyPr>
          <a:p>
            <a:pPr marL="355680" indent="-343080">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But the pace  of investments  lagged behind</a:t>
            </a:r>
            <a:endParaRPr b="0" lang="en-US" sz="2200" spc="-1" strike="noStrike">
              <a:solidFill>
                <a:srgbClr val="003366"/>
              </a:solidFill>
              <a:latin typeface="Arial"/>
            </a:endParaRPr>
          </a:p>
          <a:p>
            <a:pPr marL="355680" indent="-343080">
              <a:spcBef>
                <a:spcPts val="1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2745"/>
                </a:solidFill>
                <a:latin typeface="Arial"/>
                <a:ea typeface="Arial"/>
              </a:rPr>
              <a:t>Brazilian needs:</a:t>
            </a:r>
            <a:endParaRPr b="0" lang="en-US" sz="2200" spc="-1" strike="noStrike">
              <a:solidFill>
                <a:srgbClr val="003366"/>
              </a:solidFill>
              <a:latin typeface="Arial"/>
            </a:endParaRPr>
          </a:p>
        </p:txBody>
      </p:sp>
      <p:sp>
        <p:nvSpPr>
          <p:cNvPr id="526" name="object 5"/>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1/3)</a:t>
            </a:r>
            <a:endParaRPr b="0" lang="en-US" sz="1200" spc="-1" strike="noStrike">
              <a:solidFill>
                <a:srgbClr val="003366"/>
              </a:solidFill>
              <a:latin typeface="Arial"/>
            </a:endParaRPr>
          </a:p>
        </p:txBody>
      </p:sp>
      <p:sp>
        <p:nvSpPr>
          <p:cNvPr id="527" name="object 6"/>
          <p:cNvSpPr/>
          <p:nvPr/>
        </p:nvSpPr>
        <p:spPr>
          <a:xfrm>
            <a:off x="3186000" y="3193920"/>
            <a:ext cx="5615280" cy="30416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28" name="object 7"/>
          <p:cNvSpPr/>
          <p:nvPr/>
        </p:nvSpPr>
        <p:spPr>
          <a:xfrm>
            <a:off x="4835520" y="4834080"/>
            <a:ext cx="1177920" cy="378000"/>
          </a:xfrm>
          <a:prstGeom prst="rect">
            <a:avLst/>
          </a:prstGeom>
          <a:noFill/>
          <a:ln w="0">
            <a:noFill/>
          </a:ln>
        </p:spPr>
        <p:style>
          <a:lnRef idx="0"/>
          <a:fillRef idx="0"/>
          <a:effectRef idx="0"/>
          <a:fontRef idx="minor"/>
        </p:style>
        <p:txBody>
          <a:bodyPr lIns="0" rIns="0" tIns="12600" bIns="0" anchor="t">
            <a:spAutoFit/>
          </a:bodyPr>
          <a:p>
            <a:pPr marL="376200" indent="-3650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Low investment  levels</a:t>
            </a:r>
            <a:endParaRPr b="0" lang="en-US" sz="1200" spc="-1" strike="noStrike">
              <a:solidFill>
                <a:srgbClr val="003366"/>
              </a:solidFill>
              <a:latin typeface="Arial"/>
            </a:endParaRPr>
          </a:p>
        </p:txBody>
      </p:sp>
      <p:sp>
        <p:nvSpPr>
          <p:cNvPr id="529" name="object 8"/>
          <p:cNvSpPr/>
          <p:nvPr/>
        </p:nvSpPr>
        <p:spPr>
          <a:xfrm>
            <a:off x="7756560" y="3581280"/>
            <a:ext cx="1027080" cy="2048040"/>
          </a:xfrm>
          <a:custGeom>
            <a:avLst/>
            <a:gdLst/>
            <a:ahLst/>
            <a:rect l="l" t="t" r="r" b="b"/>
            <a:pathLst>
              <a:path w="1026795" h="2048510">
                <a:moveTo>
                  <a:pt x="513206" y="2048256"/>
                </a:moveTo>
                <a:lnTo>
                  <a:pt x="451170" y="2040851"/>
                </a:lnTo>
                <a:lnTo>
                  <a:pt x="391332" y="2019210"/>
                </a:lnTo>
                <a:lnTo>
                  <a:pt x="334121" y="1984189"/>
                </a:lnTo>
                <a:lnTo>
                  <a:pt x="279966" y="1936644"/>
                </a:lnTo>
                <a:lnTo>
                  <a:pt x="254169" y="1908443"/>
                </a:lnTo>
                <a:lnTo>
                  <a:pt x="229297" y="1877432"/>
                </a:lnTo>
                <a:lnTo>
                  <a:pt x="205403" y="1843718"/>
                </a:lnTo>
                <a:lnTo>
                  <a:pt x="182542" y="1807409"/>
                </a:lnTo>
                <a:lnTo>
                  <a:pt x="160767" y="1768612"/>
                </a:lnTo>
                <a:lnTo>
                  <a:pt x="140132" y="1727433"/>
                </a:lnTo>
                <a:lnTo>
                  <a:pt x="120690" y="1683980"/>
                </a:lnTo>
                <a:lnTo>
                  <a:pt x="102495" y="1638360"/>
                </a:lnTo>
                <a:lnTo>
                  <a:pt x="85601" y="1590679"/>
                </a:lnTo>
                <a:lnTo>
                  <a:pt x="70061" y="1541046"/>
                </a:lnTo>
                <a:lnTo>
                  <a:pt x="55929" y="1489566"/>
                </a:lnTo>
                <a:lnTo>
                  <a:pt x="43259" y="1436348"/>
                </a:lnTo>
                <a:lnTo>
                  <a:pt x="32104" y="1381498"/>
                </a:lnTo>
                <a:lnTo>
                  <a:pt x="22518" y="1325124"/>
                </a:lnTo>
                <a:lnTo>
                  <a:pt x="14554" y="1267331"/>
                </a:lnTo>
                <a:lnTo>
                  <a:pt x="8267" y="1208228"/>
                </a:lnTo>
                <a:lnTo>
                  <a:pt x="3710" y="1147922"/>
                </a:lnTo>
                <a:lnTo>
                  <a:pt x="936" y="1086519"/>
                </a:lnTo>
                <a:lnTo>
                  <a:pt x="0" y="1024127"/>
                </a:lnTo>
                <a:lnTo>
                  <a:pt x="936" y="961736"/>
                </a:lnTo>
                <a:lnTo>
                  <a:pt x="3710" y="900333"/>
                </a:lnTo>
                <a:lnTo>
                  <a:pt x="8267" y="840027"/>
                </a:lnTo>
                <a:lnTo>
                  <a:pt x="14554" y="780924"/>
                </a:lnTo>
                <a:lnTo>
                  <a:pt x="22518" y="723131"/>
                </a:lnTo>
                <a:lnTo>
                  <a:pt x="32104" y="666757"/>
                </a:lnTo>
                <a:lnTo>
                  <a:pt x="43259" y="611907"/>
                </a:lnTo>
                <a:lnTo>
                  <a:pt x="55929" y="558689"/>
                </a:lnTo>
                <a:lnTo>
                  <a:pt x="70061" y="507209"/>
                </a:lnTo>
                <a:lnTo>
                  <a:pt x="85601" y="457576"/>
                </a:lnTo>
                <a:lnTo>
                  <a:pt x="102495" y="409895"/>
                </a:lnTo>
                <a:lnTo>
                  <a:pt x="120690" y="364275"/>
                </a:lnTo>
                <a:lnTo>
                  <a:pt x="140132" y="320822"/>
                </a:lnTo>
                <a:lnTo>
                  <a:pt x="160767" y="279643"/>
                </a:lnTo>
                <a:lnTo>
                  <a:pt x="182542" y="240846"/>
                </a:lnTo>
                <a:lnTo>
                  <a:pt x="205403" y="204537"/>
                </a:lnTo>
                <a:lnTo>
                  <a:pt x="229297" y="170823"/>
                </a:lnTo>
                <a:lnTo>
                  <a:pt x="254169" y="139812"/>
                </a:lnTo>
                <a:lnTo>
                  <a:pt x="279966" y="111611"/>
                </a:lnTo>
                <a:lnTo>
                  <a:pt x="334121" y="64066"/>
                </a:lnTo>
                <a:lnTo>
                  <a:pt x="391332" y="29045"/>
                </a:lnTo>
                <a:lnTo>
                  <a:pt x="451170" y="7404"/>
                </a:lnTo>
                <a:lnTo>
                  <a:pt x="513206" y="0"/>
                </a:lnTo>
                <a:lnTo>
                  <a:pt x="544472" y="1868"/>
                </a:lnTo>
                <a:lnTo>
                  <a:pt x="605463" y="16498"/>
                </a:lnTo>
                <a:lnTo>
                  <a:pt x="664042" y="44936"/>
                </a:lnTo>
                <a:lnTo>
                  <a:pt x="719778" y="86327"/>
                </a:lnTo>
                <a:lnTo>
                  <a:pt x="772244" y="139812"/>
                </a:lnTo>
                <a:lnTo>
                  <a:pt x="797116" y="170823"/>
                </a:lnTo>
                <a:lnTo>
                  <a:pt x="821010" y="204537"/>
                </a:lnTo>
                <a:lnTo>
                  <a:pt x="843871" y="240846"/>
                </a:lnTo>
                <a:lnTo>
                  <a:pt x="865646" y="279643"/>
                </a:lnTo>
                <a:lnTo>
                  <a:pt x="886281" y="320822"/>
                </a:lnTo>
                <a:lnTo>
                  <a:pt x="905723" y="364275"/>
                </a:lnTo>
                <a:lnTo>
                  <a:pt x="923918" y="409895"/>
                </a:lnTo>
                <a:lnTo>
                  <a:pt x="940812" y="457576"/>
                </a:lnTo>
                <a:lnTo>
                  <a:pt x="956352" y="507209"/>
                </a:lnTo>
                <a:lnTo>
                  <a:pt x="970484" y="558689"/>
                </a:lnTo>
                <a:lnTo>
                  <a:pt x="983154" y="611907"/>
                </a:lnTo>
                <a:lnTo>
                  <a:pt x="994309" y="666757"/>
                </a:lnTo>
                <a:lnTo>
                  <a:pt x="1003895" y="723131"/>
                </a:lnTo>
                <a:lnTo>
                  <a:pt x="1011859" y="780924"/>
                </a:lnTo>
                <a:lnTo>
                  <a:pt x="1018146" y="840027"/>
                </a:lnTo>
                <a:lnTo>
                  <a:pt x="1022703" y="900333"/>
                </a:lnTo>
                <a:lnTo>
                  <a:pt x="1025477" y="961736"/>
                </a:lnTo>
                <a:lnTo>
                  <a:pt x="1026413" y="1024127"/>
                </a:lnTo>
                <a:lnTo>
                  <a:pt x="1025477" y="1086519"/>
                </a:lnTo>
                <a:lnTo>
                  <a:pt x="1022703" y="1147922"/>
                </a:lnTo>
                <a:lnTo>
                  <a:pt x="1018146" y="1208228"/>
                </a:lnTo>
                <a:lnTo>
                  <a:pt x="1011859" y="1267331"/>
                </a:lnTo>
                <a:lnTo>
                  <a:pt x="1003895" y="1325124"/>
                </a:lnTo>
                <a:lnTo>
                  <a:pt x="994309" y="1381498"/>
                </a:lnTo>
                <a:lnTo>
                  <a:pt x="983154" y="1436348"/>
                </a:lnTo>
                <a:lnTo>
                  <a:pt x="970484" y="1489566"/>
                </a:lnTo>
                <a:lnTo>
                  <a:pt x="956352" y="1541046"/>
                </a:lnTo>
                <a:lnTo>
                  <a:pt x="940812" y="1590679"/>
                </a:lnTo>
                <a:lnTo>
                  <a:pt x="923918" y="1638360"/>
                </a:lnTo>
                <a:lnTo>
                  <a:pt x="905723" y="1683980"/>
                </a:lnTo>
                <a:lnTo>
                  <a:pt x="886281" y="1727433"/>
                </a:lnTo>
                <a:lnTo>
                  <a:pt x="865646" y="1768612"/>
                </a:lnTo>
                <a:lnTo>
                  <a:pt x="843871" y="1807409"/>
                </a:lnTo>
                <a:lnTo>
                  <a:pt x="821010" y="1843718"/>
                </a:lnTo>
                <a:lnTo>
                  <a:pt x="797116" y="1877432"/>
                </a:lnTo>
                <a:lnTo>
                  <a:pt x="772244" y="1908443"/>
                </a:lnTo>
                <a:lnTo>
                  <a:pt x="746447" y="1936644"/>
                </a:lnTo>
                <a:lnTo>
                  <a:pt x="692292" y="1984189"/>
                </a:lnTo>
                <a:lnTo>
                  <a:pt x="635081" y="2019210"/>
                </a:lnTo>
                <a:lnTo>
                  <a:pt x="575243" y="2040851"/>
                </a:lnTo>
                <a:lnTo>
                  <a:pt x="513206" y="2048256"/>
                </a:lnTo>
                <a:close/>
              </a:path>
            </a:pathLst>
          </a:custGeom>
          <a:noFill/>
          <a:ln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30" name="object 9"/>
          <p:cNvSpPr/>
          <p:nvPr/>
        </p:nvSpPr>
        <p:spPr>
          <a:xfrm>
            <a:off x="4835520" y="3625920"/>
            <a:ext cx="2379600" cy="743040"/>
          </a:xfrm>
          <a:prstGeom prst="rect">
            <a:avLst/>
          </a:prstGeom>
          <a:noFill/>
          <a:ln w="0">
            <a:noFill/>
          </a:ln>
        </p:spPr>
        <p:style>
          <a:lnRef idx="0"/>
          <a:fillRef idx="0"/>
          <a:effectRef idx="0"/>
          <a:fontRef idx="minor"/>
        </p:style>
        <p:txBody>
          <a:bodyPr lIns="0" rIns="0" tIns="12600" bIns="0" anchor="t">
            <a:spAutoFit/>
          </a:bodyPr>
          <a:p>
            <a:pPr marL="1260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High thermal capacity increment  due to emergency Priority Plan  for Thermal Plants (already pre-  rationing emergency measure)</a:t>
            </a:r>
            <a:endParaRPr b="0" lang="en-US" sz="1200" spc="-1" strike="noStrike">
              <a:solidFill>
                <a:srgbClr val="003366"/>
              </a:solidFill>
              <a:latin typeface="Arial"/>
            </a:endParaRPr>
          </a:p>
        </p:txBody>
      </p:sp>
      <p:sp>
        <p:nvSpPr>
          <p:cNvPr id="531" name="object 10"/>
          <p:cNvSpPr/>
          <p:nvPr/>
        </p:nvSpPr>
        <p:spPr>
          <a:xfrm>
            <a:off x="7364520" y="3780000"/>
            <a:ext cx="393480" cy="276120"/>
          </a:xfrm>
          <a:custGeom>
            <a:avLst/>
            <a:gdLst/>
            <a:ahLst/>
            <a:rect l="l" t="t" r="r" b="b"/>
            <a:pathLst>
              <a:path w="392429" h="275589">
                <a:moveTo>
                  <a:pt x="198586" y="126492"/>
                </a:moveTo>
                <a:lnTo>
                  <a:pt x="185420" y="126492"/>
                </a:lnTo>
                <a:lnTo>
                  <a:pt x="185800" y="127507"/>
                </a:lnTo>
                <a:lnTo>
                  <a:pt x="188468" y="137159"/>
                </a:lnTo>
                <a:lnTo>
                  <a:pt x="189357" y="142112"/>
                </a:lnTo>
                <a:lnTo>
                  <a:pt x="189611" y="147827"/>
                </a:lnTo>
                <a:lnTo>
                  <a:pt x="189992" y="154177"/>
                </a:lnTo>
                <a:lnTo>
                  <a:pt x="207899" y="196214"/>
                </a:lnTo>
                <a:lnTo>
                  <a:pt x="240538" y="227456"/>
                </a:lnTo>
                <a:lnTo>
                  <a:pt x="284480" y="252475"/>
                </a:lnTo>
                <a:lnTo>
                  <a:pt x="336296" y="269113"/>
                </a:lnTo>
                <a:lnTo>
                  <a:pt x="391668" y="275208"/>
                </a:lnTo>
                <a:lnTo>
                  <a:pt x="392049" y="262636"/>
                </a:lnTo>
                <a:lnTo>
                  <a:pt x="373761" y="261874"/>
                </a:lnTo>
                <a:lnTo>
                  <a:pt x="355981" y="259842"/>
                </a:lnTo>
                <a:lnTo>
                  <a:pt x="304927" y="247014"/>
                </a:lnTo>
                <a:lnTo>
                  <a:pt x="260350" y="225425"/>
                </a:lnTo>
                <a:lnTo>
                  <a:pt x="226060" y="197993"/>
                </a:lnTo>
                <a:lnTo>
                  <a:pt x="206477" y="168401"/>
                </a:lnTo>
                <a:lnTo>
                  <a:pt x="205994" y="167386"/>
                </a:lnTo>
                <a:lnTo>
                  <a:pt x="203200" y="157099"/>
                </a:lnTo>
                <a:lnTo>
                  <a:pt x="202438" y="152273"/>
                </a:lnTo>
                <a:lnTo>
                  <a:pt x="202311" y="147193"/>
                </a:lnTo>
                <a:lnTo>
                  <a:pt x="201930" y="141477"/>
                </a:lnTo>
                <a:lnTo>
                  <a:pt x="201041" y="135127"/>
                </a:lnTo>
                <a:lnTo>
                  <a:pt x="198586" y="126492"/>
                </a:lnTo>
                <a:close/>
              </a:path>
              <a:path w="392429" h="275589">
                <a:moveTo>
                  <a:pt x="205994" y="167386"/>
                </a:moveTo>
                <a:lnTo>
                  <a:pt x="206375" y="168401"/>
                </a:lnTo>
                <a:lnTo>
                  <a:pt x="206227" y="167877"/>
                </a:lnTo>
                <a:lnTo>
                  <a:pt x="205994" y="167386"/>
                </a:lnTo>
                <a:close/>
              </a:path>
              <a:path w="392429" h="275589">
                <a:moveTo>
                  <a:pt x="206227" y="167877"/>
                </a:moveTo>
                <a:lnTo>
                  <a:pt x="206375" y="168401"/>
                </a:lnTo>
                <a:lnTo>
                  <a:pt x="206227" y="167877"/>
                </a:lnTo>
                <a:close/>
              </a:path>
              <a:path w="392429" h="275589">
                <a:moveTo>
                  <a:pt x="206089" y="167386"/>
                </a:moveTo>
                <a:lnTo>
                  <a:pt x="206227" y="167877"/>
                </a:lnTo>
                <a:lnTo>
                  <a:pt x="206089" y="167386"/>
                </a:lnTo>
                <a:close/>
              </a:path>
              <a:path w="392429" h="275589">
                <a:moveTo>
                  <a:pt x="185578" y="127047"/>
                </a:moveTo>
                <a:lnTo>
                  <a:pt x="185710" y="127507"/>
                </a:lnTo>
                <a:lnTo>
                  <a:pt x="185578" y="127047"/>
                </a:lnTo>
                <a:close/>
              </a:path>
              <a:path w="392429" h="275589">
                <a:moveTo>
                  <a:pt x="185420" y="126492"/>
                </a:moveTo>
                <a:lnTo>
                  <a:pt x="185578" y="127047"/>
                </a:lnTo>
                <a:lnTo>
                  <a:pt x="185800" y="127507"/>
                </a:lnTo>
                <a:lnTo>
                  <a:pt x="185420" y="126492"/>
                </a:lnTo>
                <a:close/>
              </a:path>
              <a:path w="392429" h="275589">
                <a:moveTo>
                  <a:pt x="86752" y="47984"/>
                </a:moveTo>
                <a:lnTo>
                  <a:pt x="131191" y="69342"/>
                </a:lnTo>
                <a:lnTo>
                  <a:pt x="165354" y="96519"/>
                </a:lnTo>
                <a:lnTo>
                  <a:pt x="185578" y="127047"/>
                </a:lnTo>
                <a:lnTo>
                  <a:pt x="185420" y="126492"/>
                </a:lnTo>
                <a:lnTo>
                  <a:pt x="198586" y="126492"/>
                </a:lnTo>
                <a:lnTo>
                  <a:pt x="197612" y="123062"/>
                </a:lnTo>
                <a:lnTo>
                  <a:pt x="197485" y="122427"/>
                </a:lnTo>
                <a:lnTo>
                  <a:pt x="197231" y="122046"/>
                </a:lnTo>
                <a:lnTo>
                  <a:pt x="191897" y="110998"/>
                </a:lnTo>
                <a:lnTo>
                  <a:pt x="184404" y="99440"/>
                </a:lnTo>
                <a:lnTo>
                  <a:pt x="151892" y="67944"/>
                </a:lnTo>
                <a:lnTo>
                  <a:pt x="119109" y="48132"/>
                </a:lnTo>
                <a:lnTo>
                  <a:pt x="87375" y="48132"/>
                </a:lnTo>
                <a:lnTo>
                  <a:pt x="86752" y="47984"/>
                </a:lnTo>
                <a:close/>
              </a:path>
              <a:path w="392429" h="275589">
                <a:moveTo>
                  <a:pt x="81153" y="0"/>
                </a:moveTo>
                <a:lnTo>
                  <a:pt x="0" y="26034"/>
                </a:lnTo>
                <a:lnTo>
                  <a:pt x="69596" y="75311"/>
                </a:lnTo>
                <a:lnTo>
                  <a:pt x="74248" y="44995"/>
                </a:lnTo>
                <a:lnTo>
                  <a:pt x="61341" y="41909"/>
                </a:lnTo>
                <a:lnTo>
                  <a:pt x="64262" y="29463"/>
                </a:lnTo>
                <a:lnTo>
                  <a:pt x="76631" y="29463"/>
                </a:lnTo>
                <a:lnTo>
                  <a:pt x="81153" y="0"/>
                </a:lnTo>
                <a:close/>
              </a:path>
              <a:path w="392429" h="275589">
                <a:moveTo>
                  <a:pt x="86487" y="47878"/>
                </a:moveTo>
                <a:lnTo>
                  <a:pt x="86752" y="47984"/>
                </a:lnTo>
                <a:lnTo>
                  <a:pt x="87375" y="48132"/>
                </a:lnTo>
                <a:lnTo>
                  <a:pt x="86487" y="47878"/>
                </a:lnTo>
                <a:close/>
              </a:path>
              <a:path w="392429" h="275589">
                <a:moveTo>
                  <a:pt x="118584" y="47878"/>
                </a:moveTo>
                <a:lnTo>
                  <a:pt x="86487" y="47878"/>
                </a:lnTo>
                <a:lnTo>
                  <a:pt x="87375" y="48132"/>
                </a:lnTo>
                <a:lnTo>
                  <a:pt x="119109" y="48132"/>
                </a:lnTo>
                <a:lnTo>
                  <a:pt x="118584" y="47878"/>
                </a:lnTo>
                <a:close/>
              </a:path>
              <a:path w="392429" h="275589">
                <a:moveTo>
                  <a:pt x="76185" y="32372"/>
                </a:moveTo>
                <a:lnTo>
                  <a:pt x="74248" y="44995"/>
                </a:lnTo>
                <a:lnTo>
                  <a:pt x="86752" y="47984"/>
                </a:lnTo>
                <a:lnTo>
                  <a:pt x="86487" y="47878"/>
                </a:lnTo>
                <a:lnTo>
                  <a:pt x="118584" y="47878"/>
                </a:lnTo>
                <a:lnTo>
                  <a:pt x="107823" y="42671"/>
                </a:lnTo>
                <a:lnTo>
                  <a:pt x="91186" y="36068"/>
                </a:lnTo>
                <a:lnTo>
                  <a:pt x="90678" y="35813"/>
                </a:lnTo>
                <a:lnTo>
                  <a:pt x="90297" y="35813"/>
                </a:lnTo>
                <a:lnTo>
                  <a:pt x="76185" y="32372"/>
                </a:lnTo>
                <a:close/>
              </a:path>
              <a:path w="392429" h="275589">
                <a:moveTo>
                  <a:pt x="64262" y="29463"/>
                </a:moveTo>
                <a:lnTo>
                  <a:pt x="61341" y="41909"/>
                </a:lnTo>
                <a:lnTo>
                  <a:pt x="74248" y="44995"/>
                </a:lnTo>
                <a:lnTo>
                  <a:pt x="76185" y="32372"/>
                </a:lnTo>
                <a:lnTo>
                  <a:pt x="64262" y="29463"/>
                </a:lnTo>
                <a:close/>
              </a:path>
              <a:path w="392429" h="275589">
                <a:moveTo>
                  <a:pt x="76631" y="29463"/>
                </a:moveTo>
                <a:lnTo>
                  <a:pt x="64262" y="29463"/>
                </a:lnTo>
                <a:lnTo>
                  <a:pt x="76185" y="32372"/>
                </a:lnTo>
                <a:lnTo>
                  <a:pt x="76631" y="29463"/>
                </a:lnTo>
                <a:close/>
              </a:path>
            </a:pathLst>
          </a:custGeom>
          <a:solidFill>
            <a:srgbClr val="40404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32" name="object 11"/>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33" name="object 12"/>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F38C-5B21-4229-9A07-B32FDD768D3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1920" y="149400"/>
            <a:ext cx="75121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luggish investments &amp; crisis</a:t>
            </a:r>
            <a:endParaRPr b="1" lang="en-US" sz="2400" spc="-1" strike="noStrike">
              <a:solidFill>
                <a:srgbClr val="cc0000"/>
              </a:solidFill>
              <a:latin typeface="Arial"/>
            </a:endParaRPr>
          </a:p>
        </p:txBody>
      </p:sp>
      <p:sp>
        <p:nvSpPr>
          <p:cNvPr id="535" name="object 3"/>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2/3)</a:t>
            </a:r>
            <a:endParaRPr b="0" lang="en-US" sz="1200" spc="-1" strike="noStrike">
              <a:solidFill>
                <a:srgbClr val="003366"/>
              </a:solidFill>
              <a:latin typeface="Arial"/>
            </a:endParaRPr>
          </a:p>
        </p:txBody>
      </p:sp>
      <p:sp>
        <p:nvSpPr>
          <p:cNvPr id="536" name="object 4"/>
          <p:cNvSpPr/>
          <p:nvPr/>
        </p:nvSpPr>
        <p:spPr>
          <a:xfrm>
            <a:off x="0" y="1822320"/>
            <a:ext cx="9144000" cy="186372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37" name="object 5"/>
          <p:cNvSpPr/>
          <p:nvPr/>
        </p:nvSpPr>
        <p:spPr>
          <a:xfrm>
            <a:off x="152280" y="1184400"/>
            <a:ext cx="5000760" cy="3481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Rationing: June/2001-February/2002:</a:t>
            </a:r>
            <a:endParaRPr b="0" lang="en-US" sz="2200" spc="-1" strike="noStrike">
              <a:solidFill>
                <a:srgbClr val="003366"/>
              </a:solidFill>
              <a:latin typeface="Arial"/>
            </a:endParaRPr>
          </a:p>
        </p:txBody>
      </p:sp>
      <p:sp>
        <p:nvSpPr>
          <p:cNvPr id="538" name="object 6"/>
          <p:cNvSpPr/>
          <p:nvPr/>
        </p:nvSpPr>
        <p:spPr>
          <a:xfrm>
            <a:off x="609480" y="4021200"/>
            <a:ext cx="7375680" cy="2175480"/>
          </a:xfrm>
          <a:prstGeom prst="rect">
            <a:avLst/>
          </a:prstGeom>
          <a:noFill/>
          <a:ln w="0">
            <a:noFill/>
          </a:ln>
        </p:spPr>
        <p:style>
          <a:lnRef idx="0"/>
          <a:fillRef idx="0"/>
          <a:effectRef idx="0"/>
          <a:fontRef idx="minor"/>
        </p:style>
        <p:txBody>
          <a:bodyPr lIns="0" rIns="0" tIns="12240" bIns="0" anchor="t">
            <a:spAutoFit/>
          </a:bodyPr>
          <a:p>
            <a:pPr marL="298440" indent="-285840">
              <a:spcBef>
                <a:spcPts val="99"/>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eduction of 20% of all electricity consumption for nine months</a:t>
            </a:r>
            <a:endParaRPr b="0" lang="en-US" sz="2000" spc="-1" strike="noStrike">
              <a:solidFill>
                <a:srgbClr val="003366"/>
              </a:solidFill>
              <a:latin typeface="Arial"/>
            </a:endParaRPr>
          </a:p>
          <a:p>
            <a:pPr marL="298440" indent="-285840">
              <a:spcBef>
                <a:spcPts val="1675"/>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ationing affected 80% of the population</a:t>
            </a:r>
            <a:endParaRPr b="0" lang="en-US" sz="2000" spc="-1" strike="noStrike">
              <a:solidFill>
                <a:srgbClr val="003366"/>
              </a:solidFill>
              <a:latin typeface="Arial"/>
            </a:endParaRPr>
          </a:p>
          <a:p>
            <a:pPr marL="298440" indent="-285840">
              <a:spcBef>
                <a:spcPts val="1675"/>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Direct economic losses: US$ 15 billion</a:t>
            </a:r>
            <a:endParaRPr b="0" lang="en-US" sz="2000" spc="-1" strike="noStrike">
              <a:solidFill>
                <a:srgbClr val="003366"/>
              </a:solidFill>
              <a:latin typeface="Arial"/>
            </a:endParaRPr>
          </a:p>
          <a:p>
            <a:pPr marL="298440" indent="-285840">
              <a:spcBef>
                <a:spcPts val="1675"/>
              </a:spcBef>
              <a:buClr>
                <a:srgbClr val="a39274"/>
              </a:buClr>
              <a:buFont typeface="Wingdings" charset="2"/>
              <a:buChar char=""/>
              <a:tabLst>
                <a:tab algn="l" pos="297000"/>
                <a:tab algn="l" pos="29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Decrease in GDP growth for three years</a:t>
            </a:r>
            <a:endParaRPr b="0" lang="en-US" sz="2000" spc="-1" strike="noStrike">
              <a:solidFill>
                <a:srgbClr val="003366"/>
              </a:solidFill>
              <a:latin typeface="Arial"/>
            </a:endParaRPr>
          </a:p>
        </p:txBody>
      </p:sp>
      <p:sp>
        <p:nvSpPr>
          <p:cNvPr id="539" name="object 7"/>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0" name="object 8"/>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D265-F3D2-4E45-A114-B8A5BF25AF5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1920" y="149400"/>
            <a:ext cx="751212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irst reform: sluggish investments &amp; crisis</a:t>
            </a:r>
            <a:endParaRPr b="1" lang="en-US" sz="2400" spc="-1" strike="noStrike">
              <a:solidFill>
                <a:srgbClr val="cc0000"/>
              </a:solidFill>
              <a:latin typeface="Arial"/>
            </a:endParaRPr>
          </a:p>
        </p:txBody>
      </p:sp>
      <p:sp>
        <p:nvSpPr>
          <p:cNvPr id="542" name="object 3"/>
          <p:cNvSpPr/>
          <p:nvPr/>
        </p:nvSpPr>
        <p:spPr>
          <a:xfrm>
            <a:off x="152280" y="1450800"/>
            <a:ext cx="8561520" cy="4101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Results of formal assessment by Investigation Committee</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Rationing was not caused by the privatization or creation of  wholesale market, but by failure to foresee institutional problems:</a:t>
            </a:r>
            <a:endParaRPr b="0" lang="en-US" sz="2000" spc="-1" strike="noStrike">
              <a:solidFill>
                <a:srgbClr val="003366"/>
              </a:solidFill>
              <a:latin typeface="Arial"/>
            </a:endParaRPr>
          </a:p>
          <a:p>
            <a:pPr lvl="1" marL="1155600" indent="-228600">
              <a:spcBef>
                <a:spcPts val="1675"/>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Unclear allocation of responsibilities to address security of supply.</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Market design had flaws that would make the power system  vulnerable to rationings in the future:</a:t>
            </a:r>
            <a:endParaRPr b="0" lang="en-US" sz="2000" spc="-1" strike="noStrike">
              <a:solidFill>
                <a:srgbClr val="003366"/>
              </a:solidFill>
              <a:latin typeface="Arial"/>
            </a:endParaRPr>
          </a:p>
          <a:p>
            <a:pPr lvl="1" marL="1155600" indent="-228600">
              <a:lnSpc>
                <a:spcPct val="150000"/>
              </a:lnSpc>
              <a:spcBef>
                <a:spcPts val="476"/>
              </a:spcBef>
              <a:buClr>
                <a:srgbClr val="a392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Basically, economic signals from spot markets alone would not  ensure installation of new generation capacity</a:t>
            </a:r>
            <a:endParaRPr b="0" lang="en-US" sz="2000" spc="-1" strike="noStrike">
              <a:solidFill>
                <a:srgbClr val="003366"/>
              </a:solidFill>
              <a:latin typeface="Arial"/>
            </a:endParaRPr>
          </a:p>
        </p:txBody>
      </p:sp>
      <p:sp>
        <p:nvSpPr>
          <p:cNvPr id="543" name="object 4"/>
          <p:cNvSpPr/>
          <p:nvPr/>
        </p:nvSpPr>
        <p:spPr>
          <a:xfrm>
            <a:off x="8691480" y="587520"/>
            <a:ext cx="33984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3/3)</a:t>
            </a:r>
            <a:endParaRPr b="0" lang="en-US" sz="1200" spc="-1" strike="noStrike">
              <a:solidFill>
                <a:srgbClr val="003366"/>
              </a:solidFill>
              <a:latin typeface="Arial"/>
            </a:endParaRPr>
          </a:p>
        </p:txBody>
      </p:sp>
      <p:sp>
        <p:nvSpPr>
          <p:cNvPr id="544" name="object 5"/>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5" name="object 6"/>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940D-7354-4BDC-A288-077D2D2CFA7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547" name="object 3"/>
          <p:cNvSpPr/>
          <p:nvPr/>
        </p:nvSpPr>
        <p:spPr>
          <a:xfrm>
            <a:off x="152280" y="1198440"/>
            <a:ext cx="8048880" cy="36644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capital attraction to infrastructure (Latin America)</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hronology of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Experience of countries: Brazil</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bebe"/>
                </a:solidFill>
                <a:latin typeface="Arial"/>
                <a:ea typeface="Arial"/>
              </a:rPr>
              <a:t>First reform</a:t>
            </a:r>
            <a:endParaRPr b="0" lang="en-US" sz="2000" spc="-1" strike="noStrike">
              <a:solidFill>
                <a:srgbClr val="003366"/>
              </a:solidFill>
              <a:latin typeface="Arial"/>
            </a:endParaRPr>
          </a:p>
          <a:p>
            <a:pPr marL="12600">
              <a:spcBef>
                <a:spcPts val="1675"/>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Second reform</a:t>
            </a:r>
            <a:endParaRPr b="0" lang="en-US" sz="2000" spc="-1" strike="noStrike">
              <a:solidFill>
                <a:srgbClr val="003366"/>
              </a:solidFill>
              <a:latin typeface="Arial"/>
            </a:endParaRPr>
          </a:p>
          <a:p>
            <a:pPr marL="1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
        <p:nvSpPr>
          <p:cNvPr id="548"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49"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0A72-BA28-43B8-A98F-29BBDBBCF59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80" y="149400"/>
            <a:ext cx="69040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back to drawing board</a:t>
            </a:r>
            <a:endParaRPr b="1" lang="en-US" sz="2400" spc="-1" strike="noStrike">
              <a:solidFill>
                <a:srgbClr val="cc0000"/>
              </a:solidFill>
              <a:latin typeface="Arial"/>
            </a:endParaRPr>
          </a:p>
        </p:txBody>
      </p:sp>
      <p:sp>
        <p:nvSpPr>
          <p:cNvPr id="551" name="object 3"/>
          <p:cNvSpPr/>
          <p:nvPr/>
        </p:nvSpPr>
        <p:spPr>
          <a:xfrm>
            <a:off x="152280" y="1096920"/>
            <a:ext cx="8607600" cy="51436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a:t>
            </a:r>
            <a:r>
              <a:rPr b="0" lang="en-US" sz="2200" spc="-1" strike="noStrike">
                <a:solidFill>
                  <a:srgbClr val="042745"/>
                </a:solidFill>
                <a:latin typeface="Arial"/>
                <a:ea typeface="Arial"/>
              </a:rPr>
              <a:t>New model” introduced in 2004.</a:t>
            </a:r>
            <a:endParaRPr b="0" lang="en-US" sz="2200" spc="-1" strike="noStrike">
              <a:solidFill>
                <a:srgbClr val="003366"/>
              </a:solidFill>
              <a:latin typeface="Arial"/>
            </a:endParaRPr>
          </a:p>
          <a:p>
            <a:pPr marL="12600">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lear allocation of responsibilities for planning:</a:t>
            </a:r>
            <a:endParaRPr b="0" lang="en-US" sz="2200" spc="-1" strike="noStrike">
              <a:solidFill>
                <a:srgbClr val="003366"/>
              </a:solidFill>
              <a:latin typeface="Arial"/>
            </a:endParaRPr>
          </a:p>
          <a:p>
            <a:pPr marL="12600">
              <a:spcBef>
                <a:spcPts val="1488"/>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reation of Energy Planning Company (EPE)</a:t>
            </a:r>
            <a:endParaRPr b="0" lang="en-US" sz="2000" spc="-1" strike="noStrike">
              <a:solidFill>
                <a:srgbClr val="003366"/>
              </a:solidFill>
              <a:latin typeface="Arial"/>
            </a:endParaRPr>
          </a:p>
          <a:p>
            <a:pPr marL="12600">
              <a:spcBef>
                <a:spcPts val="1437"/>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larification of roles of other entities (CMSE, CNPE)</a:t>
            </a:r>
            <a:endParaRPr b="0" lang="en-US" sz="2000" spc="-1" strike="noStrike">
              <a:solidFill>
                <a:srgbClr val="003366"/>
              </a:solidFill>
              <a:latin typeface="Arial"/>
            </a:endParaRPr>
          </a:p>
          <a:p>
            <a:pPr marL="12600">
              <a:lnSpc>
                <a:spcPct val="14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Implementation of auction scheme with mechanisms for government  guidance of market-based generation system expansion</a:t>
            </a:r>
            <a:endParaRPr b="0" lang="en-US" sz="2000" spc="-1" strike="noStrike">
              <a:solidFill>
                <a:srgbClr val="003366"/>
              </a:solidFill>
              <a:latin typeface="Arial"/>
            </a:endParaRPr>
          </a:p>
          <a:p>
            <a:pPr marL="12600">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Attracting investments in new generation capacity:</a:t>
            </a:r>
            <a:endParaRPr b="0" lang="en-US" sz="2200" spc="-1" strike="noStrike">
              <a:solidFill>
                <a:srgbClr val="003366"/>
              </a:solidFill>
              <a:latin typeface="Arial"/>
            </a:endParaRPr>
          </a:p>
          <a:p>
            <a:pPr marL="12600">
              <a:lnSpc>
                <a:spcPct val="14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Consolidation of demand for long-term financial supply contracts  (mandatory coverage of demand)</a:t>
            </a:r>
            <a:endParaRPr b="0" lang="en-US" sz="2000" spc="-1" strike="noStrike">
              <a:solidFill>
                <a:srgbClr val="003366"/>
              </a:solidFill>
              <a:latin typeface="Arial"/>
            </a:endParaRPr>
          </a:p>
          <a:p>
            <a:pPr marL="12600">
              <a:lnSpc>
                <a:spcPct val="14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Auctions for new long-term contracts as main means of attracting new  generation capacity</a:t>
            </a:r>
            <a:endParaRPr b="0" lang="en-US" sz="2000" spc="-1" strike="noStrike">
              <a:solidFill>
                <a:srgbClr val="003366"/>
              </a:solidFill>
              <a:latin typeface="Arial"/>
            </a:endParaRPr>
          </a:p>
        </p:txBody>
      </p:sp>
      <p:sp>
        <p:nvSpPr>
          <p:cNvPr id="552"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3"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8FED-7C4C-4740-A7F5-CAAAC7154B6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88920"/>
            <a:ext cx="8369280" cy="75096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tracting capital to infrastructure sectors in emerging countries</a:t>
            </a:r>
            <a:endParaRPr b="1" lang="en-US" sz="2400" spc="-1" strike="noStrike">
              <a:solidFill>
                <a:srgbClr val="cc0000"/>
              </a:solidFill>
              <a:latin typeface="Arial"/>
            </a:endParaRPr>
          </a:p>
        </p:txBody>
      </p:sp>
      <p:sp>
        <p:nvSpPr>
          <p:cNvPr id="90" name="object 3"/>
          <p:cNvSpPr/>
          <p:nvPr/>
        </p:nvSpPr>
        <p:spPr>
          <a:xfrm>
            <a:off x="152280" y="806400"/>
            <a:ext cx="7983720" cy="3065760"/>
          </a:xfrm>
          <a:prstGeom prst="rect">
            <a:avLst/>
          </a:prstGeom>
          <a:noFill/>
          <a:ln w="0">
            <a:noFill/>
          </a:ln>
        </p:spPr>
        <p:style>
          <a:lnRef idx="0"/>
          <a:fillRef idx="0"/>
          <a:effectRef idx="0"/>
          <a:fontRef idx="minor"/>
        </p:style>
        <p:txBody>
          <a:bodyPr lIns="0" rIns="0" tIns="167040" bIns="0" anchor="t">
            <a:spAutoFit/>
          </a:bodyPr>
          <a:p>
            <a:pPr marL="12600">
              <a:spcBef>
                <a:spcPts val="1312"/>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Economic growth rates are in general high, but volatile.</a:t>
            </a:r>
            <a:endParaRPr b="0" lang="en-US" sz="2000" spc="-1" strike="noStrike">
              <a:solidFill>
                <a:srgbClr val="003366"/>
              </a:solidFill>
              <a:latin typeface="Arial"/>
            </a:endParaRPr>
          </a:p>
          <a:p>
            <a:pPr marL="12600">
              <a:spcBef>
                <a:spcPts val="11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Electricity demand also grows strongly, but with significant volatility.</a:t>
            </a:r>
            <a:endParaRPr b="0" lang="en-US" sz="1900" spc="-1" strike="noStrike">
              <a:solidFill>
                <a:srgbClr val="003366"/>
              </a:solidFill>
              <a:latin typeface="Arial"/>
            </a:endParaRPr>
          </a:p>
          <a:p>
            <a:pPr marL="12600">
              <a:spcBef>
                <a:spcPts val="117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Macroeconomic conditions are not fully stable:</a:t>
            </a:r>
            <a:endParaRPr b="0" lang="en-US" sz="2000" spc="-1" strike="noStrike">
              <a:solidFill>
                <a:srgbClr val="003366"/>
              </a:solidFill>
              <a:latin typeface="Arial"/>
            </a:endParaRPr>
          </a:p>
          <a:p>
            <a:pPr marL="12600">
              <a:spcBef>
                <a:spcPts val="1162"/>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Volatile currency exchange rates, inflation, fiscal situation.</a:t>
            </a:r>
            <a:endParaRPr b="0" lang="en-US" sz="1900" spc="-1" strike="noStrike">
              <a:solidFill>
                <a:srgbClr val="003366"/>
              </a:solidFill>
              <a:latin typeface="Arial"/>
            </a:endParaRPr>
          </a:p>
          <a:p>
            <a:pPr marL="12600">
              <a:spcBef>
                <a:spcPts val="1137"/>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Contribute to increase risk perceived by foreign investors, need to</a:t>
            </a:r>
            <a:endParaRPr b="0" lang="en-US" sz="1900" spc="-1" strike="noStrike">
              <a:solidFill>
                <a:srgbClr val="003366"/>
              </a:solidFill>
              <a:latin typeface="Arial"/>
            </a:endParaRPr>
          </a:p>
          <a:p>
            <a:pPr marL="12600">
              <a:spcBef>
                <a:spcPts val="68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manage risks to attract capital</a:t>
            </a:r>
            <a:endParaRPr b="0" lang="en-US" sz="1900" spc="-1" strike="noStrike">
              <a:solidFill>
                <a:srgbClr val="003366"/>
              </a:solidFill>
              <a:latin typeface="Arial"/>
            </a:endParaRPr>
          </a:p>
          <a:p>
            <a:pPr marL="12600">
              <a:spcBef>
                <a:spcPts val="1176"/>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39274"/>
                </a:solidFill>
                <a:latin typeface="Arial"/>
                <a:ea typeface="Arial"/>
              </a:rPr>
              <a:t>►</a:t>
            </a:r>
            <a:r>
              <a:rPr b="0" lang="en-US" sz="1700" spc="-1" strike="noStrike">
                <a:solidFill>
                  <a:srgbClr val="a39274"/>
                </a:solidFill>
                <a:latin typeface="Arial"/>
                <a:ea typeface="Arial"/>
              </a:rPr>
              <a:t>	</a:t>
            </a:r>
            <a:r>
              <a:rPr b="0" lang="en-US" sz="2000" spc="-1" strike="noStrike">
                <a:solidFill>
                  <a:srgbClr val="042745"/>
                </a:solidFill>
                <a:latin typeface="Arial"/>
                <a:ea typeface="Arial"/>
              </a:rPr>
              <a:t>High demand for capital in all infrastructure sectors</a:t>
            </a:r>
            <a:endParaRPr b="0" lang="en-US" sz="2000" spc="-1" strike="noStrike">
              <a:solidFill>
                <a:srgbClr val="003366"/>
              </a:solidFill>
              <a:latin typeface="Arial"/>
            </a:endParaRPr>
          </a:p>
        </p:txBody>
      </p:sp>
      <p:sp>
        <p:nvSpPr>
          <p:cNvPr id="91" name="object 4"/>
          <p:cNvSpPr/>
          <p:nvPr/>
        </p:nvSpPr>
        <p:spPr>
          <a:xfrm>
            <a:off x="1147680" y="4038480"/>
            <a:ext cx="3146400" cy="21402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92" name="object 5"/>
          <p:cNvSpPr/>
          <p:nvPr/>
        </p:nvSpPr>
        <p:spPr>
          <a:xfrm>
            <a:off x="4881600" y="4038480"/>
            <a:ext cx="3271680" cy="19843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93" name="object 6"/>
          <p:cNvSpPr/>
          <p:nvPr/>
        </p:nvSpPr>
        <p:spPr>
          <a:xfrm>
            <a:off x="471600" y="5726160"/>
            <a:ext cx="8199360" cy="870120"/>
          </a:xfrm>
          <a:prstGeom prst="rect">
            <a:avLst/>
          </a:prstGeom>
          <a:noFill/>
          <a:ln w="0">
            <a:noFill/>
          </a:ln>
        </p:spPr>
        <p:style>
          <a:lnRef idx="0"/>
          <a:fillRef idx="0"/>
          <a:effectRef idx="0"/>
          <a:fontRef idx="minor"/>
        </p:style>
        <p:txBody>
          <a:bodyPr lIns="0" rIns="0" tIns="12600" bIns="0" anchor="t">
            <a:spAutoFit/>
          </a:bodyPr>
          <a:p>
            <a:pPr marL="3873600" algn="ctr">
              <a:spcBef>
                <a:spcPts val="99"/>
              </a:spcBef>
              <a:tabLst>
                <a:tab algn="l" pos="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Source:  ECLAC</a:t>
            </a:r>
            <a:endParaRPr b="0" lang="en-US" sz="1200" spc="-1" strike="noStrike">
              <a:solidFill>
                <a:srgbClr val="003366"/>
              </a:solidFill>
              <a:latin typeface="Arial"/>
            </a:endParaRPr>
          </a:p>
          <a:p>
            <a:pPr marL="3873600" algn="ctr">
              <a:spcBef>
                <a:spcPts val="1001"/>
              </a:spcBef>
              <a:tabLst>
                <a:tab algn="l" pos="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Investment in infrastructure (left) and infrastructure investments per sector (right) for Latin America, in % of GDP</a:t>
            </a:r>
            <a:endParaRPr b="0" lang="en-US" sz="1200" spc="-1" strike="noStrike">
              <a:solidFill>
                <a:srgbClr val="003366"/>
              </a:solidFill>
              <a:latin typeface="Arial"/>
            </a:endParaRPr>
          </a:p>
        </p:txBody>
      </p:sp>
      <p:sp>
        <p:nvSpPr>
          <p:cNvPr id="94" name="object 7"/>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B50F-9A23-45FC-9472-835F115759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1920" y="149400"/>
            <a:ext cx="699300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planning and guidance</a:t>
            </a:r>
            <a:endParaRPr b="1" lang="en-US" sz="2400" spc="-1" strike="noStrike">
              <a:solidFill>
                <a:srgbClr val="cc0000"/>
              </a:solidFill>
              <a:latin typeface="Arial"/>
            </a:endParaRPr>
          </a:p>
        </p:txBody>
      </p:sp>
      <p:sp>
        <p:nvSpPr>
          <p:cNvPr id="555" name="object 3"/>
          <p:cNvSpPr/>
          <p:nvPr/>
        </p:nvSpPr>
        <p:spPr>
          <a:xfrm>
            <a:off x="152280" y="920880"/>
            <a:ext cx="8359920" cy="4714560"/>
          </a:xfrm>
          <a:prstGeom prst="rect">
            <a:avLst/>
          </a:prstGeom>
          <a:noFill/>
          <a:ln w="0">
            <a:noFill/>
          </a:ln>
        </p:spPr>
        <p:style>
          <a:lnRef idx="0"/>
          <a:fillRef idx="0"/>
          <a:effectRef idx="0"/>
          <a:fontRef idx="minor"/>
        </p:style>
        <p:txBody>
          <a:bodyPr lIns="0" rIns="0" tIns="142920" bIns="0" anchor="t">
            <a:spAutoFit/>
          </a:bodyPr>
          <a:p>
            <a:pPr marL="12600">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Institutional responsibilities:</a:t>
            </a:r>
            <a:endParaRPr b="0" lang="en-US" sz="1700" spc="-1" strike="noStrike">
              <a:solidFill>
                <a:srgbClr val="003366"/>
              </a:solidFill>
              <a:latin typeface="Arial"/>
            </a:endParaRPr>
          </a:p>
          <a:p>
            <a:pPr marL="12600">
              <a:spcBef>
                <a:spcPts val="9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NPE: Guidelines for Energy Policy</a:t>
            </a:r>
            <a:endParaRPr b="0" lang="en-US" sz="1600" spc="-1" strike="noStrike">
              <a:solidFill>
                <a:srgbClr val="003366"/>
              </a:solidFill>
              <a:latin typeface="Arial"/>
            </a:endParaRPr>
          </a:p>
          <a:p>
            <a:pPr marL="12600">
              <a:lnSpc>
                <a:spcPct val="130000"/>
              </a:lnSpc>
              <a:spcBef>
                <a:spcPts val="388"/>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EPE: Planning agency (technical body  subordinated to MME)</a:t>
            </a:r>
            <a:endParaRPr b="0" lang="en-US" sz="1600" spc="-1" strike="noStrike">
              <a:solidFill>
                <a:srgbClr val="003366"/>
              </a:solidFill>
              <a:latin typeface="Arial"/>
            </a:endParaRPr>
          </a:p>
          <a:p>
            <a:pPr marL="12600">
              <a:spcBef>
                <a:spcPts val="96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CMSE: Monitoring security of supply</a:t>
            </a:r>
            <a:endParaRPr b="0" lang="en-US" sz="1600" spc="-1" strike="noStrike">
              <a:solidFill>
                <a:srgbClr val="003366"/>
              </a:solidFill>
              <a:latin typeface="Arial"/>
            </a:endParaRPr>
          </a:p>
          <a:p>
            <a:pPr marL="12600">
              <a:spcBef>
                <a:spcPts val="1001"/>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9274"/>
                </a:solidFill>
                <a:latin typeface="Arial"/>
                <a:ea typeface="Arial"/>
              </a:rPr>
              <a:t>►</a:t>
            </a:r>
            <a:r>
              <a:rPr b="0" lang="en-US" sz="1400" spc="-1" strike="noStrike">
                <a:solidFill>
                  <a:srgbClr val="a39274"/>
                </a:solidFill>
                <a:latin typeface="Arial"/>
                <a:ea typeface="Arial"/>
              </a:rPr>
              <a:t>	</a:t>
            </a:r>
            <a:r>
              <a:rPr b="0" lang="en-US" sz="1700" spc="-1" strike="noStrike">
                <a:solidFill>
                  <a:srgbClr val="042745"/>
                </a:solidFill>
                <a:latin typeface="Arial"/>
                <a:ea typeface="Arial"/>
              </a:rPr>
              <a:t>Planning process (regarding generation expansion):</a:t>
            </a:r>
            <a:endParaRPr b="0" lang="en-US" sz="1700" spc="-1" strike="noStrike">
              <a:solidFill>
                <a:srgbClr val="003366"/>
              </a:solidFill>
              <a:latin typeface="Arial"/>
            </a:endParaRPr>
          </a:p>
          <a:p>
            <a:pPr marL="12600">
              <a:spcBef>
                <a:spcPts val="975"/>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eriodic (annual) indicative planning:</a:t>
            </a:r>
            <a:endParaRPr b="0" lang="en-US" sz="1600" spc="-1" strike="noStrike">
              <a:solidFill>
                <a:srgbClr val="003366"/>
              </a:solidFill>
              <a:latin typeface="Arial"/>
            </a:endParaRPr>
          </a:p>
          <a:p>
            <a:pPr lvl="1" marL="1155600" indent="-228600">
              <a:spcBef>
                <a:spcPts val="96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Access to information, helps creating reasonable expectations</a:t>
            </a:r>
            <a:endParaRPr b="0" lang="en-US" sz="1600" spc="-1" strike="noStrike">
              <a:solidFill>
                <a:srgbClr val="003366"/>
              </a:solidFill>
              <a:latin typeface="Arial"/>
            </a:endParaRPr>
          </a:p>
          <a:p>
            <a:pPr marL="12600">
              <a:spcBef>
                <a:spcPts val="964"/>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Planning bodies provides support to MME in:</a:t>
            </a:r>
            <a:endParaRPr b="0" lang="en-US" sz="1600" spc="-1" strike="noStrike">
              <a:solidFill>
                <a:srgbClr val="003366"/>
              </a:solidFill>
              <a:latin typeface="Arial"/>
            </a:endParaRPr>
          </a:p>
          <a:p>
            <a:pPr lvl="1" marL="1155600" indent="-228600">
              <a:lnSpc>
                <a:spcPct val="130000"/>
              </a:lnSpc>
              <a:spcBef>
                <a:spcPts val="388"/>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Offering guidance to market-based expansion via auctions  (MME defines eligible technologies, price caps, etc.).</a:t>
            </a:r>
            <a:endParaRPr b="0" lang="en-US" sz="1600" spc="-1" strike="noStrike">
              <a:solidFill>
                <a:srgbClr val="003366"/>
              </a:solidFill>
              <a:latin typeface="Arial"/>
            </a:endParaRPr>
          </a:p>
          <a:p>
            <a:pPr lvl="1" marL="1155600" indent="-228600">
              <a:spcBef>
                <a:spcPts val="964"/>
              </a:spcBef>
              <a:buClr>
                <a:srgbClr val="a39274"/>
              </a:buClr>
              <a:buFont typeface="Arial"/>
              <a:buChar char="•"/>
              <a:tabLst>
                <a:tab algn="l" pos="35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Directly controlling security of supply via Reserve Energy auctions.</a:t>
            </a:r>
            <a:endParaRPr b="0" lang="en-US" sz="1600" spc="-1" strike="noStrike">
              <a:solidFill>
                <a:srgbClr val="003366"/>
              </a:solidFill>
              <a:latin typeface="Arial"/>
            </a:endParaRPr>
          </a:p>
          <a:p>
            <a:pPr marL="12600">
              <a:lnSpc>
                <a:spcPct val="130000"/>
              </a:lnSpc>
              <a:spcBef>
                <a:spcPts val="388"/>
              </a:spcBef>
              <a:buClr>
                <a:srgbClr val="a39274"/>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2745"/>
                </a:solidFill>
                <a:latin typeface="Arial"/>
                <a:ea typeface="Arial"/>
              </a:rPr>
              <a:t>Besides, decentralized demand forecasts by distribution companies that  substantiate their declaration of demand in auctions can be seen as part of planning.</a:t>
            </a:r>
            <a:endParaRPr b="0" lang="en-US" sz="1600" spc="-1" strike="noStrike">
              <a:solidFill>
                <a:srgbClr val="003366"/>
              </a:solidFill>
              <a:latin typeface="Arial"/>
            </a:endParaRPr>
          </a:p>
        </p:txBody>
      </p:sp>
      <p:sp>
        <p:nvSpPr>
          <p:cNvPr id="556" name="object 4"/>
          <p:cNvSpPr/>
          <p:nvPr/>
        </p:nvSpPr>
        <p:spPr>
          <a:xfrm>
            <a:off x="6129360" y="852480"/>
            <a:ext cx="3014640" cy="31860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7" name="object 5"/>
          <p:cNvSpPr/>
          <p:nvPr/>
        </p:nvSpPr>
        <p:spPr>
          <a:xfrm>
            <a:off x="8699400" y="0"/>
            <a:ext cx="444600" cy="2746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58" name="object 6"/>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2FFA-E547-4C27-9DA5-52825BAA455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280" y="149400"/>
            <a:ext cx="881064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competition </a:t>
            </a:r>
            <a:r>
              <a:rPr b="1" lang="en-US" sz="2800" spc="-1" strike="noStrike">
                <a:solidFill>
                  <a:srgbClr val="cc0000"/>
                </a:solidFill>
                <a:latin typeface="Arial"/>
              </a:rPr>
              <a:t>&amp; </a:t>
            </a:r>
            <a:r>
              <a:rPr b="1" lang="en-US" sz="2400" spc="-1" strike="noStrike">
                <a:solidFill>
                  <a:srgbClr val="cc0000"/>
                </a:solidFill>
                <a:latin typeface="Arial"/>
              </a:rPr>
              <a:t>capacity adequacy</a:t>
            </a:r>
            <a:endParaRPr b="1" lang="en-US" sz="2400" spc="-1" strike="noStrike">
              <a:solidFill>
                <a:srgbClr val="cc0000"/>
              </a:solidFill>
              <a:latin typeface="Arial"/>
            </a:endParaRPr>
          </a:p>
        </p:txBody>
      </p:sp>
      <p:sp>
        <p:nvSpPr>
          <p:cNvPr id="560" name="object 3"/>
          <p:cNvSpPr/>
          <p:nvPr/>
        </p:nvSpPr>
        <p:spPr>
          <a:xfrm>
            <a:off x="152280" y="1374840"/>
            <a:ext cx="8721720" cy="43063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Security of supply:</a:t>
            </a:r>
            <a:endParaRPr b="0" lang="en-US" sz="2200" spc="-1" strike="noStrike">
              <a:solidFill>
                <a:srgbClr val="003366"/>
              </a:solidFill>
              <a:latin typeface="Arial"/>
            </a:endParaRPr>
          </a:p>
          <a:p>
            <a:pPr marL="12600">
              <a:spcBef>
                <a:spcPts val="172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2745"/>
                </a:solidFill>
                <a:latin typeface="Arial"/>
                <a:ea typeface="Arial"/>
              </a:rPr>
              <a:t>Obligation of coverage of 100% of consumption via long-term</a:t>
            </a:r>
            <a:endParaRPr b="0" lang="en-US" sz="2000" spc="-1" strike="noStrike">
              <a:solidFill>
                <a:srgbClr val="003366"/>
              </a:solidFill>
              <a:latin typeface="Arial"/>
            </a:endParaRPr>
          </a:p>
          <a:p>
            <a:pPr marL="12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2745"/>
                </a:solidFill>
                <a:latin typeface="Arial"/>
                <a:ea typeface="Arial"/>
              </a:rPr>
              <a:t>contracts</a:t>
            </a:r>
            <a:r>
              <a:rPr b="0" lang="en-US" sz="2000" spc="-1" strike="noStrike">
                <a:solidFill>
                  <a:srgbClr val="042745"/>
                </a:solidFill>
                <a:latin typeface="Arial"/>
                <a:ea typeface="Arial"/>
              </a:rPr>
              <a:t>: creates demand for contracts to ease generation financing</a:t>
            </a:r>
            <a:endParaRPr b="0" lang="en-US" sz="2000" spc="-1" strike="noStrike">
              <a:solidFill>
                <a:srgbClr val="003366"/>
              </a:solidFill>
              <a:latin typeface="Arial"/>
            </a:endParaRPr>
          </a:p>
          <a:p>
            <a:pPr marL="12600">
              <a:lnSpc>
                <a:spcPct val="150000"/>
              </a:lnSpc>
              <a:spcBef>
                <a:spcPts val="476"/>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Auctions: provide a sound and solid framework for </a:t>
            </a:r>
            <a:r>
              <a:rPr b="1" lang="en-US" sz="2000" spc="-1" strike="noStrike">
                <a:solidFill>
                  <a:srgbClr val="042745"/>
                </a:solidFill>
                <a:latin typeface="Arial"/>
                <a:ea typeface="Arial"/>
              </a:rPr>
              <a:t>awarding of  contracts competitively</a:t>
            </a:r>
            <a:r>
              <a:rPr b="0" lang="en-US" sz="2000" spc="-1" strike="noStrike">
                <a:solidFill>
                  <a:srgbClr val="042745"/>
                </a:solidFill>
                <a:latin typeface="Arial"/>
                <a:ea typeface="Arial"/>
              </a:rPr>
              <a:t>, whose results are unlikely to be challenged.</a:t>
            </a:r>
            <a:endParaRPr b="0" lang="en-US" sz="2000" spc="-1" strike="noStrike">
              <a:solidFill>
                <a:srgbClr val="003366"/>
              </a:solidFill>
              <a:latin typeface="Arial"/>
            </a:endParaRPr>
          </a:p>
          <a:p>
            <a:pPr marL="1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Affordability of supply:</a:t>
            </a:r>
            <a:endParaRPr b="0" lang="en-US" sz="2200" spc="-1" strike="noStrike">
              <a:solidFill>
                <a:srgbClr val="003366"/>
              </a:solidFill>
              <a:latin typeface="Arial"/>
            </a:endParaRPr>
          </a:p>
          <a:p>
            <a:pPr marL="12600">
              <a:lnSpc>
                <a:spcPct val="150000"/>
              </a:lnSpc>
              <a:spcBef>
                <a:spcPts val="524"/>
              </a:spcBef>
              <a:buClr>
                <a:srgbClr val="a392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2745"/>
                </a:solidFill>
                <a:latin typeface="Arial"/>
                <a:ea typeface="Arial"/>
              </a:rPr>
              <a:t>Auctions also have the role of selecting the </a:t>
            </a:r>
            <a:r>
              <a:rPr b="1" lang="en-US" sz="2000" spc="-1" strike="noStrike">
                <a:solidFill>
                  <a:srgbClr val="042745"/>
                </a:solidFill>
                <a:latin typeface="Arial"/>
                <a:ea typeface="Arial"/>
              </a:rPr>
              <a:t>most efficient project  developers for system expansion via competition</a:t>
            </a:r>
            <a:r>
              <a:rPr b="0" lang="en-US" sz="2000" spc="-1" strike="noStrike">
                <a:solidFill>
                  <a:srgbClr val="042745"/>
                </a:solidFill>
                <a:latin typeface="Arial"/>
                <a:ea typeface="Arial"/>
              </a:rPr>
              <a:t>, thus contributing  to affordability of electricity supply.</a:t>
            </a:r>
            <a:endParaRPr b="0" lang="en-US" sz="2000" spc="-1" strike="noStrike">
              <a:solidFill>
                <a:srgbClr val="003366"/>
              </a:solidFill>
              <a:latin typeface="Arial"/>
            </a:endParaRPr>
          </a:p>
        </p:txBody>
      </p:sp>
      <p:sp>
        <p:nvSpPr>
          <p:cNvPr id="561" name="object 4"/>
          <p:cNvSpPr/>
          <p:nvPr/>
        </p:nvSpPr>
        <p:spPr>
          <a:xfrm>
            <a:off x="8699400" y="0"/>
            <a:ext cx="444600" cy="2746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62" name="object 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7214-0D25-4D42-8F6B-B892F96A90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1920" y="149400"/>
            <a:ext cx="41086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cond reform: results</a:t>
            </a:r>
            <a:endParaRPr b="1" lang="en-US" sz="2400" spc="-1" strike="noStrike">
              <a:solidFill>
                <a:srgbClr val="cc0000"/>
              </a:solidFill>
              <a:latin typeface="Arial"/>
            </a:endParaRPr>
          </a:p>
        </p:txBody>
      </p:sp>
      <p:sp>
        <p:nvSpPr>
          <p:cNvPr id="564" name="object 3"/>
          <p:cNvSpPr/>
          <p:nvPr/>
        </p:nvSpPr>
        <p:spPr>
          <a:xfrm>
            <a:off x="727200" y="1598760"/>
            <a:ext cx="7843680" cy="45558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65" name="object 4"/>
          <p:cNvSpPr/>
          <p:nvPr/>
        </p:nvSpPr>
        <p:spPr>
          <a:xfrm>
            <a:off x="2298600" y="3578400"/>
            <a:ext cx="360" cy="1265040"/>
          </a:xfrm>
          <a:custGeom>
            <a:avLst/>
            <a:gdLst/>
            <a:ahLst/>
            <a:rect l="l" t="t" r="r" b="b"/>
            <a:pathLst>
              <a:path w="0" h="1264285">
                <a:moveTo>
                  <a:pt x="0" y="1263777"/>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6" name="object 5"/>
          <p:cNvSpPr/>
          <p:nvPr/>
        </p:nvSpPr>
        <p:spPr>
          <a:xfrm>
            <a:off x="4678200" y="2746440"/>
            <a:ext cx="360" cy="1263600"/>
          </a:xfrm>
          <a:custGeom>
            <a:avLst/>
            <a:gdLst/>
            <a:ahLst/>
            <a:rect l="l" t="t" r="r" b="b"/>
            <a:pathLst>
              <a:path w="0" h="1264285">
                <a:moveTo>
                  <a:pt x="0" y="1263777"/>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7" name="object 6"/>
          <p:cNvSpPr/>
          <p:nvPr/>
        </p:nvSpPr>
        <p:spPr>
          <a:xfrm>
            <a:off x="871560" y="4098960"/>
            <a:ext cx="1233360" cy="720720"/>
          </a:xfrm>
          <a:custGeom>
            <a:avLst/>
            <a:gdLst/>
            <a:ahLst/>
            <a:rect l="l" t="t" r="r" b="b"/>
            <a:pathLst>
              <a:path w="1234439" h="720725">
                <a:moveTo>
                  <a:pt x="65951" y="665860"/>
                </a:moveTo>
                <a:lnTo>
                  <a:pt x="0" y="704088"/>
                </a:lnTo>
                <a:lnTo>
                  <a:pt x="9550" y="720470"/>
                </a:lnTo>
                <a:lnTo>
                  <a:pt x="75488" y="682370"/>
                </a:lnTo>
                <a:lnTo>
                  <a:pt x="65951" y="665860"/>
                </a:lnTo>
                <a:close/>
              </a:path>
              <a:path w="1234439" h="720725">
                <a:moveTo>
                  <a:pt x="181356" y="599058"/>
                </a:moveTo>
                <a:lnTo>
                  <a:pt x="115404" y="637285"/>
                </a:lnTo>
                <a:lnTo>
                  <a:pt x="124955" y="653669"/>
                </a:lnTo>
                <a:lnTo>
                  <a:pt x="190893" y="615569"/>
                </a:lnTo>
                <a:lnTo>
                  <a:pt x="181356" y="599058"/>
                </a:lnTo>
                <a:close/>
              </a:path>
              <a:path w="1234439" h="720725">
                <a:moveTo>
                  <a:pt x="296760" y="532257"/>
                </a:moveTo>
                <a:lnTo>
                  <a:pt x="230809" y="570357"/>
                </a:lnTo>
                <a:lnTo>
                  <a:pt x="240360" y="586866"/>
                </a:lnTo>
                <a:lnTo>
                  <a:pt x="306298" y="548766"/>
                </a:lnTo>
                <a:lnTo>
                  <a:pt x="296760" y="532257"/>
                </a:lnTo>
                <a:close/>
              </a:path>
              <a:path w="1234439" h="720725">
                <a:moveTo>
                  <a:pt x="412191" y="465454"/>
                </a:moveTo>
                <a:lnTo>
                  <a:pt x="346214" y="503554"/>
                </a:lnTo>
                <a:lnTo>
                  <a:pt x="355765" y="520064"/>
                </a:lnTo>
                <a:lnTo>
                  <a:pt x="421716" y="481964"/>
                </a:lnTo>
                <a:lnTo>
                  <a:pt x="412191" y="465454"/>
                </a:lnTo>
                <a:close/>
              </a:path>
              <a:path w="1234439" h="720725">
                <a:moveTo>
                  <a:pt x="527507" y="398652"/>
                </a:moveTo>
                <a:lnTo>
                  <a:pt x="461594" y="436752"/>
                </a:lnTo>
                <a:lnTo>
                  <a:pt x="471119" y="453263"/>
                </a:lnTo>
                <a:lnTo>
                  <a:pt x="537159" y="415035"/>
                </a:lnTo>
                <a:lnTo>
                  <a:pt x="527507" y="398652"/>
                </a:lnTo>
                <a:close/>
              </a:path>
              <a:path w="1234439" h="720725">
                <a:moveTo>
                  <a:pt x="642950" y="331850"/>
                </a:moveTo>
                <a:lnTo>
                  <a:pt x="577037" y="369950"/>
                </a:lnTo>
                <a:lnTo>
                  <a:pt x="586562" y="386460"/>
                </a:lnTo>
                <a:lnTo>
                  <a:pt x="652475" y="348233"/>
                </a:lnTo>
                <a:lnTo>
                  <a:pt x="642950" y="331850"/>
                </a:lnTo>
                <a:close/>
              </a:path>
              <a:path w="1234439" h="720725">
                <a:moveTo>
                  <a:pt x="758393" y="264921"/>
                </a:moveTo>
                <a:lnTo>
                  <a:pt x="692480" y="303148"/>
                </a:lnTo>
                <a:lnTo>
                  <a:pt x="702005" y="319658"/>
                </a:lnTo>
                <a:lnTo>
                  <a:pt x="767918" y="281431"/>
                </a:lnTo>
                <a:lnTo>
                  <a:pt x="758393" y="264921"/>
                </a:lnTo>
                <a:close/>
              </a:path>
              <a:path w="1234439" h="720725">
                <a:moveTo>
                  <a:pt x="873836" y="198119"/>
                </a:moveTo>
                <a:lnTo>
                  <a:pt x="807796" y="236346"/>
                </a:lnTo>
                <a:lnTo>
                  <a:pt x="817321" y="252856"/>
                </a:lnTo>
                <a:lnTo>
                  <a:pt x="883361" y="214629"/>
                </a:lnTo>
                <a:lnTo>
                  <a:pt x="873836" y="198119"/>
                </a:lnTo>
                <a:close/>
              </a:path>
              <a:path w="1234439" h="720725">
                <a:moveTo>
                  <a:pt x="989152" y="131317"/>
                </a:moveTo>
                <a:lnTo>
                  <a:pt x="923239" y="169544"/>
                </a:lnTo>
                <a:lnTo>
                  <a:pt x="932764" y="186054"/>
                </a:lnTo>
                <a:lnTo>
                  <a:pt x="998677" y="147827"/>
                </a:lnTo>
                <a:lnTo>
                  <a:pt x="989152" y="131317"/>
                </a:lnTo>
                <a:close/>
              </a:path>
              <a:path w="1234439" h="720725">
                <a:moveTo>
                  <a:pt x="1104595" y="64515"/>
                </a:moveTo>
                <a:lnTo>
                  <a:pt x="1038682" y="102742"/>
                </a:lnTo>
                <a:lnTo>
                  <a:pt x="1048207" y="119252"/>
                </a:lnTo>
                <a:lnTo>
                  <a:pt x="1114120" y="81025"/>
                </a:lnTo>
                <a:lnTo>
                  <a:pt x="1104595" y="64515"/>
                </a:lnTo>
                <a:close/>
              </a:path>
              <a:path w="1234439" h="720725">
                <a:moveTo>
                  <a:pt x="1233738" y="1523"/>
                </a:moveTo>
                <a:lnTo>
                  <a:pt x="1213307" y="1523"/>
                </a:lnTo>
                <a:lnTo>
                  <a:pt x="1222832" y="18033"/>
                </a:lnTo>
                <a:lnTo>
                  <a:pt x="1192317" y="35779"/>
                </a:lnTo>
                <a:lnTo>
                  <a:pt x="1166190" y="81787"/>
                </a:lnTo>
                <a:lnTo>
                  <a:pt x="1163523" y="86359"/>
                </a:lnTo>
                <a:lnTo>
                  <a:pt x="1165174" y="92201"/>
                </a:lnTo>
                <a:lnTo>
                  <a:pt x="1169746" y="94741"/>
                </a:lnTo>
                <a:lnTo>
                  <a:pt x="1174318" y="97408"/>
                </a:lnTo>
                <a:lnTo>
                  <a:pt x="1180033" y="95757"/>
                </a:lnTo>
                <a:lnTo>
                  <a:pt x="1182700" y="91185"/>
                </a:lnTo>
                <a:lnTo>
                  <a:pt x="1233738" y="1523"/>
                </a:lnTo>
                <a:close/>
              </a:path>
              <a:path w="1234439" h="720725">
                <a:moveTo>
                  <a:pt x="1182842" y="19202"/>
                </a:moveTo>
                <a:lnTo>
                  <a:pt x="1153998" y="35940"/>
                </a:lnTo>
                <a:lnTo>
                  <a:pt x="1163650" y="52450"/>
                </a:lnTo>
                <a:lnTo>
                  <a:pt x="1192317" y="35779"/>
                </a:lnTo>
                <a:lnTo>
                  <a:pt x="1201700" y="19257"/>
                </a:lnTo>
                <a:lnTo>
                  <a:pt x="1182842" y="19202"/>
                </a:lnTo>
                <a:close/>
              </a:path>
              <a:path w="1234439" h="720725">
                <a:moveTo>
                  <a:pt x="1215358" y="5079"/>
                </a:moveTo>
                <a:lnTo>
                  <a:pt x="1209751" y="5079"/>
                </a:lnTo>
                <a:lnTo>
                  <a:pt x="1218006" y="19303"/>
                </a:lnTo>
                <a:lnTo>
                  <a:pt x="1201673" y="19303"/>
                </a:lnTo>
                <a:lnTo>
                  <a:pt x="1192317" y="35779"/>
                </a:lnTo>
                <a:lnTo>
                  <a:pt x="1220648" y="19303"/>
                </a:lnTo>
                <a:lnTo>
                  <a:pt x="1218006" y="19303"/>
                </a:lnTo>
                <a:lnTo>
                  <a:pt x="1220729" y="19257"/>
                </a:lnTo>
                <a:lnTo>
                  <a:pt x="1222832" y="18033"/>
                </a:lnTo>
                <a:lnTo>
                  <a:pt x="1215358" y="5079"/>
                </a:lnTo>
                <a:close/>
              </a:path>
              <a:path w="1234439" h="720725">
                <a:moveTo>
                  <a:pt x="1209751" y="5079"/>
                </a:moveTo>
                <a:lnTo>
                  <a:pt x="1201700" y="19257"/>
                </a:lnTo>
                <a:lnTo>
                  <a:pt x="1218006" y="19303"/>
                </a:lnTo>
                <a:lnTo>
                  <a:pt x="1209751" y="5079"/>
                </a:lnTo>
                <a:close/>
              </a:path>
              <a:path w="1234439" h="720725">
                <a:moveTo>
                  <a:pt x="1213307" y="1523"/>
                </a:moveTo>
                <a:lnTo>
                  <a:pt x="1182842" y="19202"/>
                </a:lnTo>
                <a:lnTo>
                  <a:pt x="1201700" y="19257"/>
                </a:lnTo>
                <a:lnTo>
                  <a:pt x="1209751" y="5079"/>
                </a:lnTo>
                <a:lnTo>
                  <a:pt x="1215358" y="5079"/>
                </a:lnTo>
                <a:lnTo>
                  <a:pt x="1213307" y="1523"/>
                </a:lnTo>
                <a:close/>
              </a:path>
              <a:path w="1234439" h="720725">
                <a:moveTo>
                  <a:pt x="1129868" y="0"/>
                </a:moveTo>
                <a:lnTo>
                  <a:pt x="1124661" y="0"/>
                </a:lnTo>
                <a:lnTo>
                  <a:pt x="1120343" y="4190"/>
                </a:lnTo>
                <a:lnTo>
                  <a:pt x="1120343" y="14731"/>
                </a:lnTo>
                <a:lnTo>
                  <a:pt x="1124534" y="19050"/>
                </a:lnTo>
                <a:lnTo>
                  <a:pt x="1182842" y="19202"/>
                </a:lnTo>
                <a:lnTo>
                  <a:pt x="1213307" y="1523"/>
                </a:lnTo>
                <a:lnTo>
                  <a:pt x="1233738" y="1523"/>
                </a:lnTo>
                <a:lnTo>
                  <a:pt x="1234389" y="381"/>
                </a:lnTo>
                <a:lnTo>
                  <a:pt x="1129868"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8" name="object 7"/>
          <p:cNvSpPr/>
          <p:nvPr/>
        </p:nvSpPr>
        <p:spPr>
          <a:xfrm>
            <a:off x="2486160" y="3216240"/>
            <a:ext cx="2054160" cy="712800"/>
          </a:xfrm>
          <a:custGeom>
            <a:avLst/>
            <a:gdLst/>
            <a:ahLst/>
            <a:rect l="l" t="t" r="r" b="b"/>
            <a:pathLst>
              <a:path w="2054860" h="713104">
                <a:moveTo>
                  <a:pt x="72389" y="670687"/>
                </a:moveTo>
                <a:lnTo>
                  <a:pt x="0" y="694689"/>
                </a:lnTo>
                <a:lnTo>
                  <a:pt x="6095" y="712724"/>
                </a:lnTo>
                <a:lnTo>
                  <a:pt x="78358" y="688720"/>
                </a:lnTo>
                <a:lnTo>
                  <a:pt x="72389" y="670687"/>
                </a:lnTo>
                <a:close/>
              </a:path>
              <a:path w="2054860" h="713104">
                <a:moveTo>
                  <a:pt x="198881" y="628650"/>
                </a:moveTo>
                <a:lnTo>
                  <a:pt x="126618" y="652652"/>
                </a:lnTo>
                <a:lnTo>
                  <a:pt x="132587" y="670813"/>
                </a:lnTo>
                <a:lnTo>
                  <a:pt x="204977" y="646683"/>
                </a:lnTo>
                <a:lnTo>
                  <a:pt x="198881" y="628650"/>
                </a:lnTo>
                <a:close/>
              </a:path>
              <a:path w="2054860" h="713104">
                <a:moveTo>
                  <a:pt x="325500" y="586613"/>
                </a:moveTo>
                <a:lnTo>
                  <a:pt x="253111" y="610616"/>
                </a:lnTo>
                <a:lnTo>
                  <a:pt x="259206" y="628776"/>
                </a:lnTo>
                <a:lnTo>
                  <a:pt x="331469" y="604774"/>
                </a:lnTo>
                <a:lnTo>
                  <a:pt x="325500" y="586613"/>
                </a:lnTo>
                <a:close/>
              </a:path>
              <a:path w="2054860" h="713104">
                <a:moveTo>
                  <a:pt x="451993" y="544576"/>
                </a:moveTo>
                <a:lnTo>
                  <a:pt x="379730" y="568706"/>
                </a:lnTo>
                <a:lnTo>
                  <a:pt x="385699" y="586739"/>
                </a:lnTo>
                <a:lnTo>
                  <a:pt x="458088" y="562737"/>
                </a:lnTo>
                <a:lnTo>
                  <a:pt x="451993" y="544576"/>
                </a:lnTo>
                <a:close/>
              </a:path>
              <a:path w="2054860" h="713104">
                <a:moveTo>
                  <a:pt x="578612" y="502666"/>
                </a:moveTo>
                <a:lnTo>
                  <a:pt x="506222" y="526669"/>
                </a:lnTo>
                <a:lnTo>
                  <a:pt x="512318" y="544702"/>
                </a:lnTo>
                <a:lnTo>
                  <a:pt x="584581" y="520700"/>
                </a:lnTo>
                <a:lnTo>
                  <a:pt x="578612" y="502666"/>
                </a:lnTo>
                <a:close/>
              </a:path>
              <a:path w="2054860" h="713104">
                <a:moveTo>
                  <a:pt x="705104" y="460629"/>
                </a:moveTo>
                <a:lnTo>
                  <a:pt x="632841" y="484631"/>
                </a:lnTo>
                <a:lnTo>
                  <a:pt x="638810" y="502666"/>
                </a:lnTo>
                <a:lnTo>
                  <a:pt x="711200" y="478663"/>
                </a:lnTo>
                <a:lnTo>
                  <a:pt x="705104" y="460629"/>
                </a:lnTo>
                <a:close/>
              </a:path>
              <a:path w="2054860" h="713104">
                <a:moveTo>
                  <a:pt x="831723" y="418592"/>
                </a:moveTo>
                <a:lnTo>
                  <a:pt x="759332" y="442594"/>
                </a:lnTo>
                <a:lnTo>
                  <a:pt x="765428" y="460629"/>
                </a:lnTo>
                <a:lnTo>
                  <a:pt x="837691" y="436625"/>
                </a:lnTo>
                <a:lnTo>
                  <a:pt x="831723" y="418592"/>
                </a:lnTo>
                <a:close/>
              </a:path>
              <a:path w="2054860" h="713104">
                <a:moveTo>
                  <a:pt x="958214" y="376554"/>
                </a:moveTo>
                <a:lnTo>
                  <a:pt x="885951" y="400557"/>
                </a:lnTo>
                <a:lnTo>
                  <a:pt x="891921" y="418719"/>
                </a:lnTo>
                <a:lnTo>
                  <a:pt x="964311" y="394588"/>
                </a:lnTo>
                <a:lnTo>
                  <a:pt x="958214" y="376554"/>
                </a:lnTo>
                <a:close/>
              </a:path>
              <a:path w="2054860" h="713104">
                <a:moveTo>
                  <a:pt x="1084834" y="334517"/>
                </a:moveTo>
                <a:lnTo>
                  <a:pt x="1012444" y="358521"/>
                </a:lnTo>
                <a:lnTo>
                  <a:pt x="1018539" y="376682"/>
                </a:lnTo>
                <a:lnTo>
                  <a:pt x="1090802" y="352678"/>
                </a:lnTo>
                <a:lnTo>
                  <a:pt x="1084834" y="334517"/>
                </a:lnTo>
                <a:close/>
              </a:path>
              <a:path w="2054860" h="713104">
                <a:moveTo>
                  <a:pt x="1211326" y="292480"/>
                </a:moveTo>
                <a:lnTo>
                  <a:pt x="1139063" y="316484"/>
                </a:lnTo>
                <a:lnTo>
                  <a:pt x="1145032" y="334645"/>
                </a:lnTo>
                <a:lnTo>
                  <a:pt x="1217422" y="310641"/>
                </a:lnTo>
                <a:lnTo>
                  <a:pt x="1211326" y="292480"/>
                </a:lnTo>
                <a:close/>
              </a:path>
              <a:path w="2054860" h="713104">
                <a:moveTo>
                  <a:pt x="1337945" y="250571"/>
                </a:moveTo>
                <a:lnTo>
                  <a:pt x="1265682" y="274574"/>
                </a:lnTo>
                <a:lnTo>
                  <a:pt x="1271651" y="292608"/>
                </a:lnTo>
                <a:lnTo>
                  <a:pt x="1343914" y="268604"/>
                </a:lnTo>
                <a:lnTo>
                  <a:pt x="1337945" y="250571"/>
                </a:lnTo>
                <a:close/>
              </a:path>
              <a:path w="2054860" h="713104">
                <a:moveTo>
                  <a:pt x="1464437" y="208534"/>
                </a:moveTo>
                <a:lnTo>
                  <a:pt x="1392174" y="232537"/>
                </a:lnTo>
                <a:lnTo>
                  <a:pt x="1398142" y="250571"/>
                </a:lnTo>
                <a:lnTo>
                  <a:pt x="1470533" y="226567"/>
                </a:lnTo>
                <a:lnTo>
                  <a:pt x="1464437" y="208534"/>
                </a:lnTo>
                <a:close/>
              </a:path>
              <a:path w="2054860" h="713104">
                <a:moveTo>
                  <a:pt x="1591055" y="166497"/>
                </a:moveTo>
                <a:lnTo>
                  <a:pt x="1518792" y="190500"/>
                </a:lnTo>
                <a:lnTo>
                  <a:pt x="1524762" y="208534"/>
                </a:lnTo>
                <a:lnTo>
                  <a:pt x="1597025" y="184530"/>
                </a:lnTo>
                <a:lnTo>
                  <a:pt x="1591055" y="166497"/>
                </a:lnTo>
                <a:close/>
              </a:path>
              <a:path w="2054860" h="713104">
                <a:moveTo>
                  <a:pt x="1717675" y="124460"/>
                </a:moveTo>
                <a:lnTo>
                  <a:pt x="1645285" y="148462"/>
                </a:lnTo>
                <a:lnTo>
                  <a:pt x="1651253" y="166497"/>
                </a:lnTo>
                <a:lnTo>
                  <a:pt x="1723644" y="142494"/>
                </a:lnTo>
                <a:lnTo>
                  <a:pt x="1717675" y="124460"/>
                </a:lnTo>
                <a:close/>
              </a:path>
              <a:path w="2054860" h="713104">
                <a:moveTo>
                  <a:pt x="1844166" y="82423"/>
                </a:moveTo>
                <a:lnTo>
                  <a:pt x="1771903" y="106425"/>
                </a:lnTo>
                <a:lnTo>
                  <a:pt x="1777873" y="124587"/>
                </a:lnTo>
                <a:lnTo>
                  <a:pt x="1850136" y="100584"/>
                </a:lnTo>
                <a:lnTo>
                  <a:pt x="1844166" y="82423"/>
                </a:lnTo>
                <a:close/>
              </a:path>
              <a:path w="2054860" h="713104">
                <a:moveTo>
                  <a:pt x="2018789" y="34480"/>
                </a:moveTo>
                <a:lnTo>
                  <a:pt x="1971294" y="88391"/>
                </a:lnTo>
                <a:lnTo>
                  <a:pt x="1967864" y="92455"/>
                </a:lnTo>
                <a:lnTo>
                  <a:pt x="1968246" y="98425"/>
                </a:lnTo>
                <a:lnTo>
                  <a:pt x="1972183" y="101853"/>
                </a:lnTo>
                <a:lnTo>
                  <a:pt x="1976120" y="105410"/>
                </a:lnTo>
                <a:lnTo>
                  <a:pt x="1982089" y="105028"/>
                </a:lnTo>
                <a:lnTo>
                  <a:pt x="1985645" y="101091"/>
                </a:lnTo>
                <a:lnTo>
                  <a:pt x="2038970" y="40512"/>
                </a:lnTo>
                <a:lnTo>
                  <a:pt x="2030984" y="40512"/>
                </a:lnTo>
                <a:lnTo>
                  <a:pt x="2029750" y="36785"/>
                </a:lnTo>
                <a:lnTo>
                  <a:pt x="2018789" y="34480"/>
                </a:lnTo>
                <a:close/>
              </a:path>
              <a:path w="2054860" h="713104">
                <a:moveTo>
                  <a:pt x="1970786" y="40386"/>
                </a:moveTo>
                <a:lnTo>
                  <a:pt x="1898396" y="64388"/>
                </a:lnTo>
                <a:lnTo>
                  <a:pt x="1904364" y="82550"/>
                </a:lnTo>
                <a:lnTo>
                  <a:pt x="1976754" y="58547"/>
                </a:lnTo>
                <a:lnTo>
                  <a:pt x="1970786" y="40386"/>
                </a:lnTo>
                <a:close/>
              </a:path>
              <a:path w="2054860" h="713104">
                <a:moveTo>
                  <a:pt x="2029750" y="36785"/>
                </a:moveTo>
                <a:lnTo>
                  <a:pt x="2030984" y="40512"/>
                </a:lnTo>
                <a:lnTo>
                  <a:pt x="2038984" y="37846"/>
                </a:lnTo>
                <a:lnTo>
                  <a:pt x="2034794" y="37846"/>
                </a:lnTo>
                <a:lnTo>
                  <a:pt x="2029750" y="36785"/>
                </a:lnTo>
                <a:close/>
              </a:path>
              <a:path w="2054860" h="713104">
                <a:moveTo>
                  <a:pt x="2040281" y="19558"/>
                </a:moveTo>
                <a:lnTo>
                  <a:pt x="2033777" y="19558"/>
                </a:lnTo>
                <a:lnTo>
                  <a:pt x="2039747" y="37591"/>
                </a:lnTo>
                <a:lnTo>
                  <a:pt x="2030984" y="40512"/>
                </a:lnTo>
                <a:lnTo>
                  <a:pt x="2038970" y="40512"/>
                </a:lnTo>
                <a:lnTo>
                  <a:pt x="2054733" y="22605"/>
                </a:lnTo>
                <a:lnTo>
                  <a:pt x="2040281" y="19558"/>
                </a:lnTo>
                <a:close/>
              </a:path>
              <a:path w="2054860" h="713104">
                <a:moveTo>
                  <a:pt x="2029587" y="22225"/>
                </a:moveTo>
                <a:lnTo>
                  <a:pt x="2026202" y="26066"/>
                </a:lnTo>
                <a:lnTo>
                  <a:pt x="2029750" y="36785"/>
                </a:lnTo>
                <a:lnTo>
                  <a:pt x="2034794" y="37846"/>
                </a:lnTo>
                <a:lnTo>
                  <a:pt x="2029587" y="22225"/>
                </a:lnTo>
                <a:close/>
              </a:path>
              <a:path w="2054860" h="713104">
                <a:moveTo>
                  <a:pt x="2034660" y="22225"/>
                </a:moveTo>
                <a:lnTo>
                  <a:pt x="2029587" y="22225"/>
                </a:lnTo>
                <a:lnTo>
                  <a:pt x="2034794" y="37846"/>
                </a:lnTo>
                <a:lnTo>
                  <a:pt x="2038984" y="37846"/>
                </a:lnTo>
                <a:lnTo>
                  <a:pt x="2039747" y="37591"/>
                </a:lnTo>
                <a:lnTo>
                  <a:pt x="2034660" y="22225"/>
                </a:lnTo>
                <a:close/>
              </a:path>
              <a:path w="2054860" h="713104">
                <a:moveTo>
                  <a:pt x="2026202" y="26066"/>
                </a:moveTo>
                <a:lnTo>
                  <a:pt x="2018789" y="34480"/>
                </a:lnTo>
                <a:lnTo>
                  <a:pt x="2029750" y="36785"/>
                </a:lnTo>
                <a:lnTo>
                  <a:pt x="2026202" y="26066"/>
                </a:lnTo>
                <a:close/>
              </a:path>
              <a:path w="2054860" h="713104">
                <a:moveTo>
                  <a:pt x="1947290" y="0"/>
                </a:moveTo>
                <a:lnTo>
                  <a:pt x="1942211" y="3301"/>
                </a:lnTo>
                <a:lnTo>
                  <a:pt x="1941067" y="8382"/>
                </a:lnTo>
                <a:lnTo>
                  <a:pt x="1940052" y="13588"/>
                </a:lnTo>
                <a:lnTo>
                  <a:pt x="1943353" y="18669"/>
                </a:lnTo>
                <a:lnTo>
                  <a:pt x="1948434" y="19685"/>
                </a:lnTo>
                <a:lnTo>
                  <a:pt x="2018789" y="34480"/>
                </a:lnTo>
                <a:lnTo>
                  <a:pt x="2026202" y="26066"/>
                </a:lnTo>
                <a:lnTo>
                  <a:pt x="2025014" y="22478"/>
                </a:lnTo>
                <a:lnTo>
                  <a:pt x="2033777" y="19558"/>
                </a:lnTo>
                <a:lnTo>
                  <a:pt x="2040281" y="19558"/>
                </a:lnTo>
                <a:lnTo>
                  <a:pt x="1952371" y="1015"/>
                </a:lnTo>
                <a:lnTo>
                  <a:pt x="1947290" y="0"/>
                </a:lnTo>
                <a:close/>
              </a:path>
              <a:path w="2054860" h="713104">
                <a:moveTo>
                  <a:pt x="2033777" y="19558"/>
                </a:moveTo>
                <a:lnTo>
                  <a:pt x="2025014" y="22478"/>
                </a:lnTo>
                <a:lnTo>
                  <a:pt x="2026202" y="26066"/>
                </a:lnTo>
                <a:lnTo>
                  <a:pt x="2029587" y="22225"/>
                </a:lnTo>
                <a:lnTo>
                  <a:pt x="2034660" y="22225"/>
                </a:lnTo>
                <a:lnTo>
                  <a:pt x="2033777" y="19558"/>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69" name="object 8"/>
          <p:cNvSpPr/>
          <p:nvPr/>
        </p:nvSpPr>
        <p:spPr>
          <a:xfrm>
            <a:off x="4981680" y="2359080"/>
            <a:ext cx="1495440" cy="704880"/>
          </a:xfrm>
          <a:custGeom>
            <a:avLst/>
            <a:gdLst/>
            <a:ahLst/>
            <a:rect l="l" t="t" r="r" b="b"/>
            <a:pathLst>
              <a:path w="1494789" h="705485">
                <a:moveTo>
                  <a:pt x="69214" y="656209"/>
                </a:moveTo>
                <a:lnTo>
                  <a:pt x="0" y="688086"/>
                </a:lnTo>
                <a:lnTo>
                  <a:pt x="7874" y="705485"/>
                </a:lnTo>
                <a:lnTo>
                  <a:pt x="77088" y="673607"/>
                </a:lnTo>
                <a:lnTo>
                  <a:pt x="69214" y="656209"/>
                </a:lnTo>
                <a:close/>
              </a:path>
              <a:path w="1494789" h="705485">
                <a:moveTo>
                  <a:pt x="190245" y="600455"/>
                </a:moveTo>
                <a:lnTo>
                  <a:pt x="121030" y="632332"/>
                </a:lnTo>
                <a:lnTo>
                  <a:pt x="129031" y="649731"/>
                </a:lnTo>
                <a:lnTo>
                  <a:pt x="198247" y="617854"/>
                </a:lnTo>
                <a:lnTo>
                  <a:pt x="190245" y="600455"/>
                </a:lnTo>
                <a:close/>
              </a:path>
              <a:path w="1494789" h="705485">
                <a:moveTo>
                  <a:pt x="311403" y="544702"/>
                </a:moveTo>
                <a:lnTo>
                  <a:pt x="242188" y="576579"/>
                </a:lnTo>
                <a:lnTo>
                  <a:pt x="250189" y="593851"/>
                </a:lnTo>
                <a:lnTo>
                  <a:pt x="319404" y="561975"/>
                </a:lnTo>
                <a:lnTo>
                  <a:pt x="311403" y="544702"/>
                </a:lnTo>
                <a:close/>
              </a:path>
              <a:path w="1494789" h="705485">
                <a:moveTo>
                  <a:pt x="432562" y="488950"/>
                </a:moveTo>
                <a:lnTo>
                  <a:pt x="363347" y="520826"/>
                </a:lnTo>
                <a:lnTo>
                  <a:pt x="371348" y="538099"/>
                </a:lnTo>
                <a:lnTo>
                  <a:pt x="440563" y="506222"/>
                </a:lnTo>
                <a:lnTo>
                  <a:pt x="432562" y="488950"/>
                </a:lnTo>
                <a:close/>
              </a:path>
              <a:path w="1494789" h="705485">
                <a:moveTo>
                  <a:pt x="553719" y="433197"/>
                </a:moveTo>
                <a:lnTo>
                  <a:pt x="484504" y="465074"/>
                </a:lnTo>
                <a:lnTo>
                  <a:pt x="492378" y="482346"/>
                </a:lnTo>
                <a:lnTo>
                  <a:pt x="561593" y="450468"/>
                </a:lnTo>
                <a:lnTo>
                  <a:pt x="553719" y="433197"/>
                </a:lnTo>
                <a:close/>
              </a:path>
              <a:path w="1494789" h="705485">
                <a:moveTo>
                  <a:pt x="674751" y="377443"/>
                </a:moveTo>
                <a:lnTo>
                  <a:pt x="605536" y="409321"/>
                </a:lnTo>
                <a:lnTo>
                  <a:pt x="613537" y="426592"/>
                </a:lnTo>
                <a:lnTo>
                  <a:pt x="682751" y="394715"/>
                </a:lnTo>
                <a:lnTo>
                  <a:pt x="674751" y="377443"/>
                </a:lnTo>
                <a:close/>
              </a:path>
              <a:path w="1494789" h="705485">
                <a:moveTo>
                  <a:pt x="795909" y="321563"/>
                </a:moveTo>
                <a:lnTo>
                  <a:pt x="726693" y="353440"/>
                </a:lnTo>
                <a:lnTo>
                  <a:pt x="734694" y="370839"/>
                </a:lnTo>
                <a:lnTo>
                  <a:pt x="803910" y="338963"/>
                </a:lnTo>
                <a:lnTo>
                  <a:pt x="795909" y="321563"/>
                </a:lnTo>
                <a:close/>
              </a:path>
              <a:path w="1494789" h="705485">
                <a:moveTo>
                  <a:pt x="917066" y="265811"/>
                </a:moveTo>
                <a:lnTo>
                  <a:pt x="847851" y="297688"/>
                </a:lnTo>
                <a:lnTo>
                  <a:pt x="855726" y="314960"/>
                </a:lnTo>
                <a:lnTo>
                  <a:pt x="924940" y="283082"/>
                </a:lnTo>
                <a:lnTo>
                  <a:pt x="917066" y="265811"/>
                </a:lnTo>
                <a:close/>
              </a:path>
              <a:path w="1494789" h="705485">
                <a:moveTo>
                  <a:pt x="1038098" y="210057"/>
                </a:moveTo>
                <a:lnTo>
                  <a:pt x="968882" y="241935"/>
                </a:lnTo>
                <a:lnTo>
                  <a:pt x="976884" y="259206"/>
                </a:lnTo>
                <a:lnTo>
                  <a:pt x="1046099" y="227329"/>
                </a:lnTo>
                <a:lnTo>
                  <a:pt x="1038098" y="210057"/>
                </a:lnTo>
                <a:close/>
              </a:path>
              <a:path w="1494789" h="705485">
                <a:moveTo>
                  <a:pt x="1159255" y="154304"/>
                </a:moveTo>
                <a:lnTo>
                  <a:pt x="1090040" y="186181"/>
                </a:lnTo>
                <a:lnTo>
                  <a:pt x="1098041" y="203453"/>
                </a:lnTo>
                <a:lnTo>
                  <a:pt x="1167256" y="171576"/>
                </a:lnTo>
                <a:lnTo>
                  <a:pt x="1159255" y="154304"/>
                </a:lnTo>
                <a:close/>
              </a:path>
              <a:path w="1494789" h="705485">
                <a:moveTo>
                  <a:pt x="1280414" y="98551"/>
                </a:moveTo>
                <a:lnTo>
                  <a:pt x="1211199" y="130428"/>
                </a:lnTo>
                <a:lnTo>
                  <a:pt x="1219200" y="147700"/>
                </a:lnTo>
                <a:lnTo>
                  <a:pt x="1288414" y="115824"/>
                </a:lnTo>
                <a:lnTo>
                  <a:pt x="1280414" y="98551"/>
                </a:lnTo>
                <a:close/>
              </a:path>
              <a:path w="1494789" h="705485">
                <a:moveTo>
                  <a:pt x="1458073" y="28910"/>
                </a:moveTo>
                <a:lnTo>
                  <a:pt x="1418589" y="85216"/>
                </a:lnTo>
                <a:lnTo>
                  <a:pt x="1415668" y="89535"/>
                </a:lnTo>
                <a:lnTo>
                  <a:pt x="1416685" y="95503"/>
                </a:lnTo>
                <a:lnTo>
                  <a:pt x="1421002" y="98425"/>
                </a:lnTo>
                <a:lnTo>
                  <a:pt x="1425320" y="101473"/>
                </a:lnTo>
                <a:lnTo>
                  <a:pt x="1431289" y="100456"/>
                </a:lnTo>
                <a:lnTo>
                  <a:pt x="1434211" y="96138"/>
                </a:lnTo>
                <a:lnTo>
                  <a:pt x="1476367" y="36067"/>
                </a:lnTo>
                <a:lnTo>
                  <a:pt x="1461389" y="36067"/>
                </a:lnTo>
                <a:lnTo>
                  <a:pt x="1458073" y="28910"/>
                </a:lnTo>
                <a:close/>
              </a:path>
              <a:path w="1494789" h="705485">
                <a:moveTo>
                  <a:pt x="1401572" y="42672"/>
                </a:moveTo>
                <a:lnTo>
                  <a:pt x="1332356" y="74549"/>
                </a:lnTo>
                <a:lnTo>
                  <a:pt x="1340230" y="91948"/>
                </a:lnTo>
                <a:lnTo>
                  <a:pt x="1409445" y="60071"/>
                </a:lnTo>
                <a:lnTo>
                  <a:pt x="1401572" y="42672"/>
                </a:lnTo>
                <a:close/>
              </a:path>
              <a:path w="1494789" h="705485">
                <a:moveTo>
                  <a:pt x="1459860" y="26362"/>
                </a:moveTo>
                <a:lnTo>
                  <a:pt x="1458073" y="28910"/>
                </a:lnTo>
                <a:lnTo>
                  <a:pt x="1461389" y="36067"/>
                </a:lnTo>
                <a:lnTo>
                  <a:pt x="1479133" y="27939"/>
                </a:lnTo>
                <a:lnTo>
                  <a:pt x="1476120" y="27939"/>
                </a:lnTo>
                <a:lnTo>
                  <a:pt x="1459860" y="26362"/>
                </a:lnTo>
                <a:close/>
              </a:path>
              <a:path w="1494789" h="705485">
                <a:moveTo>
                  <a:pt x="1486377" y="9778"/>
                </a:moveTo>
                <a:lnTo>
                  <a:pt x="1473073" y="9778"/>
                </a:lnTo>
                <a:lnTo>
                  <a:pt x="1481074" y="27050"/>
                </a:lnTo>
                <a:lnTo>
                  <a:pt x="1461389" y="36067"/>
                </a:lnTo>
                <a:lnTo>
                  <a:pt x="1476367" y="36067"/>
                </a:lnTo>
                <a:lnTo>
                  <a:pt x="1494281" y="10540"/>
                </a:lnTo>
                <a:lnTo>
                  <a:pt x="1486377" y="9778"/>
                </a:lnTo>
                <a:close/>
              </a:path>
              <a:path w="1494789" h="705485">
                <a:moveTo>
                  <a:pt x="1456753" y="26061"/>
                </a:moveTo>
                <a:lnTo>
                  <a:pt x="1458073" y="28910"/>
                </a:lnTo>
                <a:lnTo>
                  <a:pt x="1459860" y="26362"/>
                </a:lnTo>
                <a:lnTo>
                  <a:pt x="1456753" y="26061"/>
                </a:lnTo>
                <a:close/>
              </a:path>
              <a:path w="1494789" h="705485">
                <a:moveTo>
                  <a:pt x="1469263" y="12953"/>
                </a:moveTo>
                <a:lnTo>
                  <a:pt x="1459860" y="26362"/>
                </a:lnTo>
                <a:lnTo>
                  <a:pt x="1476120" y="27939"/>
                </a:lnTo>
                <a:lnTo>
                  <a:pt x="1469263" y="12953"/>
                </a:lnTo>
                <a:close/>
              </a:path>
              <a:path w="1494789" h="705485">
                <a:moveTo>
                  <a:pt x="1474543" y="12953"/>
                </a:moveTo>
                <a:lnTo>
                  <a:pt x="1469263" y="12953"/>
                </a:lnTo>
                <a:lnTo>
                  <a:pt x="1476120" y="27939"/>
                </a:lnTo>
                <a:lnTo>
                  <a:pt x="1479133" y="27939"/>
                </a:lnTo>
                <a:lnTo>
                  <a:pt x="1481074" y="27050"/>
                </a:lnTo>
                <a:lnTo>
                  <a:pt x="1474543" y="12953"/>
                </a:lnTo>
                <a:close/>
              </a:path>
              <a:path w="1494789" h="705485">
                <a:moveTo>
                  <a:pt x="1473073" y="9778"/>
                </a:moveTo>
                <a:lnTo>
                  <a:pt x="1453388" y="18796"/>
                </a:lnTo>
                <a:lnTo>
                  <a:pt x="1456753" y="26061"/>
                </a:lnTo>
                <a:lnTo>
                  <a:pt x="1459860" y="26362"/>
                </a:lnTo>
                <a:lnTo>
                  <a:pt x="1469263" y="12953"/>
                </a:lnTo>
                <a:lnTo>
                  <a:pt x="1474543" y="12953"/>
                </a:lnTo>
                <a:lnTo>
                  <a:pt x="1473073" y="9778"/>
                </a:lnTo>
                <a:close/>
              </a:path>
              <a:path w="1494789" h="705485">
                <a:moveTo>
                  <a:pt x="1384935" y="0"/>
                </a:moveTo>
                <a:lnTo>
                  <a:pt x="1380236" y="3810"/>
                </a:lnTo>
                <a:lnTo>
                  <a:pt x="1379219" y="14224"/>
                </a:lnTo>
                <a:lnTo>
                  <a:pt x="1383156" y="18923"/>
                </a:lnTo>
                <a:lnTo>
                  <a:pt x="1456753" y="26061"/>
                </a:lnTo>
                <a:lnTo>
                  <a:pt x="1453388" y="18796"/>
                </a:lnTo>
                <a:lnTo>
                  <a:pt x="1473073" y="9778"/>
                </a:lnTo>
                <a:lnTo>
                  <a:pt x="1486377" y="9778"/>
                </a:lnTo>
                <a:lnTo>
                  <a:pt x="1384935"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70" name="object 9"/>
          <p:cNvSpPr/>
          <p:nvPr/>
        </p:nvSpPr>
        <p:spPr>
          <a:xfrm>
            <a:off x="841320" y="1185840"/>
            <a:ext cx="1359000" cy="2256120"/>
          </a:xfrm>
          <a:prstGeom prst="rect">
            <a:avLst/>
          </a:prstGeom>
          <a:solidFill>
            <a:srgbClr val="b9dde0"/>
          </a:solidFill>
          <a:ln w="3240">
            <a:solidFill>
              <a:srgbClr val="bebebe"/>
            </a:solidFill>
            <a:miter/>
          </a:ln>
        </p:spPr>
        <p:style>
          <a:lnRef idx="0"/>
          <a:fillRef idx="0"/>
          <a:effectRef idx="0"/>
          <a:fontRef idx="minor"/>
        </p:style>
        <p:txBody>
          <a:bodyPr lIns="0" rIns="0" tIns="124560" bIns="0" anchor="t">
            <a:spAutoFit/>
          </a:bodyPr>
          <a:p>
            <a:pPr marL="37944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70’s:</a:t>
            </a:r>
            <a:endParaRPr b="0" lang="en-US" sz="1400" spc="-1" strike="noStrike">
              <a:solidFill>
                <a:srgbClr val="003366"/>
              </a:solidFill>
              <a:latin typeface="Arial"/>
            </a:endParaRPr>
          </a:p>
          <a:p>
            <a:pPr marL="37944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Import  substitution</a:t>
            </a:r>
            <a:endParaRPr b="0" lang="en-US" sz="1400" spc="-1" strike="noStrike">
              <a:solidFill>
                <a:srgbClr val="003366"/>
              </a:solidFill>
              <a:latin typeface="Arial"/>
            </a:endParaRPr>
          </a:p>
          <a:p>
            <a:pPr marL="37944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vailability of  capital</a:t>
            </a:r>
            <a:endParaRPr b="0" lang="en-US" sz="1400" spc="-1" strike="noStrike">
              <a:solidFill>
                <a:srgbClr val="003366"/>
              </a:solidFill>
              <a:latin typeface="Arial"/>
            </a:endParaRPr>
          </a:p>
          <a:p>
            <a:pPr marL="37944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Development  policies</a:t>
            </a:r>
            <a:endParaRPr b="0" lang="en-US" sz="1400" spc="-1" strike="noStrike">
              <a:solidFill>
                <a:srgbClr val="003366"/>
              </a:solidFill>
              <a:latin typeface="Arial"/>
            </a:endParaRPr>
          </a:p>
        </p:txBody>
      </p:sp>
      <p:sp>
        <p:nvSpPr>
          <p:cNvPr id="571" name="object 10"/>
          <p:cNvSpPr/>
          <p:nvPr/>
        </p:nvSpPr>
        <p:spPr>
          <a:xfrm>
            <a:off x="2755800" y="1185840"/>
            <a:ext cx="1357560" cy="1511640"/>
          </a:xfrm>
          <a:prstGeom prst="rect">
            <a:avLst/>
          </a:prstGeom>
          <a:solidFill>
            <a:srgbClr val="b9dde0"/>
          </a:solidFill>
          <a:ln w="3240">
            <a:solidFill>
              <a:srgbClr val="bebebe"/>
            </a:solidFill>
            <a:miter/>
          </a:ln>
        </p:spPr>
        <p:style>
          <a:lnRef idx="0"/>
          <a:fillRef idx="0"/>
          <a:effectRef idx="0"/>
          <a:fontRef idx="minor"/>
        </p:style>
        <p:txBody>
          <a:bodyPr lIns="0" rIns="0" tIns="432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80’s:</a:t>
            </a:r>
            <a:endParaRPr b="0" lang="en-US" sz="1400" spc="-1" strike="noStrike">
              <a:solidFill>
                <a:srgbClr val="003366"/>
              </a:solidFill>
              <a:latin typeface="Arial"/>
            </a:endParaRPr>
          </a:p>
          <a:p>
            <a:pPr>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Hydro  development  slows (debt  crisis), bu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doesn’t stop</a:t>
            </a:r>
            <a:endParaRPr b="0" lang="en-US" sz="1400" spc="-1" strike="noStrike">
              <a:solidFill>
                <a:srgbClr val="003366"/>
              </a:solidFill>
              <a:latin typeface="Arial"/>
            </a:endParaRPr>
          </a:p>
        </p:txBody>
      </p:sp>
      <p:sp>
        <p:nvSpPr>
          <p:cNvPr id="572" name="object 11"/>
          <p:cNvSpPr/>
          <p:nvPr/>
        </p:nvSpPr>
        <p:spPr>
          <a:xfrm>
            <a:off x="4692600" y="1211400"/>
            <a:ext cx="1932120" cy="1503720"/>
          </a:xfrm>
          <a:prstGeom prst="rect">
            <a:avLst/>
          </a:prstGeom>
          <a:solidFill>
            <a:srgbClr val="b9dde0"/>
          </a:solidFill>
          <a:ln w="3240">
            <a:solidFill>
              <a:srgbClr val="bebebe"/>
            </a:solidFill>
            <a:miter/>
          </a:ln>
        </p:spPr>
        <p:style>
          <a:lnRef idx="0"/>
          <a:fillRef idx="0"/>
          <a:effectRef idx="0"/>
          <a:fontRef idx="minor"/>
        </p:style>
        <p:txBody>
          <a:bodyPr lIns="0" rIns="0" tIns="43200" bIns="0" anchor="t">
            <a:spAutoFit/>
          </a:bodyPr>
          <a:p>
            <a:pPr marL="55548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1995 -2004:</a:t>
            </a:r>
            <a:endParaRPr b="0" lang="en-US" sz="1200" spc="-1" strike="noStrike">
              <a:solidFill>
                <a:srgbClr val="003366"/>
              </a:solidFill>
              <a:latin typeface="Arial"/>
            </a:endParaRPr>
          </a:p>
          <a:p>
            <a:pPr marL="555480"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Under 1</a:t>
            </a:r>
            <a:r>
              <a:rPr b="1" lang="en-US" sz="1200" spc="-1" strike="noStrike" baseline="24000">
                <a:solidFill>
                  <a:srgbClr val="003366"/>
                </a:solidFill>
                <a:latin typeface="Arial"/>
                <a:ea typeface="Arial"/>
              </a:rPr>
              <a:t>st </a:t>
            </a:r>
            <a:r>
              <a:rPr b="1" lang="en-US" sz="1200" spc="-1" strike="noStrike">
                <a:solidFill>
                  <a:srgbClr val="003366"/>
                </a:solidFill>
                <a:latin typeface="Arial"/>
                <a:ea typeface="Arial"/>
              </a:rPr>
              <a:t>reform, hydro  development continues,  but total generation lags</a:t>
            </a:r>
            <a:endParaRPr b="0" lang="en-US" sz="1200" spc="-1" strike="noStrike">
              <a:solidFill>
                <a:srgbClr val="003366"/>
              </a:solidFill>
              <a:latin typeface="Arial"/>
            </a:endParaRPr>
          </a:p>
          <a:p>
            <a:pPr marL="555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demand growth</a:t>
            </a:r>
            <a:endParaRPr b="0" lang="en-US" sz="1200" spc="-1" strike="noStrike">
              <a:solidFill>
                <a:srgbClr val="003366"/>
              </a:solidFill>
              <a:latin typeface="Arial"/>
            </a:endParaRPr>
          </a:p>
        </p:txBody>
      </p:sp>
      <p:pic>
        <p:nvPicPr>
          <p:cNvPr id="573" name="object 12" descr=""/>
          <p:cNvPicPr/>
          <p:nvPr/>
        </p:nvPicPr>
        <p:blipFill>
          <a:blip r:embed="rId2"/>
          <a:stretch/>
        </p:blipFill>
        <p:spPr>
          <a:xfrm>
            <a:off x="139680" y="2670120"/>
            <a:ext cx="324000" cy="1841400"/>
          </a:xfrm>
          <a:prstGeom prst="rect">
            <a:avLst/>
          </a:prstGeom>
          <a:ln w="0">
            <a:noFill/>
          </a:ln>
        </p:spPr>
      </p:pic>
      <p:sp>
        <p:nvSpPr>
          <p:cNvPr id="574" name="object 13"/>
          <p:cNvSpPr/>
          <p:nvPr/>
        </p:nvSpPr>
        <p:spPr>
          <a:xfrm>
            <a:off x="519120" y="1549440"/>
            <a:ext cx="146160" cy="382752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75" name="object 14"/>
          <p:cNvSpPr/>
          <p:nvPr/>
        </p:nvSpPr>
        <p:spPr>
          <a:xfrm>
            <a:off x="8043840" y="5237280"/>
            <a:ext cx="827280" cy="1652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Source: EPE</a:t>
            </a:r>
            <a:endParaRPr b="0" lang="en-US" sz="1000" spc="-1" strike="noStrike">
              <a:solidFill>
                <a:srgbClr val="003366"/>
              </a:solidFill>
              <a:latin typeface="Arial"/>
            </a:endParaRPr>
          </a:p>
        </p:txBody>
      </p:sp>
      <p:sp>
        <p:nvSpPr>
          <p:cNvPr id="576" name="object 15"/>
          <p:cNvSpPr/>
          <p:nvPr/>
        </p:nvSpPr>
        <p:spPr>
          <a:xfrm>
            <a:off x="2502000" y="4591080"/>
            <a:ext cx="2695320" cy="62532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77" name="object 16"/>
          <p:cNvSpPr/>
          <p:nvPr/>
        </p:nvSpPr>
        <p:spPr>
          <a:xfrm>
            <a:off x="6732720" y="1724040"/>
            <a:ext cx="360" cy="1469880"/>
          </a:xfrm>
          <a:custGeom>
            <a:avLst/>
            <a:gdLst/>
            <a:ahLst/>
            <a:rect l="l" t="t" r="r" b="b"/>
            <a:pathLst>
              <a:path w="0" h="1470025">
                <a:moveTo>
                  <a:pt x="0" y="1469898"/>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78" name="object 17"/>
          <p:cNvSpPr/>
          <p:nvPr/>
        </p:nvSpPr>
        <p:spPr>
          <a:xfrm>
            <a:off x="6885000" y="1525680"/>
            <a:ext cx="1495440" cy="704880"/>
          </a:xfrm>
          <a:custGeom>
            <a:avLst/>
            <a:gdLst/>
            <a:ahLst/>
            <a:rect l="l" t="t" r="r" b="b"/>
            <a:pathLst>
              <a:path w="1494790" h="705485">
                <a:moveTo>
                  <a:pt x="69215" y="656208"/>
                </a:moveTo>
                <a:lnTo>
                  <a:pt x="0" y="688085"/>
                </a:lnTo>
                <a:lnTo>
                  <a:pt x="7874" y="705484"/>
                </a:lnTo>
                <a:lnTo>
                  <a:pt x="77089" y="673607"/>
                </a:lnTo>
                <a:lnTo>
                  <a:pt x="69215" y="656208"/>
                </a:lnTo>
                <a:close/>
              </a:path>
              <a:path w="1494790" h="705485">
                <a:moveTo>
                  <a:pt x="190246" y="600455"/>
                </a:moveTo>
                <a:lnTo>
                  <a:pt x="121031" y="632332"/>
                </a:lnTo>
                <a:lnTo>
                  <a:pt x="129032" y="649731"/>
                </a:lnTo>
                <a:lnTo>
                  <a:pt x="198247" y="617854"/>
                </a:lnTo>
                <a:lnTo>
                  <a:pt x="190246" y="600455"/>
                </a:lnTo>
                <a:close/>
              </a:path>
              <a:path w="1494790" h="705485">
                <a:moveTo>
                  <a:pt x="311404" y="544702"/>
                </a:moveTo>
                <a:lnTo>
                  <a:pt x="242189" y="576579"/>
                </a:lnTo>
                <a:lnTo>
                  <a:pt x="250190" y="593851"/>
                </a:lnTo>
                <a:lnTo>
                  <a:pt x="319405" y="561975"/>
                </a:lnTo>
                <a:lnTo>
                  <a:pt x="311404" y="544702"/>
                </a:lnTo>
                <a:close/>
              </a:path>
              <a:path w="1494790" h="705485">
                <a:moveTo>
                  <a:pt x="432562" y="488950"/>
                </a:moveTo>
                <a:lnTo>
                  <a:pt x="363347" y="520826"/>
                </a:lnTo>
                <a:lnTo>
                  <a:pt x="371348" y="538099"/>
                </a:lnTo>
                <a:lnTo>
                  <a:pt x="440563" y="506221"/>
                </a:lnTo>
                <a:lnTo>
                  <a:pt x="432562" y="488950"/>
                </a:lnTo>
                <a:close/>
              </a:path>
              <a:path w="1494790" h="705485">
                <a:moveTo>
                  <a:pt x="553720" y="433196"/>
                </a:moveTo>
                <a:lnTo>
                  <a:pt x="484505" y="465074"/>
                </a:lnTo>
                <a:lnTo>
                  <a:pt x="492379" y="482345"/>
                </a:lnTo>
                <a:lnTo>
                  <a:pt x="561594" y="450468"/>
                </a:lnTo>
                <a:lnTo>
                  <a:pt x="553720" y="433196"/>
                </a:lnTo>
                <a:close/>
              </a:path>
              <a:path w="1494790" h="705485">
                <a:moveTo>
                  <a:pt x="674751" y="377443"/>
                </a:moveTo>
                <a:lnTo>
                  <a:pt x="605536" y="409320"/>
                </a:lnTo>
                <a:lnTo>
                  <a:pt x="613537" y="426592"/>
                </a:lnTo>
                <a:lnTo>
                  <a:pt x="682752" y="394715"/>
                </a:lnTo>
                <a:lnTo>
                  <a:pt x="674751" y="377443"/>
                </a:lnTo>
                <a:close/>
              </a:path>
              <a:path w="1494790" h="705485">
                <a:moveTo>
                  <a:pt x="795909" y="321563"/>
                </a:moveTo>
                <a:lnTo>
                  <a:pt x="726694" y="353440"/>
                </a:lnTo>
                <a:lnTo>
                  <a:pt x="734695" y="370839"/>
                </a:lnTo>
                <a:lnTo>
                  <a:pt x="803910" y="338963"/>
                </a:lnTo>
                <a:lnTo>
                  <a:pt x="795909" y="321563"/>
                </a:lnTo>
                <a:close/>
              </a:path>
              <a:path w="1494790" h="705485">
                <a:moveTo>
                  <a:pt x="917067" y="265810"/>
                </a:moveTo>
                <a:lnTo>
                  <a:pt x="847852" y="297688"/>
                </a:lnTo>
                <a:lnTo>
                  <a:pt x="855726" y="314959"/>
                </a:lnTo>
                <a:lnTo>
                  <a:pt x="924941" y="283082"/>
                </a:lnTo>
                <a:lnTo>
                  <a:pt x="917067" y="265810"/>
                </a:lnTo>
                <a:close/>
              </a:path>
              <a:path w="1494790" h="705485">
                <a:moveTo>
                  <a:pt x="1038098" y="210057"/>
                </a:moveTo>
                <a:lnTo>
                  <a:pt x="968883" y="241934"/>
                </a:lnTo>
                <a:lnTo>
                  <a:pt x="976884" y="259206"/>
                </a:lnTo>
                <a:lnTo>
                  <a:pt x="1046099" y="227329"/>
                </a:lnTo>
                <a:lnTo>
                  <a:pt x="1038098" y="210057"/>
                </a:lnTo>
                <a:close/>
              </a:path>
              <a:path w="1494790" h="705485">
                <a:moveTo>
                  <a:pt x="1159256" y="154304"/>
                </a:moveTo>
                <a:lnTo>
                  <a:pt x="1090041" y="186181"/>
                </a:lnTo>
                <a:lnTo>
                  <a:pt x="1098042" y="203453"/>
                </a:lnTo>
                <a:lnTo>
                  <a:pt x="1167257" y="171576"/>
                </a:lnTo>
                <a:lnTo>
                  <a:pt x="1159256" y="154304"/>
                </a:lnTo>
                <a:close/>
              </a:path>
              <a:path w="1494790" h="705485">
                <a:moveTo>
                  <a:pt x="1280414" y="98551"/>
                </a:moveTo>
                <a:lnTo>
                  <a:pt x="1211199" y="130428"/>
                </a:lnTo>
                <a:lnTo>
                  <a:pt x="1219200" y="147700"/>
                </a:lnTo>
                <a:lnTo>
                  <a:pt x="1288415" y="115824"/>
                </a:lnTo>
                <a:lnTo>
                  <a:pt x="1280414" y="98551"/>
                </a:lnTo>
                <a:close/>
              </a:path>
              <a:path w="1494790" h="705485">
                <a:moveTo>
                  <a:pt x="1458073" y="28910"/>
                </a:moveTo>
                <a:lnTo>
                  <a:pt x="1418590" y="85216"/>
                </a:lnTo>
                <a:lnTo>
                  <a:pt x="1415669" y="89534"/>
                </a:lnTo>
                <a:lnTo>
                  <a:pt x="1416685" y="95503"/>
                </a:lnTo>
                <a:lnTo>
                  <a:pt x="1421003" y="98425"/>
                </a:lnTo>
                <a:lnTo>
                  <a:pt x="1425321" y="101472"/>
                </a:lnTo>
                <a:lnTo>
                  <a:pt x="1431290" y="100456"/>
                </a:lnTo>
                <a:lnTo>
                  <a:pt x="1434211" y="96138"/>
                </a:lnTo>
                <a:lnTo>
                  <a:pt x="1476367" y="36067"/>
                </a:lnTo>
                <a:lnTo>
                  <a:pt x="1461389" y="36067"/>
                </a:lnTo>
                <a:lnTo>
                  <a:pt x="1458073" y="28910"/>
                </a:lnTo>
                <a:close/>
              </a:path>
              <a:path w="1494790" h="705485">
                <a:moveTo>
                  <a:pt x="1401572" y="42671"/>
                </a:moveTo>
                <a:lnTo>
                  <a:pt x="1332357" y="74549"/>
                </a:lnTo>
                <a:lnTo>
                  <a:pt x="1340231" y="91947"/>
                </a:lnTo>
                <a:lnTo>
                  <a:pt x="1409446" y="60070"/>
                </a:lnTo>
                <a:lnTo>
                  <a:pt x="1401572" y="42671"/>
                </a:lnTo>
                <a:close/>
              </a:path>
              <a:path w="1494790" h="705485">
                <a:moveTo>
                  <a:pt x="1459860" y="26362"/>
                </a:moveTo>
                <a:lnTo>
                  <a:pt x="1458073" y="28910"/>
                </a:lnTo>
                <a:lnTo>
                  <a:pt x="1461389" y="36067"/>
                </a:lnTo>
                <a:lnTo>
                  <a:pt x="1479133" y="27939"/>
                </a:lnTo>
                <a:lnTo>
                  <a:pt x="1476121" y="27939"/>
                </a:lnTo>
                <a:lnTo>
                  <a:pt x="1459860" y="26362"/>
                </a:lnTo>
                <a:close/>
              </a:path>
              <a:path w="1494790" h="705485">
                <a:moveTo>
                  <a:pt x="1486377" y="9778"/>
                </a:moveTo>
                <a:lnTo>
                  <a:pt x="1473073" y="9778"/>
                </a:lnTo>
                <a:lnTo>
                  <a:pt x="1481074" y="27050"/>
                </a:lnTo>
                <a:lnTo>
                  <a:pt x="1461389" y="36067"/>
                </a:lnTo>
                <a:lnTo>
                  <a:pt x="1476367" y="36067"/>
                </a:lnTo>
                <a:lnTo>
                  <a:pt x="1494282" y="10540"/>
                </a:lnTo>
                <a:lnTo>
                  <a:pt x="1486377" y="9778"/>
                </a:lnTo>
                <a:close/>
              </a:path>
              <a:path w="1494790" h="705485">
                <a:moveTo>
                  <a:pt x="1456753" y="26061"/>
                </a:moveTo>
                <a:lnTo>
                  <a:pt x="1458073" y="28910"/>
                </a:lnTo>
                <a:lnTo>
                  <a:pt x="1459860" y="26362"/>
                </a:lnTo>
                <a:lnTo>
                  <a:pt x="1456753" y="26061"/>
                </a:lnTo>
                <a:close/>
              </a:path>
              <a:path w="1494790" h="705485">
                <a:moveTo>
                  <a:pt x="1469263" y="12953"/>
                </a:moveTo>
                <a:lnTo>
                  <a:pt x="1459860" y="26362"/>
                </a:lnTo>
                <a:lnTo>
                  <a:pt x="1476121" y="27939"/>
                </a:lnTo>
                <a:lnTo>
                  <a:pt x="1469263" y="12953"/>
                </a:lnTo>
                <a:close/>
              </a:path>
              <a:path w="1494790" h="705485">
                <a:moveTo>
                  <a:pt x="1474543" y="12953"/>
                </a:moveTo>
                <a:lnTo>
                  <a:pt x="1469263" y="12953"/>
                </a:lnTo>
                <a:lnTo>
                  <a:pt x="1476121" y="27939"/>
                </a:lnTo>
                <a:lnTo>
                  <a:pt x="1479133" y="27939"/>
                </a:lnTo>
                <a:lnTo>
                  <a:pt x="1481074" y="27050"/>
                </a:lnTo>
                <a:lnTo>
                  <a:pt x="1474543" y="12953"/>
                </a:lnTo>
                <a:close/>
              </a:path>
              <a:path w="1494790" h="705485">
                <a:moveTo>
                  <a:pt x="1473073" y="9778"/>
                </a:moveTo>
                <a:lnTo>
                  <a:pt x="1453388" y="18795"/>
                </a:lnTo>
                <a:lnTo>
                  <a:pt x="1456753" y="26061"/>
                </a:lnTo>
                <a:lnTo>
                  <a:pt x="1459860" y="26362"/>
                </a:lnTo>
                <a:lnTo>
                  <a:pt x="1469263" y="12953"/>
                </a:lnTo>
                <a:lnTo>
                  <a:pt x="1474543" y="12953"/>
                </a:lnTo>
                <a:lnTo>
                  <a:pt x="1473073" y="9778"/>
                </a:lnTo>
                <a:close/>
              </a:path>
              <a:path w="1494790" h="705485">
                <a:moveTo>
                  <a:pt x="1384935" y="0"/>
                </a:moveTo>
                <a:lnTo>
                  <a:pt x="1380236" y="3809"/>
                </a:lnTo>
                <a:lnTo>
                  <a:pt x="1379220" y="14224"/>
                </a:lnTo>
                <a:lnTo>
                  <a:pt x="1383157" y="18922"/>
                </a:lnTo>
                <a:lnTo>
                  <a:pt x="1456753" y="26061"/>
                </a:lnTo>
                <a:lnTo>
                  <a:pt x="1453388" y="18795"/>
                </a:lnTo>
                <a:lnTo>
                  <a:pt x="1473073" y="9778"/>
                </a:lnTo>
                <a:lnTo>
                  <a:pt x="1486377" y="9778"/>
                </a:lnTo>
                <a:lnTo>
                  <a:pt x="1384935"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79" name="object 18"/>
          <p:cNvSpPr/>
          <p:nvPr/>
        </p:nvSpPr>
        <p:spPr>
          <a:xfrm>
            <a:off x="6826320" y="2854440"/>
            <a:ext cx="1931760" cy="956160"/>
          </a:xfrm>
          <a:prstGeom prst="rect">
            <a:avLst/>
          </a:prstGeom>
          <a:solidFill>
            <a:srgbClr val="b9dde0"/>
          </a:solidFill>
          <a:ln w="3240">
            <a:solidFill>
              <a:srgbClr val="bebebe"/>
            </a:solidFill>
            <a:miter/>
          </a:ln>
        </p:spPr>
        <p:style>
          <a:lnRef idx="0"/>
          <a:fillRef idx="0"/>
          <a:effectRef idx="0"/>
          <a:fontRef idx="minor"/>
        </p:style>
        <p:txBody>
          <a:bodyPr lIns="0" rIns="0" tIns="43200" bIns="0" anchor="t">
            <a:spAutoFit/>
          </a:bodyPr>
          <a:p>
            <a:pPr marL="3240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2004 and beyond:</a:t>
            </a:r>
            <a:endParaRPr b="0" lang="en-US" sz="1200" spc="-1" strike="noStrike">
              <a:solidFill>
                <a:srgbClr val="003366"/>
              </a:solidFill>
              <a:latin typeface="Arial"/>
            </a:endParaRPr>
          </a:p>
          <a:p>
            <a:pPr marL="324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 Hydro development  continues, but growth of  other technologies gain  momentum</a:t>
            </a:r>
            <a:endParaRPr b="0" lang="en-US" sz="1200" spc="-1" strike="noStrike">
              <a:solidFill>
                <a:srgbClr val="003366"/>
              </a:solidFill>
              <a:latin typeface="Arial"/>
            </a:endParaRPr>
          </a:p>
        </p:txBody>
      </p:sp>
      <p:sp>
        <p:nvSpPr>
          <p:cNvPr id="580" name="object 19"/>
          <p:cNvSpPr/>
          <p:nvPr/>
        </p:nvSpPr>
        <p:spPr>
          <a:xfrm>
            <a:off x="6732720" y="4456080"/>
            <a:ext cx="360" cy="982800"/>
          </a:xfrm>
          <a:custGeom>
            <a:avLst/>
            <a:gdLst/>
            <a:ahLst/>
            <a:rect l="l" t="t" r="r" b="b"/>
            <a:pathLst>
              <a:path w="0" h="982979">
                <a:moveTo>
                  <a:pt x="0" y="982979"/>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1" name="object 20"/>
          <p:cNvSpPr/>
          <p:nvPr/>
        </p:nvSpPr>
        <p:spPr>
          <a:xfrm>
            <a:off x="6005520" y="4695840"/>
            <a:ext cx="360" cy="901800"/>
          </a:xfrm>
          <a:custGeom>
            <a:avLst/>
            <a:gdLst/>
            <a:ahLst/>
            <a:rect l="l" t="t" r="r" b="b"/>
            <a:pathLst>
              <a:path w="0" h="902970">
                <a:moveTo>
                  <a:pt x="0" y="902627"/>
                </a:moveTo>
                <a:lnTo>
                  <a:pt x="0" y="0"/>
                </a:lnTo>
              </a:path>
            </a:pathLst>
          </a:custGeom>
          <a:noFill/>
          <a:ln w="19080">
            <a:solidFill>
              <a:srgbClr val="000000"/>
            </a:solidFill>
            <a:prstDash val="sys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2" name="object 21"/>
          <p:cNvSpPr/>
          <p:nvPr/>
        </p:nvSpPr>
        <p:spPr>
          <a:xfrm>
            <a:off x="5640480" y="4067280"/>
            <a:ext cx="1001520" cy="530280"/>
          </a:xfrm>
          <a:prstGeom prst="rect">
            <a:avLst/>
          </a:prstGeom>
          <a:solidFill>
            <a:srgbClr val="b9dde0"/>
          </a:solidFill>
          <a:ln w="3240">
            <a:solidFill>
              <a:srgbClr val="bebebe"/>
            </a:solidFill>
            <a:miter/>
          </a:ln>
        </p:spPr>
        <p:style>
          <a:lnRef idx="0"/>
          <a:fillRef idx="0"/>
          <a:effectRef idx="0"/>
          <a:fontRef idx="minor"/>
        </p:style>
        <p:txBody>
          <a:bodyPr lIns="0" rIns="0" tIns="0" bIns="0" anchor="t">
            <a:spAutoFit/>
          </a:bodyPr>
          <a:p>
            <a:pPr marL="9036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Emergency</a:t>
            </a:r>
            <a:endParaRPr b="0" lang="en-US" sz="1200" spc="-1" strike="noStrike">
              <a:solidFill>
                <a:srgbClr val="003366"/>
              </a:solidFill>
              <a:latin typeface="Arial"/>
            </a:endParaRPr>
          </a:p>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asures  (rationing)</a:t>
            </a:r>
            <a:endParaRPr b="0" lang="en-US" sz="1200" spc="-1" strike="noStrike">
              <a:solidFill>
                <a:srgbClr val="003366"/>
              </a:solidFill>
              <a:latin typeface="Arial"/>
            </a:endParaRPr>
          </a:p>
        </p:txBody>
      </p:sp>
      <p:sp>
        <p:nvSpPr>
          <p:cNvPr id="583" name="object 22"/>
          <p:cNvSpPr/>
          <p:nvPr/>
        </p:nvSpPr>
        <p:spPr>
          <a:xfrm>
            <a:off x="6119640" y="4811760"/>
            <a:ext cx="487440" cy="342720"/>
          </a:xfrm>
          <a:custGeom>
            <a:avLst/>
            <a:gdLst/>
            <a:ahLst/>
            <a:rect l="l" t="t" r="r" b="b"/>
            <a:pathLst>
              <a:path w="488315" h="342264">
                <a:moveTo>
                  <a:pt x="62611" y="283082"/>
                </a:moveTo>
                <a:lnTo>
                  <a:pt x="0" y="326516"/>
                </a:lnTo>
                <a:lnTo>
                  <a:pt x="10922" y="342138"/>
                </a:lnTo>
                <a:lnTo>
                  <a:pt x="73533" y="298703"/>
                </a:lnTo>
                <a:lnTo>
                  <a:pt x="62611" y="283082"/>
                </a:lnTo>
                <a:close/>
              </a:path>
              <a:path w="488315" h="342264">
                <a:moveTo>
                  <a:pt x="172212" y="207137"/>
                </a:moveTo>
                <a:lnTo>
                  <a:pt x="109600" y="250570"/>
                </a:lnTo>
                <a:lnTo>
                  <a:pt x="120523" y="266191"/>
                </a:lnTo>
                <a:lnTo>
                  <a:pt x="183134" y="222757"/>
                </a:lnTo>
                <a:lnTo>
                  <a:pt x="172212" y="207137"/>
                </a:lnTo>
                <a:close/>
              </a:path>
              <a:path w="488315" h="342264">
                <a:moveTo>
                  <a:pt x="281939" y="131190"/>
                </a:moveTo>
                <a:lnTo>
                  <a:pt x="219201" y="174625"/>
                </a:lnTo>
                <a:lnTo>
                  <a:pt x="230124" y="190245"/>
                </a:lnTo>
                <a:lnTo>
                  <a:pt x="292735" y="146812"/>
                </a:lnTo>
                <a:lnTo>
                  <a:pt x="281939" y="131190"/>
                </a:lnTo>
                <a:close/>
              </a:path>
              <a:path w="488315" h="342264">
                <a:moveTo>
                  <a:pt x="391540" y="55244"/>
                </a:moveTo>
                <a:lnTo>
                  <a:pt x="328802" y="98678"/>
                </a:lnTo>
                <a:lnTo>
                  <a:pt x="339725" y="114300"/>
                </a:lnTo>
                <a:lnTo>
                  <a:pt x="402336" y="70865"/>
                </a:lnTo>
                <a:lnTo>
                  <a:pt x="391540" y="55244"/>
                </a:lnTo>
                <a:close/>
              </a:path>
              <a:path w="488315" h="342264">
                <a:moveTo>
                  <a:pt x="486571" y="2920"/>
                </a:moveTo>
                <a:lnTo>
                  <a:pt x="466979" y="2920"/>
                </a:lnTo>
                <a:lnTo>
                  <a:pt x="477901" y="18541"/>
                </a:lnTo>
                <a:lnTo>
                  <a:pt x="449326" y="38353"/>
                </a:lnTo>
                <a:lnTo>
                  <a:pt x="449023" y="38353"/>
                </a:lnTo>
                <a:lnTo>
                  <a:pt x="426465" y="86613"/>
                </a:lnTo>
                <a:lnTo>
                  <a:pt x="424307" y="91439"/>
                </a:lnTo>
                <a:lnTo>
                  <a:pt x="426338" y="97027"/>
                </a:lnTo>
                <a:lnTo>
                  <a:pt x="431038" y="99313"/>
                </a:lnTo>
                <a:lnTo>
                  <a:pt x="435863" y="101472"/>
                </a:lnTo>
                <a:lnTo>
                  <a:pt x="441579" y="99440"/>
                </a:lnTo>
                <a:lnTo>
                  <a:pt x="443738" y="94741"/>
                </a:lnTo>
                <a:lnTo>
                  <a:pt x="470042" y="38353"/>
                </a:lnTo>
                <a:lnTo>
                  <a:pt x="449326" y="38353"/>
                </a:lnTo>
                <a:lnTo>
                  <a:pt x="449144" y="38094"/>
                </a:lnTo>
                <a:lnTo>
                  <a:pt x="470163" y="38094"/>
                </a:lnTo>
                <a:lnTo>
                  <a:pt x="486571" y="2920"/>
                </a:lnTo>
                <a:close/>
              </a:path>
              <a:path w="488315" h="342264">
                <a:moveTo>
                  <a:pt x="469642" y="6731"/>
                </a:moveTo>
                <a:lnTo>
                  <a:pt x="463804" y="6731"/>
                </a:lnTo>
                <a:lnTo>
                  <a:pt x="473202" y="20193"/>
                </a:lnTo>
                <a:lnTo>
                  <a:pt x="456918" y="21461"/>
                </a:lnTo>
                <a:lnTo>
                  <a:pt x="449144" y="38094"/>
                </a:lnTo>
                <a:lnTo>
                  <a:pt x="449326" y="38353"/>
                </a:lnTo>
                <a:lnTo>
                  <a:pt x="477901" y="18541"/>
                </a:lnTo>
                <a:lnTo>
                  <a:pt x="469642" y="6731"/>
                </a:lnTo>
                <a:close/>
              </a:path>
              <a:path w="488315" h="342264">
                <a:moveTo>
                  <a:pt x="456918" y="21461"/>
                </a:moveTo>
                <a:lnTo>
                  <a:pt x="438517" y="22895"/>
                </a:lnTo>
                <a:lnTo>
                  <a:pt x="449144" y="38094"/>
                </a:lnTo>
                <a:lnTo>
                  <a:pt x="456918" y="21461"/>
                </a:lnTo>
                <a:close/>
              </a:path>
              <a:path w="488315" h="342264">
                <a:moveTo>
                  <a:pt x="487934" y="0"/>
                </a:moveTo>
                <a:lnTo>
                  <a:pt x="378460" y="8508"/>
                </a:lnTo>
                <a:lnTo>
                  <a:pt x="374523" y="13081"/>
                </a:lnTo>
                <a:lnTo>
                  <a:pt x="375049" y="18541"/>
                </a:lnTo>
                <a:lnTo>
                  <a:pt x="375412" y="23621"/>
                </a:lnTo>
                <a:lnTo>
                  <a:pt x="379984" y="27558"/>
                </a:lnTo>
                <a:lnTo>
                  <a:pt x="385190" y="27050"/>
                </a:lnTo>
                <a:lnTo>
                  <a:pt x="438517" y="22895"/>
                </a:lnTo>
                <a:lnTo>
                  <a:pt x="438404" y="22732"/>
                </a:lnTo>
                <a:lnTo>
                  <a:pt x="466979" y="2920"/>
                </a:lnTo>
                <a:lnTo>
                  <a:pt x="486571" y="2920"/>
                </a:lnTo>
                <a:lnTo>
                  <a:pt x="487934" y="0"/>
                </a:lnTo>
                <a:close/>
              </a:path>
              <a:path w="488315" h="342264">
                <a:moveTo>
                  <a:pt x="466979" y="2920"/>
                </a:moveTo>
                <a:lnTo>
                  <a:pt x="438404" y="22732"/>
                </a:lnTo>
                <a:lnTo>
                  <a:pt x="438517" y="22895"/>
                </a:lnTo>
                <a:lnTo>
                  <a:pt x="456918" y="21461"/>
                </a:lnTo>
                <a:lnTo>
                  <a:pt x="463804" y="6731"/>
                </a:lnTo>
                <a:lnTo>
                  <a:pt x="469642" y="6731"/>
                </a:lnTo>
                <a:lnTo>
                  <a:pt x="466979" y="2920"/>
                </a:lnTo>
                <a:close/>
              </a:path>
              <a:path w="488315" h="342264">
                <a:moveTo>
                  <a:pt x="463804" y="6731"/>
                </a:moveTo>
                <a:lnTo>
                  <a:pt x="456918" y="21461"/>
                </a:lnTo>
                <a:lnTo>
                  <a:pt x="473202" y="20193"/>
                </a:lnTo>
                <a:lnTo>
                  <a:pt x="463804" y="6731"/>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4" name="object 23"/>
          <p:cNvSpPr/>
          <p:nvPr/>
        </p:nvSpPr>
        <p:spPr>
          <a:xfrm>
            <a:off x="6823080" y="3997440"/>
            <a:ext cx="1603440" cy="723960"/>
          </a:xfrm>
          <a:custGeom>
            <a:avLst/>
            <a:gdLst/>
            <a:ahLst/>
            <a:rect l="l" t="t" r="r" b="b"/>
            <a:pathLst>
              <a:path w="1604009" h="725170">
                <a:moveTo>
                  <a:pt x="69723" y="676655"/>
                </a:moveTo>
                <a:lnTo>
                  <a:pt x="0" y="707262"/>
                </a:lnTo>
                <a:lnTo>
                  <a:pt x="7619" y="724661"/>
                </a:lnTo>
                <a:lnTo>
                  <a:pt x="77342" y="694054"/>
                </a:lnTo>
                <a:lnTo>
                  <a:pt x="69723" y="676655"/>
                </a:lnTo>
                <a:close/>
              </a:path>
              <a:path w="1604009" h="725170">
                <a:moveTo>
                  <a:pt x="191769" y="622934"/>
                </a:moveTo>
                <a:lnTo>
                  <a:pt x="122047" y="653541"/>
                </a:lnTo>
                <a:lnTo>
                  <a:pt x="129666" y="671067"/>
                </a:lnTo>
                <a:lnTo>
                  <a:pt x="199516" y="640333"/>
                </a:lnTo>
                <a:lnTo>
                  <a:pt x="191769" y="622934"/>
                </a:lnTo>
                <a:close/>
              </a:path>
              <a:path w="1604009" h="725170">
                <a:moveTo>
                  <a:pt x="313816" y="569213"/>
                </a:moveTo>
                <a:lnTo>
                  <a:pt x="244093" y="599947"/>
                </a:lnTo>
                <a:lnTo>
                  <a:pt x="251840" y="617346"/>
                </a:lnTo>
                <a:lnTo>
                  <a:pt x="321563" y="586739"/>
                </a:lnTo>
                <a:lnTo>
                  <a:pt x="313816" y="569213"/>
                </a:lnTo>
                <a:close/>
              </a:path>
              <a:path w="1604009" h="725170">
                <a:moveTo>
                  <a:pt x="435990" y="515619"/>
                </a:moveTo>
                <a:lnTo>
                  <a:pt x="366140" y="546226"/>
                </a:lnTo>
                <a:lnTo>
                  <a:pt x="373887" y="563752"/>
                </a:lnTo>
                <a:lnTo>
                  <a:pt x="443610" y="533018"/>
                </a:lnTo>
                <a:lnTo>
                  <a:pt x="435990" y="515619"/>
                </a:lnTo>
                <a:close/>
              </a:path>
              <a:path w="1604009" h="725170">
                <a:moveTo>
                  <a:pt x="558037" y="461898"/>
                </a:moveTo>
                <a:lnTo>
                  <a:pt x="488314" y="492632"/>
                </a:lnTo>
                <a:lnTo>
                  <a:pt x="495934" y="510031"/>
                </a:lnTo>
                <a:lnTo>
                  <a:pt x="565657" y="479424"/>
                </a:lnTo>
                <a:lnTo>
                  <a:pt x="558037" y="461898"/>
                </a:lnTo>
                <a:close/>
              </a:path>
              <a:path w="1604009" h="725170">
                <a:moveTo>
                  <a:pt x="680084" y="408304"/>
                </a:moveTo>
                <a:lnTo>
                  <a:pt x="610361" y="438911"/>
                </a:lnTo>
                <a:lnTo>
                  <a:pt x="617981" y="456310"/>
                </a:lnTo>
                <a:lnTo>
                  <a:pt x="687704" y="425703"/>
                </a:lnTo>
                <a:lnTo>
                  <a:pt x="680084" y="408304"/>
                </a:lnTo>
                <a:close/>
              </a:path>
              <a:path w="1604009" h="725170">
                <a:moveTo>
                  <a:pt x="802131" y="354583"/>
                </a:moveTo>
                <a:lnTo>
                  <a:pt x="732408" y="385190"/>
                </a:lnTo>
                <a:lnTo>
                  <a:pt x="740028" y="402716"/>
                </a:lnTo>
                <a:lnTo>
                  <a:pt x="809878" y="371982"/>
                </a:lnTo>
                <a:lnTo>
                  <a:pt x="802131" y="354583"/>
                </a:lnTo>
                <a:close/>
              </a:path>
              <a:path w="1604009" h="725170">
                <a:moveTo>
                  <a:pt x="924178" y="300862"/>
                </a:moveTo>
                <a:lnTo>
                  <a:pt x="854455" y="331596"/>
                </a:lnTo>
                <a:lnTo>
                  <a:pt x="862202" y="348995"/>
                </a:lnTo>
                <a:lnTo>
                  <a:pt x="931926" y="318388"/>
                </a:lnTo>
                <a:lnTo>
                  <a:pt x="924178" y="300862"/>
                </a:lnTo>
                <a:close/>
              </a:path>
              <a:path w="1604009" h="725170">
                <a:moveTo>
                  <a:pt x="1046352" y="247268"/>
                </a:moveTo>
                <a:lnTo>
                  <a:pt x="976502" y="277875"/>
                </a:lnTo>
                <a:lnTo>
                  <a:pt x="984250" y="295401"/>
                </a:lnTo>
                <a:lnTo>
                  <a:pt x="1053973" y="264667"/>
                </a:lnTo>
                <a:lnTo>
                  <a:pt x="1046352" y="247268"/>
                </a:lnTo>
                <a:close/>
              </a:path>
              <a:path w="1604009" h="725170">
                <a:moveTo>
                  <a:pt x="1168400" y="193547"/>
                </a:moveTo>
                <a:lnTo>
                  <a:pt x="1098677" y="224281"/>
                </a:lnTo>
                <a:lnTo>
                  <a:pt x="1106297" y="241680"/>
                </a:lnTo>
                <a:lnTo>
                  <a:pt x="1176019" y="210946"/>
                </a:lnTo>
                <a:lnTo>
                  <a:pt x="1168400" y="193547"/>
                </a:lnTo>
                <a:close/>
              </a:path>
              <a:path w="1604009" h="725170">
                <a:moveTo>
                  <a:pt x="1290447" y="139953"/>
                </a:moveTo>
                <a:lnTo>
                  <a:pt x="1220724" y="170560"/>
                </a:lnTo>
                <a:lnTo>
                  <a:pt x="1228343" y="187959"/>
                </a:lnTo>
                <a:lnTo>
                  <a:pt x="1298066" y="157352"/>
                </a:lnTo>
                <a:lnTo>
                  <a:pt x="1290447" y="139953"/>
                </a:lnTo>
                <a:close/>
              </a:path>
              <a:path w="1604009" h="725170">
                <a:moveTo>
                  <a:pt x="1412493" y="86232"/>
                </a:moveTo>
                <a:lnTo>
                  <a:pt x="1342771" y="116839"/>
                </a:lnTo>
                <a:lnTo>
                  <a:pt x="1350390" y="134365"/>
                </a:lnTo>
                <a:lnTo>
                  <a:pt x="1420240" y="103631"/>
                </a:lnTo>
                <a:lnTo>
                  <a:pt x="1412493" y="86232"/>
                </a:lnTo>
                <a:close/>
              </a:path>
              <a:path w="1604009" h="725170">
                <a:moveTo>
                  <a:pt x="1569460" y="27604"/>
                </a:moveTo>
                <a:lnTo>
                  <a:pt x="1524127" y="90042"/>
                </a:lnTo>
                <a:lnTo>
                  <a:pt x="1525015" y="96011"/>
                </a:lnTo>
                <a:lnTo>
                  <a:pt x="1529333" y="99059"/>
                </a:lnTo>
                <a:lnTo>
                  <a:pt x="1533525" y="102234"/>
                </a:lnTo>
                <a:lnTo>
                  <a:pt x="1539493" y="101218"/>
                </a:lnTo>
                <a:lnTo>
                  <a:pt x="1591642" y="29463"/>
                </a:lnTo>
                <a:lnTo>
                  <a:pt x="1585722" y="29463"/>
                </a:lnTo>
                <a:lnTo>
                  <a:pt x="1569460" y="27604"/>
                </a:lnTo>
                <a:close/>
              </a:path>
              <a:path w="1604009" h="725170">
                <a:moveTo>
                  <a:pt x="1534540" y="32511"/>
                </a:moveTo>
                <a:lnTo>
                  <a:pt x="1464817" y="63245"/>
                </a:lnTo>
                <a:lnTo>
                  <a:pt x="1472564" y="80644"/>
                </a:lnTo>
                <a:lnTo>
                  <a:pt x="1542287" y="50037"/>
                </a:lnTo>
                <a:lnTo>
                  <a:pt x="1534540" y="32511"/>
                </a:lnTo>
                <a:close/>
              </a:path>
              <a:path w="1604009" h="725170">
                <a:moveTo>
                  <a:pt x="1578990" y="14477"/>
                </a:moveTo>
                <a:lnTo>
                  <a:pt x="1569460" y="27604"/>
                </a:lnTo>
                <a:lnTo>
                  <a:pt x="1585722" y="29463"/>
                </a:lnTo>
                <a:lnTo>
                  <a:pt x="1578990" y="14477"/>
                </a:lnTo>
                <a:close/>
              </a:path>
              <a:path w="1604009" h="725170">
                <a:moveTo>
                  <a:pt x="1602533" y="14477"/>
                </a:moveTo>
                <a:lnTo>
                  <a:pt x="1578990" y="14477"/>
                </a:lnTo>
                <a:lnTo>
                  <a:pt x="1585722" y="29463"/>
                </a:lnTo>
                <a:lnTo>
                  <a:pt x="1591642" y="29463"/>
                </a:lnTo>
                <a:lnTo>
                  <a:pt x="1602533" y="14477"/>
                </a:lnTo>
                <a:close/>
              </a:path>
              <a:path w="1604009" h="725170">
                <a:moveTo>
                  <a:pt x="1494916" y="0"/>
                </a:moveTo>
                <a:lnTo>
                  <a:pt x="1490217" y="3682"/>
                </a:lnTo>
                <a:lnTo>
                  <a:pt x="1489582" y="8889"/>
                </a:lnTo>
                <a:lnTo>
                  <a:pt x="1489075" y="14096"/>
                </a:lnTo>
                <a:lnTo>
                  <a:pt x="1492757" y="18922"/>
                </a:lnTo>
                <a:lnTo>
                  <a:pt x="1497964" y="19430"/>
                </a:lnTo>
                <a:lnTo>
                  <a:pt x="1569460" y="27604"/>
                </a:lnTo>
                <a:lnTo>
                  <a:pt x="1578990" y="14477"/>
                </a:lnTo>
                <a:lnTo>
                  <a:pt x="1602533" y="14477"/>
                </a:lnTo>
                <a:lnTo>
                  <a:pt x="1604009" y="12445"/>
                </a:lnTo>
                <a:lnTo>
                  <a:pt x="1500124" y="507"/>
                </a:lnTo>
                <a:lnTo>
                  <a:pt x="1494916"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585" name="object 24"/>
          <p:cNvSpPr/>
          <p:nvPr/>
        </p:nvSpPr>
        <p:spPr>
          <a:xfrm>
            <a:off x="8699400" y="0"/>
            <a:ext cx="444600" cy="27468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586" name="object 25"/>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6DB4-EEA3-4871-9D0F-7C88CFBC16A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438280" y="1752480"/>
            <a:ext cx="464832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Arial"/>
              </a:rPr>
              <a:t>Thank you!</a:t>
            </a:r>
            <a:endParaRPr b="1" lang="en-US" sz="5000" spc="-1" strike="noStrike">
              <a:solidFill>
                <a:srgbClr val="cc0000"/>
              </a:solidFill>
              <a:latin typeface="Arial"/>
            </a:endParaRPr>
          </a:p>
        </p:txBody>
      </p:sp>
      <p:sp>
        <p:nvSpPr>
          <p:cNvPr id="588" name="PlaceHolder 2"/>
          <p:cNvSpPr>
            <a:spLocks noGrp="1"/>
          </p:cNvSpPr>
          <p:nvPr>
            <p:ph type="subTitle"/>
          </p:nvPr>
        </p:nvSpPr>
        <p:spPr>
          <a:xfrm>
            <a:off x="4343400" y="5410080"/>
            <a:ext cx="4648320" cy="1067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89" name="Rectangle 7"/>
          <p:cNvSpPr/>
          <p:nvPr/>
        </p:nvSpPr>
        <p:spPr>
          <a:xfrm>
            <a:off x="4419720" y="3581280"/>
            <a:ext cx="4647960" cy="10670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8920"/>
            <a:ext cx="6048360" cy="75096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tracting capital to the power sector in countries in Latin America</a:t>
            </a:r>
            <a:endParaRPr b="1" lang="en-US" sz="2400" spc="-1" strike="noStrike">
              <a:solidFill>
                <a:srgbClr val="cc0000"/>
              </a:solidFill>
              <a:latin typeface="Arial"/>
            </a:endParaRPr>
          </a:p>
        </p:txBody>
      </p:sp>
      <p:sp>
        <p:nvSpPr>
          <p:cNvPr id="96"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9C7C-24D1-485E-85A3-8EAE6AD4A30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97" name="object 3"/>
          <p:cNvSpPr/>
          <p:nvPr/>
        </p:nvSpPr>
        <p:spPr>
          <a:xfrm>
            <a:off x="609480" y="1069920"/>
            <a:ext cx="9220320" cy="5076000"/>
          </a:xfrm>
          <a:prstGeom prst="rect">
            <a:avLst/>
          </a:prstGeom>
          <a:noFill/>
          <a:ln w="0">
            <a:noFill/>
          </a:ln>
        </p:spPr>
        <p:style>
          <a:lnRef idx="0"/>
          <a:fillRef idx="0"/>
          <a:effectRef idx="0"/>
          <a:fontRef idx="minor"/>
        </p:style>
        <p:txBody>
          <a:bodyPr lIns="0" rIns="0" tIns="12600" bIns="0" anchor="t">
            <a:spAutoFit/>
          </a:bodyPr>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1800" spc="-1" strike="noStrike">
                <a:solidFill>
                  <a:srgbClr val="a39274"/>
                </a:solidFill>
                <a:latin typeface="Arial"/>
                <a:ea typeface="Arial"/>
              </a:rPr>
              <a:t>	</a:t>
            </a:r>
            <a:r>
              <a:rPr b="0" lang="en-US" sz="1800" spc="-1" strike="noStrike">
                <a:solidFill>
                  <a:srgbClr val="042745"/>
                </a:solidFill>
                <a:latin typeface="Arial"/>
                <a:ea typeface="Arial"/>
              </a:rPr>
              <a:t>Strong reliance on hydropower in many countries</a:t>
            </a:r>
            <a:endParaRPr b="0" lang="en-US" sz="1800" spc="-1" strike="noStrike">
              <a:solidFill>
                <a:srgbClr val="003366"/>
              </a:solidFill>
              <a:latin typeface="Arial"/>
            </a:endParaRPr>
          </a:p>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r>
              <a:rPr b="0" lang="en-US" sz="1800" spc="-1" strike="noStrike">
                <a:solidFill>
                  <a:srgbClr val="042745"/>
                </a:solidFill>
                <a:latin typeface="Arial"/>
                <a:ea typeface="Arial"/>
              </a:rPr>
              <a:t>- </a:t>
            </a:r>
            <a:r>
              <a:rPr b="0" lang="en-US" sz="1700" spc="-1" strike="noStrike">
                <a:solidFill>
                  <a:srgbClr val="042745"/>
                </a:solidFill>
                <a:latin typeface="Arial"/>
                <a:ea typeface="Arial"/>
              </a:rPr>
              <a:t>Low cost of supply during long periods (+)</a:t>
            </a:r>
            <a:endParaRPr b="0" lang="en-US" sz="1700" spc="-1" strike="noStrike">
              <a:solidFill>
                <a:srgbClr val="003366"/>
              </a:solidFill>
              <a:latin typeface="Arial"/>
            </a:endParaRPr>
          </a:p>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2745"/>
                </a:solidFill>
                <a:latin typeface="Arial"/>
                <a:ea typeface="Arial"/>
              </a:rPr>
              <a:t>	</a:t>
            </a:r>
            <a:r>
              <a:rPr b="0" lang="en-US" sz="1700" spc="-1" strike="noStrike">
                <a:solidFill>
                  <a:srgbClr val="042745"/>
                </a:solidFill>
                <a:latin typeface="Arial"/>
                <a:ea typeface="Arial"/>
              </a:rPr>
              <a:t>- Inherent price volatility contributes to high-risk perception (-)</a:t>
            </a:r>
            <a:endParaRPr b="0" lang="en-US" sz="1700" spc="-1" strike="noStrike">
              <a:solidFill>
                <a:srgbClr val="003366"/>
              </a:solidFill>
              <a:latin typeface="Arial"/>
            </a:endParaRPr>
          </a:p>
          <a:p>
            <a:pPr marL="355680" indent="-343080">
              <a:lnSpc>
                <a:spcPct val="150000"/>
              </a:lnSpc>
              <a:spcBef>
                <a:spcPts val="99"/>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1800" spc="-1" strike="noStrike">
                <a:solidFill>
                  <a:srgbClr val="a39274"/>
                </a:solidFill>
                <a:latin typeface="Arial"/>
                <a:ea typeface="Arial"/>
              </a:rPr>
              <a:t>	</a:t>
            </a:r>
            <a:r>
              <a:rPr b="0" lang="en-US" sz="1800" spc="-1" strike="noStrike">
                <a:solidFill>
                  <a:srgbClr val="042745"/>
                </a:solidFill>
                <a:latin typeface="Arial"/>
                <a:ea typeface="Arial"/>
              </a:rPr>
              <a:t>Challenge: maintaining a sufficiently high flow of investment to the</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r>
              <a:rPr b="0" lang="en-US" sz="1800" spc="-1" strike="noStrike">
                <a:solidFill>
                  <a:srgbClr val="042745"/>
                </a:solidFill>
                <a:latin typeface="Arial"/>
                <a:ea typeface="Arial"/>
              </a:rPr>
              <a:t>capital intensive energy sector at a reasonable cost of capital to achieve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2745"/>
                </a:solidFill>
                <a:latin typeface="Arial"/>
                <a:ea typeface="Arial"/>
              </a:rPr>
              <a:t>	</a:t>
            </a:r>
            <a:r>
              <a:rPr b="0" lang="en-US" sz="1800" spc="-1" strike="noStrike">
                <a:solidFill>
                  <a:srgbClr val="042745"/>
                </a:solidFill>
                <a:latin typeface="Arial"/>
                <a:ea typeface="Arial"/>
              </a:rPr>
              <a:t>sustainable development: secure affordable universal access to electricity service</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2745"/>
                </a:solidFill>
                <a:latin typeface="Arial"/>
                <a:ea typeface="Arial"/>
              </a:rPr>
              <a:t>	</a:t>
            </a:r>
            <a:r>
              <a:rPr b="1" lang="en-US" sz="1800" spc="-1" strike="noStrike">
                <a:solidFill>
                  <a:srgbClr val="042745"/>
                </a:solidFill>
                <a:latin typeface="Arial"/>
                <a:ea typeface="Arial"/>
              </a:rPr>
              <a:t>Countries in the region have adopted different models over time, including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2745"/>
                </a:solidFill>
                <a:latin typeface="Arial"/>
                <a:ea typeface="Arial"/>
              </a:rPr>
              <a:t>	</a:t>
            </a:r>
            <a:r>
              <a:rPr b="1" lang="en-US" sz="1800" spc="-1" strike="noStrike">
                <a:solidFill>
                  <a:srgbClr val="042745"/>
                </a:solidFill>
                <a:latin typeface="Arial"/>
                <a:ea typeface="Arial"/>
              </a:rPr>
              <a:t>market-oriented reforms in the last 20-25 years, and learned substantial </a:t>
            </a:r>
            <a:endParaRPr b="0" lang="en-US" sz="1800" spc="-1" strike="noStrike">
              <a:solidFill>
                <a:srgbClr val="003366"/>
              </a:solidFill>
              <a:latin typeface="Arial"/>
            </a:endParaRPr>
          </a:p>
          <a:p>
            <a:pPr marL="355680" indent="-343080">
              <a:spcBef>
                <a:spcPts val="1650"/>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2745"/>
                </a:solidFill>
                <a:latin typeface="Arial"/>
                <a:ea typeface="Arial"/>
              </a:rPr>
              <a:t>	</a:t>
            </a:r>
            <a:r>
              <a:rPr b="1" lang="en-US" sz="1800" spc="-1" strike="noStrike">
                <a:solidFill>
                  <a:srgbClr val="042745"/>
                </a:solidFill>
                <a:latin typeface="Arial"/>
                <a:ea typeface="Arial"/>
              </a:rPr>
              <a:t>lessons from their application</a:t>
            </a:r>
            <a:endParaRPr b="0" lang="en-US" sz="18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99"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5FEE-A18B-48F7-86AF-D7AEB78654D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00" name="object 3"/>
          <p:cNvSpPr/>
          <p:nvPr/>
        </p:nvSpPr>
        <p:spPr>
          <a:xfrm>
            <a:off x="777960" y="1066680"/>
            <a:ext cx="804852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1400" y="277920"/>
            <a:ext cx="8489880" cy="38088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hases in power sector reform in Latin America</a:t>
            </a:r>
            <a:endParaRPr b="1" lang="en-US" sz="2400" spc="-1" strike="noStrike">
              <a:solidFill>
                <a:srgbClr val="cc0000"/>
              </a:solidFill>
              <a:latin typeface="Arial"/>
            </a:endParaRPr>
          </a:p>
        </p:txBody>
      </p:sp>
      <p:sp>
        <p:nvSpPr>
          <p:cNvPr id="102" name="object 3"/>
          <p:cNvSpPr/>
          <p:nvPr/>
        </p:nvSpPr>
        <p:spPr>
          <a:xfrm>
            <a:off x="5372280" y="3581280"/>
            <a:ext cx="21960" cy="795600"/>
          </a:xfrm>
          <a:custGeom>
            <a:avLst/>
            <a:gdLst/>
            <a:ahLst/>
            <a:rect l="l" t="t" r="r" b="b"/>
            <a:pathLst>
              <a:path w="20954" h="795654">
                <a:moveTo>
                  <a:pt x="20700" y="0"/>
                </a:moveTo>
                <a:lnTo>
                  <a:pt x="0" y="795274"/>
                </a:lnTo>
              </a:path>
            </a:pathLst>
          </a:custGeom>
          <a:noFill/>
          <a:ln w="28800">
            <a:solidFill>
              <a:srgbClr val="000000"/>
            </a:solidFill>
            <a:prstDash val="lg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3" name="object 4"/>
          <p:cNvSpPr/>
          <p:nvPr/>
        </p:nvSpPr>
        <p:spPr>
          <a:xfrm>
            <a:off x="114480" y="4238640"/>
            <a:ext cx="9029520" cy="257040"/>
          </a:xfrm>
          <a:custGeom>
            <a:avLst/>
            <a:gdLst/>
            <a:ahLst/>
            <a:rect l="l" t="t" r="r" b="b"/>
            <a:pathLst>
              <a:path w="9029700" h="257175">
                <a:moveTo>
                  <a:pt x="8996664" y="99691"/>
                </a:moveTo>
                <a:lnTo>
                  <a:pt x="8989075" y="99691"/>
                </a:lnTo>
                <a:lnTo>
                  <a:pt x="8989075" y="156841"/>
                </a:lnTo>
                <a:lnTo>
                  <a:pt x="8883335" y="156897"/>
                </a:lnTo>
                <a:lnTo>
                  <a:pt x="8803147" y="203704"/>
                </a:lnTo>
                <a:lnTo>
                  <a:pt x="8794701" y="211280"/>
                </a:lnTo>
                <a:lnTo>
                  <a:pt x="8789970" y="221166"/>
                </a:lnTo>
                <a:lnTo>
                  <a:pt x="8789288" y="232100"/>
                </a:lnTo>
                <a:lnTo>
                  <a:pt x="8792987" y="242820"/>
                </a:lnTo>
                <a:lnTo>
                  <a:pt x="8800490" y="251267"/>
                </a:lnTo>
                <a:lnTo>
                  <a:pt x="8810338" y="256012"/>
                </a:lnTo>
                <a:lnTo>
                  <a:pt x="8821258" y="256732"/>
                </a:lnTo>
                <a:lnTo>
                  <a:pt x="8831976" y="253107"/>
                </a:lnTo>
                <a:lnTo>
                  <a:pt x="9029334" y="137834"/>
                </a:lnTo>
                <a:lnTo>
                  <a:pt x="9029334" y="118722"/>
                </a:lnTo>
                <a:lnTo>
                  <a:pt x="8996664" y="99691"/>
                </a:lnTo>
                <a:close/>
              </a:path>
              <a:path w="9029700" h="257175">
                <a:moveTo>
                  <a:pt x="8883196" y="99747"/>
                </a:moveTo>
                <a:lnTo>
                  <a:pt x="0" y="104517"/>
                </a:lnTo>
                <a:lnTo>
                  <a:pt x="30" y="161667"/>
                </a:lnTo>
                <a:lnTo>
                  <a:pt x="8883335" y="156897"/>
                </a:lnTo>
                <a:lnTo>
                  <a:pt x="8932251" y="128345"/>
                </a:lnTo>
                <a:lnTo>
                  <a:pt x="8883196" y="99747"/>
                </a:lnTo>
                <a:close/>
              </a:path>
              <a:path w="9029700" h="257175">
                <a:moveTo>
                  <a:pt x="8932251" y="128345"/>
                </a:moveTo>
                <a:lnTo>
                  <a:pt x="8883335" y="156897"/>
                </a:lnTo>
                <a:lnTo>
                  <a:pt x="8989075" y="156841"/>
                </a:lnTo>
                <a:lnTo>
                  <a:pt x="8989075" y="153031"/>
                </a:lnTo>
                <a:lnTo>
                  <a:pt x="8974597" y="153031"/>
                </a:lnTo>
                <a:lnTo>
                  <a:pt x="8932251" y="128345"/>
                </a:lnTo>
                <a:close/>
              </a:path>
              <a:path w="9029700" h="257175">
                <a:moveTo>
                  <a:pt x="8974597" y="103628"/>
                </a:moveTo>
                <a:lnTo>
                  <a:pt x="8932251" y="128345"/>
                </a:lnTo>
                <a:lnTo>
                  <a:pt x="8974597" y="153031"/>
                </a:lnTo>
                <a:lnTo>
                  <a:pt x="8974597" y="103628"/>
                </a:lnTo>
                <a:close/>
              </a:path>
              <a:path w="9029700" h="257175">
                <a:moveTo>
                  <a:pt x="8989075" y="103628"/>
                </a:moveTo>
                <a:lnTo>
                  <a:pt x="8974597" y="103628"/>
                </a:lnTo>
                <a:lnTo>
                  <a:pt x="8974597" y="153031"/>
                </a:lnTo>
                <a:lnTo>
                  <a:pt x="8989075" y="153031"/>
                </a:lnTo>
                <a:lnTo>
                  <a:pt x="8989075" y="103628"/>
                </a:lnTo>
                <a:close/>
              </a:path>
              <a:path w="9029700" h="257175">
                <a:moveTo>
                  <a:pt x="8989075" y="99691"/>
                </a:moveTo>
                <a:lnTo>
                  <a:pt x="8883196" y="99747"/>
                </a:lnTo>
                <a:lnTo>
                  <a:pt x="8932251" y="128345"/>
                </a:lnTo>
                <a:lnTo>
                  <a:pt x="8974597" y="103628"/>
                </a:lnTo>
                <a:lnTo>
                  <a:pt x="8989075" y="103628"/>
                </a:lnTo>
                <a:lnTo>
                  <a:pt x="8989075" y="99691"/>
                </a:lnTo>
                <a:close/>
              </a:path>
              <a:path w="9029700" h="257175">
                <a:moveTo>
                  <a:pt x="8821131" y="0"/>
                </a:moveTo>
                <a:lnTo>
                  <a:pt x="8810211" y="726"/>
                </a:lnTo>
                <a:lnTo>
                  <a:pt x="8800363" y="5500"/>
                </a:lnTo>
                <a:lnTo>
                  <a:pt x="8792860" y="13966"/>
                </a:lnTo>
                <a:lnTo>
                  <a:pt x="8789163" y="24739"/>
                </a:lnTo>
                <a:lnTo>
                  <a:pt x="8789859" y="35667"/>
                </a:lnTo>
                <a:lnTo>
                  <a:pt x="8794628" y="45523"/>
                </a:lnTo>
                <a:lnTo>
                  <a:pt x="8803147" y="53082"/>
                </a:lnTo>
                <a:lnTo>
                  <a:pt x="8883196" y="99747"/>
                </a:lnTo>
                <a:lnTo>
                  <a:pt x="8996664" y="99691"/>
                </a:lnTo>
                <a:lnTo>
                  <a:pt x="8831849" y="3679"/>
                </a:lnTo>
                <a:lnTo>
                  <a:pt x="8821131" y="0"/>
                </a:lnTo>
                <a:close/>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4" name="object 5"/>
          <p:cNvSpPr/>
          <p:nvPr/>
        </p:nvSpPr>
        <p:spPr>
          <a:xfrm>
            <a:off x="312840" y="4376880"/>
            <a:ext cx="360" cy="231480"/>
          </a:xfrm>
          <a:custGeom>
            <a:avLst/>
            <a:gdLst/>
            <a:ahLst/>
            <a:rect l="l" t="t" r="r" b="b"/>
            <a:pathLst>
              <a:path w="0" h="230504">
                <a:moveTo>
                  <a:pt x="0" y="0"/>
                </a:moveTo>
                <a:lnTo>
                  <a:pt x="0" y="230124"/>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5" name="object 6"/>
          <p:cNvSpPr/>
          <p:nvPr/>
        </p:nvSpPr>
        <p:spPr>
          <a:xfrm>
            <a:off x="138240" y="4603680"/>
            <a:ext cx="420480" cy="2260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80</a:t>
            </a:r>
            <a:endParaRPr b="0" lang="en-US" sz="1400" spc="-1" strike="noStrike">
              <a:solidFill>
                <a:srgbClr val="003366"/>
              </a:solidFill>
              <a:latin typeface="Arial"/>
            </a:endParaRPr>
          </a:p>
        </p:txBody>
      </p:sp>
      <p:sp>
        <p:nvSpPr>
          <p:cNvPr id="106" name="object 7"/>
          <p:cNvSpPr/>
          <p:nvPr/>
        </p:nvSpPr>
        <p:spPr>
          <a:xfrm>
            <a:off x="1752480" y="4378320"/>
            <a:ext cx="360" cy="231840"/>
          </a:xfrm>
          <a:custGeom>
            <a:avLst/>
            <a:gdLst/>
            <a:ahLst/>
            <a:rect l="l" t="t" r="r" b="b"/>
            <a:pathLst>
              <a:path w="0" h="230504">
                <a:moveTo>
                  <a:pt x="0" y="0"/>
                </a:moveTo>
                <a:lnTo>
                  <a:pt x="0" y="230124"/>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7" name="object 8"/>
          <p:cNvSpPr/>
          <p:nvPr/>
        </p:nvSpPr>
        <p:spPr>
          <a:xfrm>
            <a:off x="3179880" y="4389480"/>
            <a:ext cx="360" cy="228600"/>
          </a:xfrm>
          <a:custGeom>
            <a:avLst/>
            <a:gdLst/>
            <a:ahLst/>
            <a:rect l="l" t="t" r="r" b="b"/>
            <a:pathLst>
              <a:path w="0" h="228600">
                <a:moveTo>
                  <a:pt x="0" y="0"/>
                </a:moveTo>
                <a:lnTo>
                  <a:pt x="0" y="228600"/>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8" name="object 9"/>
          <p:cNvSpPr/>
          <p:nvPr/>
        </p:nvSpPr>
        <p:spPr>
          <a:xfrm>
            <a:off x="5378400" y="4387680"/>
            <a:ext cx="360" cy="230400"/>
          </a:xfrm>
          <a:custGeom>
            <a:avLst/>
            <a:gdLst/>
            <a:ahLst/>
            <a:rect l="l" t="t" r="r" b="b"/>
            <a:pathLst>
              <a:path w="0" h="230504">
                <a:moveTo>
                  <a:pt x="0" y="0"/>
                </a:moveTo>
                <a:lnTo>
                  <a:pt x="0" y="230250"/>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09" name="object 10"/>
          <p:cNvSpPr/>
          <p:nvPr/>
        </p:nvSpPr>
        <p:spPr>
          <a:xfrm>
            <a:off x="3052800" y="4603680"/>
            <a:ext cx="2422440" cy="33264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201312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2000</a:t>
            </a:r>
            <a:r>
              <a:rPr b="1" lang="en-US" sz="1400" spc="-1" strike="noStrike">
                <a:solidFill>
                  <a:srgbClr val="003366"/>
                </a:solidFill>
                <a:latin typeface="Arial"/>
                <a:ea typeface="Arial"/>
              </a:rPr>
              <a:t>	</a:t>
            </a:r>
            <a:r>
              <a:rPr b="1" lang="en-US" sz="2100" spc="-1" strike="noStrike" baseline="4000">
                <a:solidFill>
                  <a:srgbClr val="003366"/>
                </a:solidFill>
                <a:latin typeface="Arial"/>
                <a:ea typeface="Arial"/>
              </a:rPr>
              <a:t>2004</a:t>
            </a:r>
            <a:endParaRPr b="0" lang="en-US" sz="2100" spc="-1" strike="noStrike">
              <a:solidFill>
                <a:srgbClr val="003366"/>
              </a:solidFill>
              <a:latin typeface="Arial"/>
            </a:endParaRPr>
          </a:p>
        </p:txBody>
      </p:sp>
      <p:sp>
        <p:nvSpPr>
          <p:cNvPr id="110" name="object 11"/>
          <p:cNvSpPr/>
          <p:nvPr/>
        </p:nvSpPr>
        <p:spPr>
          <a:xfrm>
            <a:off x="8486640" y="4589640"/>
            <a:ext cx="420840" cy="2260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2016</a:t>
            </a:r>
            <a:endParaRPr b="0" lang="en-US" sz="1400" spc="-1" strike="noStrike">
              <a:solidFill>
                <a:srgbClr val="003366"/>
              </a:solidFill>
              <a:latin typeface="Arial"/>
            </a:endParaRPr>
          </a:p>
        </p:txBody>
      </p:sp>
      <p:sp>
        <p:nvSpPr>
          <p:cNvPr id="111" name="object 12"/>
          <p:cNvSpPr/>
          <p:nvPr/>
        </p:nvSpPr>
        <p:spPr>
          <a:xfrm>
            <a:off x="8780400" y="4395960"/>
            <a:ext cx="360" cy="228600"/>
          </a:xfrm>
          <a:custGeom>
            <a:avLst/>
            <a:gdLst/>
            <a:ahLst/>
            <a:rect l="l" t="t" r="r" b="b"/>
            <a:pathLst>
              <a:path w="0" h="228600">
                <a:moveTo>
                  <a:pt x="0" y="0"/>
                </a:moveTo>
                <a:lnTo>
                  <a:pt x="0" y="228600"/>
                </a:lnTo>
              </a:path>
            </a:pathLst>
          </a:custGeom>
          <a:noFill/>
          <a:ln w="5724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12" name="object 13"/>
          <p:cNvSpPr/>
          <p:nvPr/>
        </p:nvSpPr>
        <p:spPr>
          <a:xfrm>
            <a:off x="6111720" y="4371840"/>
            <a:ext cx="174960" cy="22572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t>
            </a:r>
            <a:endParaRPr b="0" lang="en-US" sz="1400" spc="-1" strike="noStrike">
              <a:solidFill>
                <a:srgbClr val="003366"/>
              </a:solidFill>
              <a:latin typeface="Arial"/>
            </a:endParaRPr>
          </a:p>
        </p:txBody>
      </p:sp>
      <p:sp>
        <p:nvSpPr>
          <p:cNvPr id="113" name="object 14"/>
          <p:cNvSpPr/>
          <p:nvPr/>
        </p:nvSpPr>
        <p:spPr>
          <a:xfrm>
            <a:off x="30240" y="3222720"/>
            <a:ext cx="3206520" cy="10443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14" name="object 15"/>
          <p:cNvSpPr/>
          <p:nvPr/>
        </p:nvSpPr>
        <p:spPr>
          <a:xfrm>
            <a:off x="61920" y="3230640"/>
            <a:ext cx="3176640" cy="10602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15" name="object 16"/>
          <p:cNvSpPr/>
          <p:nvPr/>
        </p:nvSpPr>
        <p:spPr>
          <a:xfrm>
            <a:off x="60480" y="3252960"/>
            <a:ext cx="3100320" cy="878760"/>
          </a:xfrm>
          <a:prstGeom prst="rect">
            <a:avLst/>
          </a:prstGeom>
          <a:solidFill>
            <a:srgbClr val="ffc000"/>
          </a:solidFill>
          <a:ln w="10080">
            <a:solidFill>
              <a:srgbClr val="000000"/>
            </a:solidFill>
            <a:miter/>
          </a:ln>
        </p:spPr>
        <p:style>
          <a:lnRef idx="0"/>
          <a:fillRef idx="0"/>
          <a:effectRef idx="0"/>
          <a:fontRef idx="minor"/>
        </p:style>
        <p:txBody>
          <a:bodyPr lIns="0" rIns="0" tIns="41400" bIns="0" anchor="t">
            <a:spAutoFit/>
          </a:bodyPr>
          <a:p>
            <a:pPr marL="1094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Wholesale competition implemented in  most countries, regulated capacity  payments to assure supply adequacy  (</a:t>
            </a:r>
            <a:r>
              <a:rPr b="1" lang="en-US" sz="1000" spc="-1" strike="noStrike">
                <a:solidFill>
                  <a:srgbClr val="003366"/>
                </a:solidFill>
                <a:latin typeface="Arial"/>
                <a:ea typeface="Arial"/>
              </a:rPr>
              <a:t>Brazil: obligation of loads to be 85% covered  in contracts with physical coverage</a:t>
            </a:r>
            <a:r>
              <a:rPr b="1" lang="en-US" sz="1100" spc="-1" strike="noStrike">
                <a:solidFill>
                  <a:srgbClr val="003366"/>
                </a:solidFill>
                <a:latin typeface="Arial"/>
                <a:ea typeface="Arial"/>
              </a:rPr>
              <a:t>)</a:t>
            </a:r>
            <a:endParaRPr b="0" lang="en-US" sz="1100" spc="-1" strike="noStrike">
              <a:solidFill>
                <a:srgbClr val="003366"/>
              </a:solidFill>
              <a:latin typeface="Arial"/>
            </a:endParaRPr>
          </a:p>
        </p:txBody>
      </p:sp>
      <p:sp>
        <p:nvSpPr>
          <p:cNvPr id="116" name="object 17"/>
          <p:cNvSpPr/>
          <p:nvPr/>
        </p:nvSpPr>
        <p:spPr>
          <a:xfrm>
            <a:off x="5864400" y="4618080"/>
            <a:ext cx="2031840" cy="18939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17" name="object 18"/>
          <p:cNvSpPr/>
          <p:nvPr/>
        </p:nvSpPr>
        <p:spPr>
          <a:xfrm>
            <a:off x="5867280" y="4648320"/>
            <a:ext cx="1941480" cy="1548720"/>
          </a:xfrm>
          <a:prstGeom prst="rect">
            <a:avLst/>
          </a:prstGeom>
          <a:solidFill>
            <a:srgbClr val="badfe2"/>
          </a:solidFill>
          <a:ln w="10080">
            <a:solidFill>
              <a:srgbClr val="000000"/>
            </a:solidFill>
            <a:miter/>
          </a:ln>
        </p:spPr>
        <p:style>
          <a:lnRef idx="0"/>
          <a:fillRef idx="0"/>
          <a:effectRef idx="0"/>
          <a:fontRef idx="minor"/>
        </p:style>
        <p:txBody>
          <a:bodyPr lIns="0" rIns="0" tIns="41760" bIns="0" anchor="t">
            <a:spAutoFit/>
          </a:bodyPr>
          <a:p>
            <a:pPr marL="90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Argentina </a:t>
            </a:r>
            <a:r>
              <a:rPr b="1" lang="en-US" sz="1100" spc="-1" strike="noStrike">
                <a:solidFill>
                  <a:srgbClr val="003366"/>
                </a:solidFill>
                <a:latin typeface="Arial"/>
                <a:ea typeface="Arial"/>
              </a:rPr>
              <a:t>interfered in the  energy market and it went  currently under strict  governmental control</a:t>
            </a:r>
            <a:endParaRPr b="0" lang="en-US" sz="1100" spc="-1" strike="noStrike">
              <a:solidFill>
                <a:srgbClr val="003366"/>
              </a:solidFill>
              <a:latin typeface="Arial"/>
            </a:endParaRPr>
          </a:p>
          <a:p>
            <a:pPr marL="9036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Subsidized tariffs  jeopardize the whole  market functioning</a:t>
            </a:r>
            <a:endParaRPr b="0" lang="en-US" sz="1100" spc="-1" strike="noStrike">
              <a:solidFill>
                <a:srgbClr val="003366"/>
              </a:solidFill>
              <a:latin typeface="Arial"/>
            </a:endParaRPr>
          </a:p>
          <a:p>
            <a:pPr marL="9036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Market is driven by  governmental  initiatives</a:t>
            </a:r>
            <a:endParaRPr b="0" lang="en-US" sz="1100" spc="-1" strike="noStrike">
              <a:solidFill>
                <a:srgbClr val="003366"/>
              </a:solidFill>
              <a:latin typeface="Arial"/>
            </a:endParaRPr>
          </a:p>
        </p:txBody>
      </p:sp>
      <p:sp>
        <p:nvSpPr>
          <p:cNvPr id="118" name="object 19"/>
          <p:cNvSpPr/>
          <p:nvPr/>
        </p:nvSpPr>
        <p:spPr>
          <a:xfrm>
            <a:off x="3144960" y="2438280"/>
            <a:ext cx="27000" cy="1828800"/>
          </a:xfrm>
          <a:custGeom>
            <a:avLst/>
            <a:gdLst/>
            <a:ahLst/>
            <a:rect l="l" t="t" r="r" b="b"/>
            <a:pathLst>
              <a:path w="27305" h="1828800">
                <a:moveTo>
                  <a:pt x="27305" y="0"/>
                </a:moveTo>
                <a:lnTo>
                  <a:pt x="0" y="1828800"/>
                </a:lnTo>
              </a:path>
            </a:pathLst>
          </a:custGeom>
          <a:noFill/>
          <a:ln w="28800">
            <a:solidFill>
              <a:srgbClr val="000000"/>
            </a:solidFill>
            <a:prstDash val="lgDash"/>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19" name="object 20"/>
          <p:cNvSpPr/>
          <p:nvPr/>
        </p:nvSpPr>
        <p:spPr>
          <a:xfrm>
            <a:off x="5792760" y="2346480"/>
            <a:ext cx="3046320" cy="155880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0" name="object 21"/>
          <p:cNvSpPr/>
          <p:nvPr/>
        </p:nvSpPr>
        <p:spPr>
          <a:xfrm>
            <a:off x="5796000" y="2376360"/>
            <a:ext cx="2962080" cy="1380960"/>
          </a:xfrm>
          <a:prstGeom prst="rect">
            <a:avLst/>
          </a:prstGeom>
          <a:solidFill>
            <a:srgbClr val="badfe2"/>
          </a:solidFill>
          <a:ln w="10080">
            <a:solidFill>
              <a:srgbClr val="000000"/>
            </a:solidFill>
            <a:miter/>
          </a:ln>
        </p:spPr>
        <p:style>
          <a:lnRef idx="0"/>
          <a:fillRef idx="0"/>
          <a:effectRef idx="0"/>
          <a:fontRef idx="minor"/>
        </p:style>
        <p:txBody>
          <a:bodyPr lIns="0" rIns="0" tIns="41400" bIns="0" anchor="t">
            <a:spAutoFit/>
          </a:bodyPr>
          <a:p>
            <a:pPr marL="903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Brazil, Chile, Colombia and Peru </a:t>
            </a:r>
            <a:r>
              <a:rPr b="1" lang="en-US" sz="1100" spc="-1" strike="noStrike">
                <a:solidFill>
                  <a:srgbClr val="0d0d0d"/>
                </a:solidFill>
                <a:latin typeface="Arial"/>
                <a:ea typeface="Arial"/>
              </a:rPr>
              <a:t>retained  the market scheme and improved rules to  ensure the entrance of new </a:t>
            </a:r>
            <a:r>
              <a:rPr b="1" lang="en-US" sz="1100" spc="-1" strike="noStrike">
                <a:solidFill>
                  <a:srgbClr val="003366"/>
                </a:solidFill>
                <a:latin typeface="Arial"/>
                <a:ea typeface="Arial"/>
              </a:rPr>
              <a:t>capacity:</a:t>
            </a:r>
            <a:endParaRPr b="0" lang="en-US" sz="1100" spc="-1" strike="noStrike">
              <a:solidFill>
                <a:srgbClr val="003366"/>
              </a:solidFill>
              <a:latin typeface="Arial"/>
            </a:endParaRPr>
          </a:p>
          <a:p>
            <a:pPr marL="90360">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Arial"/>
                <a:ea typeface="Arial"/>
              </a:rPr>
              <a:t>Capacity adequacy requirements:  emphasis in the forward market</a:t>
            </a:r>
            <a:endParaRPr b="0" lang="en-US" sz="1100" spc="-1" strike="noStrike">
              <a:solidFill>
                <a:srgbClr val="003366"/>
              </a:solidFill>
              <a:latin typeface="Arial"/>
            </a:endParaRPr>
          </a:p>
          <a:p>
            <a:pPr marL="90360">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Arial"/>
                <a:ea typeface="Arial"/>
              </a:rPr>
              <a:t>Use of contract auctions for new  capacity (“competition for the market”)</a:t>
            </a:r>
            <a:endParaRPr b="0" lang="en-US" sz="1100" spc="-1" strike="noStrike">
              <a:solidFill>
                <a:srgbClr val="003366"/>
              </a:solidFill>
              <a:latin typeface="Arial"/>
            </a:endParaRPr>
          </a:p>
          <a:p>
            <a:pPr marL="90360">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Arial"/>
                <a:ea typeface="Arial"/>
              </a:rPr>
              <a:t>Institutional reorganization</a:t>
            </a:r>
            <a:endParaRPr b="0" lang="en-US" sz="1100" spc="-1" strike="noStrike">
              <a:solidFill>
                <a:srgbClr val="003366"/>
              </a:solidFill>
              <a:latin typeface="Arial"/>
            </a:endParaRPr>
          </a:p>
        </p:txBody>
      </p:sp>
      <p:sp>
        <p:nvSpPr>
          <p:cNvPr id="121" name="object 22"/>
          <p:cNvSpPr/>
          <p:nvPr/>
        </p:nvSpPr>
        <p:spPr>
          <a:xfrm>
            <a:off x="30240" y="878040"/>
            <a:ext cx="3211560" cy="64116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2" name="object 23"/>
          <p:cNvSpPr/>
          <p:nvPr/>
        </p:nvSpPr>
        <p:spPr>
          <a:xfrm>
            <a:off x="324000" y="1015920"/>
            <a:ext cx="2663640" cy="3906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3" name="object 24"/>
          <p:cNvSpPr/>
          <p:nvPr/>
        </p:nvSpPr>
        <p:spPr>
          <a:xfrm>
            <a:off x="60480" y="906480"/>
            <a:ext cx="3105000" cy="536400"/>
          </a:xfrm>
          <a:custGeom>
            <a:avLst/>
            <a:gdLst/>
            <a:ahLst/>
            <a:rect l="l" t="t" r="r" b="b"/>
            <a:pathLst>
              <a:path w="3105150" h="535940">
                <a:moveTo>
                  <a:pt x="267843" y="0"/>
                </a:moveTo>
                <a:lnTo>
                  <a:pt x="0" y="267842"/>
                </a:lnTo>
                <a:lnTo>
                  <a:pt x="267843" y="535686"/>
                </a:lnTo>
                <a:lnTo>
                  <a:pt x="267843" y="401700"/>
                </a:lnTo>
                <a:lnTo>
                  <a:pt x="2971292" y="401700"/>
                </a:lnTo>
                <a:lnTo>
                  <a:pt x="3105150" y="267842"/>
                </a:lnTo>
                <a:lnTo>
                  <a:pt x="2971165" y="133858"/>
                </a:lnTo>
                <a:lnTo>
                  <a:pt x="267843" y="133858"/>
                </a:lnTo>
                <a:lnTo>
                  <a:pt x="267843" y="0"/>
                </a:lnTo>
                <a:close/>
              </a:path>
              <a:path w="3105150" h="535940">
                <a:moveTo>
                  <a:pt x="2971292" y="401700"/>
                </a:moveTo>
                <a:lnTo>
                  <a:pt x="2837307" y="401700"/>
                </a:lnTo>
                <a:lnTo>
                  <a:pt x="2837307" y="535686"/>
                </a:lnTo>
                <a:lnTo>
                  <a:pt x="2971292" y="401700"/>
                </a:lnTo>
                <a:close/>
              </a:path>
              <a:path w="3105150" h="535940">
                <a:moveTo>
                  <a:pt x="2837307" y="0"/>
                </a:moveTo>
                <a:lnTo>
                  <a:pt x="2837307" y="133858"/>
                </a:lnTo>
                <a:lnTo>
                  <a:pt x="2971165" y="133858"/>
                </a:lnTo>
                <a:lnTo>
                  <a:pt x="2837307" y="0"/>
                </a:lnTo>
                <a:close/>
              </a:path>
            </a:pathLst>
          </a:custGeom>
          <a:solidFill>
            <a:srgbClr val="ffffb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24" name="object 25"/>
          <p:cNvSpPr/>
          <p:nvPr/>
        </p:nvSpPr>
        <p:spPr>
          <a:xfrm>
            <a:off x="60480" y="906480"/>
            <a:ext cx="3105000" cy="536400"/>
          </a:xfrm>
          <a:custGeom>
            <a:avLst/>
            <a:gdLst/>
            <a:ahLst/>
            <a:rect l="l" t="t" r="r" b="b"/>
            <a:pathLst>
              <a:path w="3105150" h="535940">
                <a:moveTo>
                  <a:pt x="0" y="267842"/>
                </a:moveTo>
                <a:lnTo>
                  <a:pt x="267843" y="0"/>
                </a:lnTo>
                <a:lnTo>
                  <a:pt x="267843" y="133858"/>
                </a:lnTo>
                <a:lnTo>
                  <a:pt x="2837307" y="133858"/>
                </a:lnTo>
                <a:lnTo>
                  <a:pt x="2837307" y="0"/>
                </a:lnTo>
                <a:lnTo>
                  <a:pt x="3105150" y="267842"/>
                </a:lnTo>
                <a:lnTo>
                  <a:pt x="2837307" y="535686"/>
                </a:lnTo>
                <a:lnTo>
                  <a:pt x="2837307" y="401700"/>
                </a:lnTo>
                <a:lnTo>
                  <a:pt x="267843" y="401700"/>
                </a:lnTo>
                <a:lnTo>
                  <a:pt x="267843" y="535686"/>
                </a:lnTo>
                <a:lnTo>
                  <a:pt x="0" y="267842"/>
                </a:lnTo>
                <a:close/>
              </a:path>
            </a:pathLst>
          </a:custGeom>
          <a:noFill/>
          <a:ln w="10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25" name="object 26"/>
          <p:cNvSpPr/>
          <p:nvPr/>
        </p:nvSpPr>
        <p:spPr>
          <a:xfrm>
            <a:off x="419040" y="1066680"/>
            <a:ext cx="2386080" cy="34776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First wave of power sector Reforms</a:t>
            </a:r>
            <a:endParaRPr b="0" lang="en-US" sz="1100" spc="-1" strike="noStrike">
              <a:solidFill>
                <a:srgbClr val="003366"/>
              </a:solidFill>
              <a:latin typeface="Arial"/>
            </a:endParaRPr>
          </a:p>
        </p:txBody>
      </p:sp>
      <p:sp>
        <p:nvSpPr>
          <p:cNvPr id="126" name="object 27"/>
          <p:cNvSpPr/>
          <p:nvPr/>
        </p:nvSpPr>
        <p:spPr>
          <a:xfrm>
            <a:off x="3170160" y="882720"/>
            <a:ext cx="2284560" cy="6411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7" name="object 28"/>
          <p:cNvSpPr/>
          <p:nvPr/>
        </p:nvSpPr>
        <p:spPr>
          <a:xfrm>
            <a:off x="3862440" y="1022400"/>
            <a:ext cx="900000" cy="3888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28" name="object 29"/>
          <p:cNvSpPr/>
          <p:nvPr/>
        </p:nvSpPr>
        <p:spPr>
          <a:xfrm>
            <a:off x="3200400" y="912960"/>
            <a:ext cx="2178000" cy="534960"/>
          </a:xfrm>
          <a:custGeom>
            <a:avLst/>
            <a:gdLst/>
            <a:ahLst/>
            <a:rect l="l" t="t" r="r" b="b"/>
            <a:pathLst>
              <a:path w="2178050" h="535940">
                <a:moveTo>
                  <a:pt x="267843" y="0"/>
                </a:moveTo>
                <a:lnTo>
                  <a:pt x="0" y="267842"/>
                </a:lnTo>
                <a:lnTo>
                  <a:pt x="267843" y="535685"/>
                </a:lnTo>
                <a:lnTo>
                  <a:pt x="267843" y="401700"/>
                </a:lnTo>
                <a:lnTo>
                  <a:pt x="2043937" y="401700"/>
                </a:lnTo>
                <a:lnTo>
                  <a:pt x="2177796" y="267842"/>
                </a:lnTo>
                <a:lnTo>
                  <a:pt x="2043810" y="133857"/>
                </a:lnTo>
                <a:lnTo>
                  <a:pt x="267843" y="133857"/>
                </a:lnTo>
                <a:lnTo>
                  <a:pt x="267843" y="0"/>
                </a:lnTo>
                <a:close/>
              </a:path>
              <a:path w="2178050" h="535940">
                <a:moveTo>
                  <a:pt x="2043937" y="401700"/>
                </a:moveTo>
                <a:lnTo>
                  <a:pt x="1909953" y="401700"/>
                </a:lnTo>
                <a:lnTo>
                  <a:pt x="1909953" y="535685"/>
                </a:lnTo>
                <a:lnTo>
                  <a:pt x="2043937" y="401700"/>
                </a:lnTo>
                <a:close/>
              </a:path>
              <a:path w="2178050" h="535940">
                <a:moveTo>
                  <a:pt x="1909953" y="0"/>
                </a:moveTo>
                <a:lnTo>
                  <a:pt x="1909953" y="133857"/>
                </a:lnTo>
                <a:lnTo>
                  <a:pt x="2043810" y="133857"/>
                </a:lnTo>
                <a:lnTo>
                  <a:pt x="1909953" y="0"/>
                </a:lnTo>
                <a:close/>
              </a:path>
            </a:pathLst>
          </a:custGeom>
          <a:solidFill>
            <a:srgbClr val="ffffb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29" name="object 30"/>
          <p:cNvSpPr/>
          <p:nvPr/>
        </p:nvSpPr>
        <p:spPr>
          <a:xfrm>
            <a:off x="3200400" y="912960"/>
            <a:ext cx="2178000" cy="534960"/>
          </a:xfrm>
          <a:custGeom>
            <a:avLst/>
            <a:gdLst/>
            <a:ahLst/>
            <a:rect l="l" t="t" r="r" b="b"/>
            <a:pathLst>
              <a:path w="2178050" h="535940">
                <a:moveTo>
                  <a:pt x="0" y="267842"/>
                </a:moveTo>
                <a:lnTo>
                  <a:pt x="267843" y="0"/>
                </a:lnTo>
                <a:lnTo>
                  <a:pt x="267843" y="133857"/>
                </a:lnTo>
                <a:lnTo>
                  <a:pt x="1909953" y="133857"/>
                </a:lnTo>
                <a:lnTo>
                  <a:pt x="1909953" y="0"/>
                </a:lnTo>
                <a:lnTo>
                  <a:pt x="2177796" y="267842"/>
                </a:lnTo>
                <a:lnTo>
                  <a:pt x="1909953" y="535685"/>
                </a:lnTo>
                <a:lnTo>
                  <a:pt x="1909953" y="401700"/>
                </a:lnTo>
                <a:lnTo>
                  <a:pt x="267843" y="401700"/>
                </a:lnTo>
                <a:lnTo>
                  <a:pt x="267843" y="535685"/>
                </a:lnTo>
                <a:lnTo>
                  <a:pt x="0" y="267842"/>
                </a:lnTo>
                <a:close/>
              </a:path>
            </a:pathLst>
          </a:custGeom>
          <a:noFill/>
          <a:ln w="10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0" name="object 31"/>
          <p:cNvSpPr/>
          <p:nvPr/>
        </p:nvSpPr>
        <p:spPr>
          <a:xfrm>
            <a:off x="3959280" y="1071720"/>
            <a:ext cx="662040" cy="1800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Problems</a:t>
            </a:r>
            <a:endParaRPr b="0" lang="en-US" sz="1100" spc="-1" strike="noStrike">
              <a:solidFill>
                <a:srgbClr val="003366"/>
              </a:solidFill>
              <a:latin typeface="Arial"/>
            </a:endParaRPr>
          </a:p>
        </p:txBody>
      </p:sp>
      <p:sp>
        <p:nvSpPr>
          <p:cNvPr id="131" name="object 32"/>
          <p:cNvSpPr/>
          <p:nvPr/>
        </p:nvSpPr>
        <p:spPr>
          <a:xfrm>
            <a:off x="5383080" y="884160"/>
            <a:ext cx="3760920" cy="64296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2" name="object 33"/>
          <p:cNvSpPr/>
          <p:nvPr/>
        </p:nvSpPr>
        <p:spPr>
          <a:xfrm>
            <a:off x="5791320" y="1023840"/>
            <a:ext cx="3020760" cy="39060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3" name="object 34"/>
          <p:cNvSpPr/>
          <p:nvPr/>
        </p:nvSpPr>
        <p:spPr>
          <a:xfrm>
            <a:off x="5413320" y="914400"/>
            <a:ext cx="3732120" cy="536400"/>
          </a:xfrm>
          <a:custGeom>
            <a:avLst/>
            <a:gdLst/>
            <a:ahLst/>
            <a:rect l="l" t="t" r="r" b="b"/>
            <a:pathLst>
              <a:path w="3731259" h="535940">
                <a:moveTo>
                  <a:pt x="267843" y="0"/>
                </a:moveTo>
                <a:lnTo>
                  <a:pt x="0" y="267843"/>
                </a:lnTo>
                <a:lnTo>
                  <a:pt x="267843" y="535686"/>
                </a:lnTo>
                <a:lnTo>
                  <a:pt x="267843" y="401701"/>
                </a:lnTo>
                <a:lnTo>
                  <a:pt x="3596894" y="401701"/>
                </a:lnTo>
                <a:lnTo>
                  <a:pt x="3730752" y="267843"/>
                </a:lnTo>
                <a:lnTo>
                  <a:pt x="3596894" y="133985"/>
                </a:lnTo>
                <a:lnTo>
                  <a:pt x="267843" y="133985"/>
                </a:lnTo>
                <a:lnTo>
                  <a:pt x="267843" y="0"/>
                </a:lnTo>
                <a:close/>
              </a:path>
              <a:path w="3731259" h="535940">
                <a:moveTo>
                  <a:pt x="3596894" y="401701"/>
                </a:moveTo>
                <a:lnTo>
                  <a:pt x="3462909" y="401701"/>
                </a:lnTo>
                <a:lnTo>
                  <a:pt x="3462909" y="535686"/>
                </a:lnTo>
                <a:lnTo>
                  <a:pt x="3596894" y="401701"/>
                </a:lnTo>
                <a:close/>
              </a:path>
              <a:path w="3731259" h="535940">
                <a:moveTo>
                  <a:pt x="3462909" y="0"/>
                </a:moveTo>
                <a:lnTo>
                  <a:pt x="3462909" y="133985"/>
                </a:lnTo>
                <a:lnTo>
                  <a:pt x="3596894" y="133985"/>
                </a:lnTo>
                <a:lnTo>
                  <a:pt x="3462909" y="0"/>
                </a:lnTo>
                <a:close/>
              </a:path>
            </a:pathLst>
          </a:custGeom>
          <a:solidFill>
            <a:srgbClr val="ffffb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4" name="object 35"/>
          <p:cNvSpPr/>
          <p:nvPr/>
        </p:nvSpPr>
        <p:spPr>
          <a:xfrm>
            <a:off x="5413320" y="914400"/>
            <a:ext cx="3732120" cy="536400"/>
          </a:xfrm>
          <a:custGeom>
            <a:avLst/>
            <a:gdLst/>
            <a:ahLst/>
            <a:rect l="l" t="t" r="r" b="b"/>
            <a:pathLst>
              <a:path w="3731259" h="535940">
                <a:moveTo>
                  <a:pt x="0" y="267843"/>
                </a:moveTo>
                <a:lnTo>
                  <a:pt x="267843" y="0"/>
                </a:lnTo>
                <a:lnTo>
                  <a:pt x="267843" y="133985"/>
                </a:lnTo>
                <a:lnTo>
                  <a:pt x="3462909" y="133985"/>
                </a:lnTo>
                <a:lnTo>
                  <a:pt x="3462909" y="0"/>
                </a:lnTo>
                <a:lnTo>
                  <a:pt x="3730752" y="267843"/>
                </a:lnTo>
                <a:lnTo>
                  <a:pt x="3462909" y="535686"/>
                </a:lnTo>
                <a:lnTo>
                  <a:pt x="3462909" y="401701"/>
                </a:lnTo>
                <a:lnTo>
                  <a:pt x="267843" y="401701"/>
                </a:lnTo>
                <a:lnTo>
                  <a:pt x="267843" y="535686"/>
                </a:lnTo>
                <a:lnTo>
                  <a:pt x="0" y="267843"/>
                </a:lnTo>
                <a:close/>
              </a:path>
            </a:pathLst>
          </a:custGeom>
          <a:noFill/>
          <a:ln w="100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5" name="object 36"/>
          <p:cNvSpPr/>
          <p:nvPr/>
        </p:nvSpPr>
        <p:spPr>
          <a:xfrm>
            <a:off x="5886360" y="1074600"/>
            <a:ext cx="2782800" cy="347400"/>
          </a:xfrm>
          <a:prstGeom prst="rect">
            <a:avLst/>
          </a:prstGeom>
          <a:noFill/>
          <a:ln w="0">
            <a:noFill/>
          </a:ln>
        </p:spPr>
        <p:style>
          <a:lnRef idx="0"/>
          <a:fillRef idx="0"/>
          <a:effectRef idx="0"/>
          <a:fontRef idx="minor"/>
        </p:style>
        <p:txBody>
          <a:bodyPr lIns="0" rIns="0" tIns="1224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Second wave (and initial ideological split)</a:t>
            </a:r>
            <a:endParaRPr b="0" lang="en-US" sz="1100" spc="-1" strike="noStrike">
              <a:solidFill>
                <a:srgbClr val="003366"/>
              </a:solidFill>
              <a:latin typeface="Arial"/>
            </a:endParaRPr>
          </a:p>
        </p:txBody>
      </p:sp>
      <p:sp>
        <p:nvSpPr>
          <p:cNvPr id="136" name="object 37"/>
          <p:cNvSpPr/>
          <p:nvPr/>
        </p:nvSpPr>
        <p:spPr>
          <a:xfrm>
            <a:off x="82440" y="1606680"/>
            <a:ext cx="2781360" cy="70632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7" name="object 38"/>
          <p:cNvSpPr/>
          <p:nvPr/>
        </p:nvSpPr>
        <p:spPr>
          <a:xfrm>
            <a:off x="168120" y="1616040"/>
            <a:ext cx="2648160" cy="72540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38" name="object 39"/>
          <p:cNvSpPr/>
          <p:nvPr/>
        </p:nvSpPr>
        <p:spPr>
          <a:xfrm>
            <a:off x="112680" y="1636560"/>
            <a:ext cx="2674800" cy="600120"/>
          </a:xfrm>
          <a:custGeom>
            <a:avLst/>
            <a:gdLst/>
            <a:ahLst/>
            <a:rect l="l" t="t" r="r" b="b"/>
            <a:pathLst>
              <a:path w="2675890" h="600710">
                <a:moveTo>
                  <a:pt x="0" y="600455"/>
                </a:moveTo>
                <a:lnTo>
                  <a:pt x="2675382" y="600455"/>
                </a:lnTo>
                <a:lnTo>
                  <a:pt x="2675382" y="0"/>
                </a:lnTo>
                <a:lnTo>
                  <a:pt x="0" y="0"/>
                </a:lnTo>
                <a:lnTo>
                  <a:pt x="0" y="600455"/>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39" name="object 40"/>
          <p:cNvSpPr/>
          <p:nvPr/>
        </p:nvSpPr>
        <p:spPr>
          <a:xfrm>
            <a:off x="112680" y="1636560"/>
            <a:ext cx="2674800" cy="544320"/>
          </a:xfrm>
          <a:prstGeom prst="rect">
            <a:avLst/>
          </a:prstGeom>
          <a:noFill/>
          <a:ln w="10080">
            <a:solidFill>
              <a:srgbClr val="000000"/>
            </a:solidFill>
            <a:miter/>
          </a:ln>
        </p:spPr>
        <p:style>
          <a:lnRef idx="0"/>
          <a:fillRef idx="0"/>
          <a:effectRef idx="0"/>
          <a:fontRef idx="minor"/>
        </p:style>
        <p:txBody>
          <a:bodyPr lIns="0" rIns="0" tIns="41760" bIns="0" anchor="t">
            <a:spAutoFit/>
          </a:bodyPr>
          <a:p>
            <a:pPr marL="1634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Motivation: pragmatic (Brazil, Peru)  or pragmatic with ideological  component (CH, AR, CO).</a:t>
            </a:r>
            <a:endParaRPr b="0" lang="en-US" sz="1100" spc="-1" strike="noStrike">
              <a:solidFill>
                <a:srgbClr val="003366"/>
              </a:solidFill>
              <a:latin typeface="Arial"/>
            </a:endParaRPr>
          </a:p>
        </p:txBody>
      </p:sp>
      <p:sp>
        <p:nvSpPr>
          <p:cNvPr id="140" name="object 41"/>
          <p:cNvSpPr/>
          <p:nvPr/>
        </p:nvSpPr>
        <p:spPr>
          <a:xfrm>
            <a:off x="838080" y="2206800"/>
            <a:ext cx="2309760" cy="612720"/>
          </a:xfrm>
          <a:custGeom>
            <a:avLst/>
            <a:gdLst/>
            <a:ahLst/>
            <a:rect l="l" t="t" r="r" b="b"/>
            <a:pathLst>
              <a:path w="2310130" h="612775">
                <a:moveTo>
                  <a:pt x="306324" y="0"/>
                </a:moveTo>
                <a:lnTo>
                  <a:pt x="0" y="306324"/>
                </a:lnTo>
                <a:lnTo>
                  <a:pt x="306324" y="612647"/>
                </a:lnTo>
                <a:lnTo>
                  <a:pt x="306324" y="459486"/>
                </a:lnTo>
                <a:lnTo>
                  <a:pt x="2156459" y="459486"/>
                </a:lnTo>
                <a:lnTo>
                  <a:pt x="2309622" y="306324"/>
                </a:lnTo>
                <a:lnTo>
                  <a:pt x="2156460" y="153162"/>
                </a:lnTo>
                <a:lnTo>
                  <a:pt x="306324" y="153162"/>
                </a:lnTo>
                <a:lnTo>
                  <a:pt x="306324" y="0"/>
                </a:lnTo>
                <a:close/>
              </a:path>
              <a:path w="2310130" h="612775">
                <a:moveTo>
                  <a:pt x="2156459" y="459486"/>
                </a:moveTo>
                <a:lnTo>
                  <a:pt x="2003298" y="459486"/>
                </a:lnTo>
                <a:lnTo>
                  <a:pt x="2003298" y="612647"/>
                </a:lnTo>
                <a:lnTo>
                  <a:pt x="2156459" y="459486"/>
                </a:lnTo>
                <a:close/>
              </a:path>
              <a:path w="2310130" h="612775">
                <a:moveTo>
                  <a:pt x="2003298" y="0"/>
                </a:moveTo>
                <a:lnTo>
                  <a:pt x="2003298" y="153162"/>
                </a:lnTo>
                <a:lnTo>
                  <a:pt x="2156460" y="153162"/>
                </a:lnTo>
                <a:lnTo>
                  <a:pt x="2003298"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41" name="object 42"/>
          <p:cNvSpPr/>
          <p:nvPr/>
        </p:nvSpPr>
        <p:spPr>
          <a:xfrm>
            <a:off x="838080" y="2206800"/>
            <a:ext cx="2309760" cy="612720"/>
          </a:xfrm>
          <a:custGeom>
            <a:avLst/>
            <a:gdLst/>
            <a:ahLst/>
            <a:rect l="l" t="t" r="r" b="b"/>
            <a:pathLst>
              <a:path w="2310130" h="612775">
                <a:moveTo>
                  <a:pt x="0" y="306324"/>
                </a:moveTo>
                <a:lnTo>
                  <a:pt x="306324" y="0"/>
                </a:lnTo>
                <a:lnTo>
                  <a:pt x="306324" y="153162"/>
                </a:lnTo>
                <a:lnTo>
                  <a:pt x="2003298" y="153162"/>
                </a:lnTo>
                <a:lnTo>
                  <a:pt x="2003298" y="0"/>
                </a:lnTo>
                <a:lnTo>
                  <a:pt x="2309622" y="306324"/>
                </a:lnTo>
                <a:lnTo>
                  <a:pt x="2003298" y="612647"/>
                </a:lnTo>
                <a:lnTo>
                  <a:pt x="2003298" y="459486"/>
                </a:lnTo>
                <a:lnTo>
                  <a:pt x="306324" y="459486"/>
                </a:lnTo>
                <a:lnTo>
                  <a:pt x="306324" y="612647"/>
                </a:lnTo>
                <a:lnTo>
                  <a:pt x="0" y="306324"/>
                </a:lnTo>
                <a:close/>
              </a:path>
            </a:pathLst>
          </a:custGeom>
          <a:noFill/>
          <a:ln w="25200">
            <a:solidFill>
              <a:srgbClr val="ffc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42" name="object 43"/>
          <p:cNvSpPr/>
          <p:nvPr/>
        </p:nvSpPr>
        <p:spPr>
          <a:xfrm>
            <a:off x="1119240" y="2390760"/>
            <a:ext cx="1747800" cy="255960"/>
          </a:xfrm>
          <a:prstGeom prst="rect">
            <a:avLst/>
          </a:prstGeom>
          <a:noFill/>
          <a:ln w="0">
            <a:noFill/>
          </a:ln>
        </p:spPr>
        <p:style>
          <a:lnRef idx="0"/>
          <a:fillRef idx="0"/>
          <a:effectRef idx="0"/>
          <a:fontRef idx="minor"/>
        </p:style>
        <p:txBody>
          <a:bodyPr lIns="0" rIns="0" tIns="12240" bIns="0" anchor="t">
            <a:spAutoFit/>
          </a:bodyPr>
          <a:p>
            <a:pPr marL="63360" indent="-522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52525"/>
                </a:solidFill>
                <a:latin typeface="Arial"/>
                <a:ea typeface="Arial"/>
              </a:rPr>
              <a:t>Successful privatization and strong  private investments (self-dealing)</a:t>
            </a:r>
            <a:endParaRPr b="0" lang="en-US" sz="800" spc="-1" strike="noStrike">
              <a:solidFill>
                <a:srgbClr val="003366"/>
              </a:solidFill>
              <a:latin typeface="Arial"/>
            </a:endParaRPr>
          </a:p>
        </p:txBody>
      </p:sp>
      <p:sp>
        <p:nvSpPr>
          <p:cNvPr id="143" name="object 44"/>
          <p:cNvSpPr/>
          <p:nvPr/>
        </p:nvSpPr>
        <p:spPr>
          <a:xfrm>
            <a:off x="434880" y="4305240"/>
            <a:ext cx="152640" cy="13032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4" name="object 45"/>
          <p:cNvSpPr/>
          <p:nvPr/>
        </p:nvSpPr>
        <p:spPr>
          <a:xfrm>
            <a:off x="1882800" y="4324320"/>
            <a:ext cx="152280" cy="12852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5" name="object 46"/>
          <p:cNvSpPr/>
          <p:nvPr/>
        </p:nvSpPr>
        <p:spPr>
          <a:xfrm>
            <a:off x="2179800" y="4324320"/>
            <a:ext cx="152280" cy="12852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6" name="object 47"/>
          <p:cNvSpPr/>
          <p:nvPr/>
        </p:nvSpPr>
        <p:spPr>
          <a:xfrm>
            <a:off x="2479680" y="4324320"/>
            <a:ext cx="152280" cy="12852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47" name="object 48"/>
          <p:cNvSpPr/>
          <p:nvPr/>
        </p:nvSpPr>
        <p:spPr>
          <a:xfrm>
            <a:off x="504720" y="4435560"/>
            <a:ext cx="6480" cy="1385640"/>
          </a:xfrm>
          <a:custGeom>
            <a:avLst/>
            <a:gdLst/>
            <a:ahLst/>
            <a:rect l="l" t="t" r="r" b="b"/>
            <a:pathLst>
              <a:path w="5715" h="1385570">
                <a:moveTo>
                  <a:pt x="5308" y="0"/>
                </a:moveTo>
                <a:lnTo>
                  <a:pt x="0" y="1385379"/>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48" name="object 49"/>
          <p:cNvSpPr/>
          <p:nvPr/>
        </p:nvSpPr>
        <p:spPr>
          <a:xfrm>
            <a:off x="58680" y="5819760"/>
            <a:ext cx="893880" cy="376920"/>
          </a:xfrm>
          <a:prstGeom prst="rect">
            <a:avLst/>
          </a:prstGeom>
          <a:solidFill>
            <a:srgbClr val="ffc000">
              <a:alpha val="42000"/>
            </a:srgbClr>
          </a:solidFill>
          <a:ln w="10080">
            <a:solidFill>
              <a:srgbClr val="ff0000"/>
            </a:solidFill>
            <a:miter/>
          </a:ln>
        </p:spPr>
        <p:style>
          <a:lnRef idx="0"/>
          <a:fillRef idx="0"/>
          <a:effectRef idx="0"/>
          <a:fontRef idx="minor"/>
        </p:style>
        <p:txBody>
          <a:bodyPr lIns="0" rIns="0" tIns="41760" bIns="0" anchor="t">
            <a:spAutoFit/>
          </a:bodyPr>
          <a:p>
            <a:pPr marL="274680" indent="-154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Chile</a:t>
            </a:r>
            <a:endParaRPr b="0" lang="en-US" sz="1100" spc="-1" strike="noStrike">
              <a:solidFill>
                <a:srgbClr val="003366"/>
              </a:solidFill>
              <a:latin typeface="Arial"/>
            </a:endParaRPr>
          </a:p>
        </p:txBody>
      </p:sp>
      <p:sp>
        <p:nvSpPr>
          <p:cNvPr id="149" name="object 50"/>
          <p:cNvSpPr/>
          <p:nvPr/>
        </p:nvSpPr>
        <p:spPr>
          <a:xfrm>
            <a:off x="1959120" y="4452840"/>
            <a:ext cx="7920" cy="666720"/>
          </a:xfrm>
          <a:custGeom>
            <a:avLst/>
            <a:gdLst/>
            <a:ahLst/>
            <a:rect l="l" t="t" r="r" b="b"/>
            <a:pathLst>
              <a:path w="8255" h="666750">
                <a:moveTo>
                  <a:pt x="0" y="0"/>
                </a:moveTo>
                <a:lnTo>
                  <a:pt x="8128" y="666369"/>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0" name="object 51"/>
          <p:cNvSpPr/>
          <p:nvPr/>
        </p:nvSpPr>
        <p:spPr>
          <a:xfrm>
            <a:off x="2257560" y="4452840"/>
            <a:ext cx="360" cy="665280"/>
          </a:xfrm>
          <a:custGeom>
            <a:avLst/>
            <a:gdLst/>
            <a:ahLst/>
            <a:rect l="l" t="t" r="r" b="b"/>
            <a:pathLst>
              <a:path w="0" h="666114">
                <a:moveTo>
                  <a:pt x="0" y="0"/>
                </a:moveTo>
                <a:lnTo>
                  <a:pt x="0" y="665988"/>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1" name="object 52"/>
          <p:cNvSpPr/>
          <p:nvPr/>
        </p:nvSpPr>
        <p:spPr>
          <a:xfrm>
            <a:off x="2257560" y="5719680"/>
            <a:ext cx="360" cy="235080"/>
          </a:xfrm>
          <a:custGeom>
            <a:avLst/>
            <a:gdLst/>
            <a:ahLst/>
            <a:rect l="l" t="t" r="r" b="b"/>
            <a:pathLst>
              <a:path w="0" h="235585">
                <a:moveTo>
                  <a:pt x="0" y="0"/>
                </a:moveTo>
                <a:lnTo>
                  <a:pt x="0" y="235559"/>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2" name="object 53"/>
          <p:cNvSpPr/>
          <p:nvPr/>
        </p:nvSpPr>
        <p:spPr>
          <a:xfrm>
            <a:off x="1738440" y="5954760"/>
            <a:ext cx="1038240" cy="376560"/>
          </a:xfrm>
          <a:prstGeom prst="rect">
            <a:avLst/>
          </a:prstGeom>
          <a:solidFill>
            <a:srgbClr val="ffc000">
              <a:alpha val="44000"/>
            </a:srgbClr>
          </a:solidFill>
          <a:ln w="10080">
            <a:solidFill>
              <a:srgbClr val="ff0000"/>
            </a:solidFill>
            <a:miter/>
          </a:ln>
        </p:spPr>
        <p:style>
          <a:lnRef idx="0"/>
          <a:fillRef idx="0"/>
          <a:effectRef idx="0"/>
          <a:fontRef idx="minor"/>
        </p:style>
        <p:txBody>
          <a:bodyPr lIns="0" rIns="0" tIns="41400" bIns="0" anchor="t">
            <a:spAutoFit/>
          </a:bodyPr>
          <a:p>
            <a:pPr marL="200160" indent="-64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Colombia</a:t>
            </a:r>
            <a:endParaRPr b="0" lang="en-US" sz="1100" spc="-1" strike="noStrike">
              <a:solidFill>
                <a:srgbClr val="003366"/>
              </a:solidFill>
              <a:latin typeface="Arial"/>
            </a:endParaRPr>
          </a:p>
        </p:txBody>
      </p:sp>
      <p:sp>
        <p:nvSpPr>
          <p:cNvPr id="153" name="object 54"/>
          <p:cNvSpPr/>
          <p:nvPr/>
        </p:nvSpPr>
        <p:spPr>
          <a:xfrm>
            <a:off x="1519200" y="5118120"/>
            <a:ext cx="895320" cy="544320"/>
          </a:xfrm>
          <a:prstGeom prst="rect">
            <a:avLst/>
          </a:prstGeom>
          <a:solidFill>
            <a:srgbClr val="ffc000">
              <a:alpha val="44000"/>
            </a:srgbClr>
          </a:solidFill>
          <a:ln w="10080">
            <a:solidFill>
              <a:srgbClr val="ff0000"/>
            </a:solidFill>
            <a:miter/>
          </a:ln>
        </p:spPr>
        <p:style>
          <a:lnRef idx="0"/>
          <a:fillRef idx="0"/>
          <a:effectRef idx="0"/>
          <a:fontRef idx="minor"/>
        </p:style>
        <p:txBody>
          <a:bodyPr lIns="0" rIns="0" tIns="41760" bIns="0" anchor="t">
            <a:spAutoFit/>
          </a:bodyPr>
          <a:p>
            <a:pPr marL="12060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Argentina  and Peru</a:t>
            </a:r>
            <a:endParaRPr b="0" lang="en-US" sz="1100" spc="-1" strike="noStrike">
              <a:solidFill>
                <a:srgbClr val="003366"/>
              </a:solidFill>
              <a:latin typeface="Arial"/>
            </a:endParaRPr>
          </a:p>
        </p:txBody>
      </p:sp>
      <p:sp>
        <p:nvSpPr>
          <p:cNvPr id="154" name="object 55"/>
          <p:cNvSpPr/>
          <p:nvPr/>
        </p:nvSpPr>
        <p:spPr>
          <a:xfrm>
            <a:off x="2587680" y="4435560"/>
            <a:ext cx="360" cy="145800"/>
          </a:xfrm>
          <a:custGeom>
            <a:avLst/>
            <a:gdLst/>
            <a:ahLst/>
            <a:rect l="l" t="t" r="r" b="b"/>
            <a:pathLst>
              <a:path w="0" h="146050">
                <a:moveTo>
                  <a:pt x="0" y="0"/>
                </a:moveTo>
                <a:lnTo>
                  <a:pt x="0" y="145923"/>
                </a:lnTo>
              </a:path>
            </a:pathLst>
          </a:custGeom>
          <a:noFill/>
          <a:ln w="10080">
            <a:solidFill>
              <a:srgbClr val="f7bcc1"/>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5" name="object 56"/>
          <p:cNvSpPr/>
          <p:nvPr/>
        </p:nvSpPr>
        <p:spPr>
          <a:xfrm>
            <a:off x="2279520" y="4589640"/>
            <a:ext cx="739800" cy="431640"/>
          </a:xfrm>
          <a:custGeom>
            <a:avLst/>
            <a:gdLst/>
            <a:ahLst/>
            <a:rect l="l" t="t" r="r" b="b"/>
            <a:pathLst>
              <a:path w="738505" h="431800">
                <a:moveTo>
                  <a:pt x="0" y="431292"/>
                </a:moveTo>
                <a:lnTo>
                  <a:pt x="738377" y="431292"/>
                </a:lnTo>
                <a:lnTo>
                  <a:pt x="738377" y="0"/>
                </a:lnTo>
                <a:lnTo>
                  <a:pt x="0" y="0"/>
                </a:lnTo>
                <a:lnTo>
                  <a:pt x="0" y="431292"/>
                </a:lnTo>
                <a:close/>
              </a:path>
            </a:pathLst>
          </a:custGeom>
          <a:noFill/>
          <a:ln w="1008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56" name="object 57"/>
          <p:cNvSpPr/>
          <p:nvPr/>
        </p:nvSpPr>
        <p:spPr>
          <a:xfrm>
            <a:off x="2266920" y="4594320"/>
            <a:ext cx="747720" cy="371880"/>
          </a:xfrm>
          <a:prstGeom prst="rect">
            <a:avLst/>
          </a:prstGeom>
          <a:solidFill>
            <a:srgbClr val="ffc000">
              <a:alpha val="44000"/>
            </a:srgbClr>
          </a:solidFill>
          <a:ln w="0">
            <a:noFill/>
          </a:ln>
        </p:spPr>
        <p:style>
          <a:lnRef idx="0"/>
          <a:fillRef idx="0"/>
          <a:effectRef idx="0"/>
          <a:fontRef idx="minor"/>
        </p:style>
        <p:txBody>
          <a:bodyPr lIns="0" rIns="0" tIns="36720" bIns="0" anchor="t">
            <a:spAutoFit/>
          </a:bodyPr>
          <a:p>
            <a:pPr marL="108000" indent="27000">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ea typeface="Arial"/>
              </a:rPr>
              <a:t>Reform  in Brazil</a:t>
            </a:r>
            <a:endParaRPr b="0" lang="en-US" sz="1100" spc="-1" strike="noStrike">
              <a:solidFill>
                <a:srgbClr val="003366"/>
              </a:solidFill>
              <a:latin typeface="Arial"/>
            </a:endParaRPr>
          </a:p>
        </p:txBody>
      </p:sp>
      <p:sp>
        <p:nvSpPr>
          <p:cNvPr id="157" name="object 58"/>
          <p:cNvSpPr/>
          <p:nvPr/>
        </p:nvSpPr>
        <p:spPr>
          <a:xfrm>
            <a:off x="3281400" y="1541520"/>
            <a:ext cx="2108160" cy="87624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8" name="object 59"/>
          <p:cNvSpPr/>
          <p:nvPr/>
        </p:nvSpPr>
        <p:spPr>
          <a:xfrm>
            <a:off x="3352680" y="1549440"/>
            <a:ext cx="2000520" cy="89388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59" name="object 60"/>
          <p:cNvSpPr/>
          <p:nvPr/>
        </p:nvSpPr>
        <p:spPr>
          <a:xfrm>
            <a:off x="3311640" y="1571760"/>
            <a:ext cx="2001600" cy="711360"/>
          </a:xfrm>
          <a:prstGeom prst="rect">
            <a:avLst/>
          </a:prstGeom>
          <a:solidFill>
            <a:srgbClr val="ff0000"/>
          </a:solidFill>
          <a:ln w="10080">
            <a:solidFill>
              <a:srgbClr val="000000"/>
            </a:solidFill>
            <a:miter/>
          </a:ln>
        </p:spPr>
        <p:style>
          <a:lnRef idx="0"/>
          <a:fillRef idx="0"/>
          <a:effectRef idx="0"/>
          <a:fontRef idx="minor"/>
        </p:style>
        <p:txBody>
          <a:bodyPr lIns="0" rIns="0" tIns="41400" bIns="0" anchor="t">
            <a:spAutoFit/>
          </a:bodyPr>
          <a:p>
            <a:pPr marL="1494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Energy Rationings in  Argentina and Chile </a:t>
            </a:r>
            <a:r>
              <a:rPr b="0" lang="en-US" sz="1100" spc="-1" strike="noStrike">
                <a:solidFill>
                  <a:srgbClr val="ffffff"/>
                </a:solidFill>
                <a:latin typeface="Arial"/>
                <a:ea typeface="Arial"/>
              </a:rPr>
              <a:t>(Gas  &amp; Electricity), </a:t>
            </a:r>
            <a:r>
              <a:rPr b="1" lang="en-US" sz="1100" spc="-1" strike="noStrike">
                <a:solidFill>
                  <a:srgbClr val="ffffff"/>
                </a:solidFill>
                <a:latin typeface="Arial"/>
                <a:ea typeface="Arial"/>
              </a:rPr>
              <a:t>Brazil  </a:t>
            </a:r>
            <a:r>
              <a:rPr b="0" lang="en-US" sz="1100" spc="-1" strike="noStrike">
                <a:solidFill>
                  <a:srgbClr val="ffffff"/>
                </a:solidFill>
                <a:latin typeface="Arial"/>
                <a:ea typeface="Arial"/>
              </a:rPr>
              <a:t>(Electricity)</a:t>
            </a:r>
            <a:endParaRPr b="0" lang="en-US" sz="1100" spc="-1" strike="noStrike">
              <a:solidFill>
                <a:srgbClr val="003366"/>
              </a:solidFill>
              <a:latin typeface="Arial"/>
            </a:endParaRPr>
          </a:p>
        </p:txBody>
      </p:sp>
      <p:sp>
        <p:nvSpPr>
          <p:cNvPr id="160" name="object 61"/>
          <p:cNvSpPr/>
          <p:nvPr/>
        </p:nvSpPr>
        <p:spPr>
          <a:xfrm>
            <a:off x="3524400" y="2941560"/>
            <a:ext cx="1865160" cy="127656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1" name="object 62"/>
          <p:cNvSpPr/>
          <p:nvPr/>
        </p:nvSpPr>
        <p:spPr>
          <a:xfrm>
            <a:off x="3581280" y="2952720"/>
            <a:ext cx="1784520" cy="127800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2" name="object 63"/>
          <p:cNvSpPr/>
          <p:nvPr/>
        </p:nvSpPr>
        <p:spPr>
          <a:xfrm>
            <a:off x="3554280" y="2971800"/>
            <a:ext cx="1758960" cy="1260360"/>
          </a:xfrm>
          <a:prstGeom prst="rect">
            <a:avLst/>
          </a:prstGeom>
          <a:solidFill>
            <a:srgbClr val="f7bcc1"/>
          </a:solidFill>
          <a:ln w="10080">
            <a:solidFill>
              <a:srgbClr val="000000"/>
            </a:solidFill>
            <a:miter/>
          </a:ln>
        </p:spPr>
        <p:style>
          <a:lnRef idx="0"/>
          <a:fillRef idx="0"/>
          <a:effectRef idx="0"/>
          <a:fontRef idx="minor"/>
        </p:style>
        <p:txBody>
          <a:bodyPr lIns="0" rIns="0" tIns="41760" bIns="0" anchor="t">
            <a:spAutoFit/>
          </a:bodyPr>
          <a:p>
            <a:pPr marL="39672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ea typeface="Arial"/>
              </a:rPr>
              <a:t>Energy Crisis in  Argentina</a:t>
            </a:r>
            <a:endParaRPr b="0" lang="en-US" sz="1000" spc="-1" strike="noStrike">
              <a:solidFill>
                <a:srgbClr val="003366"/>
              </a:solidFill>
              <a:latin typeface="Arial"/>
            </a:endParaRPr>
          </a:p>
          <a:p>
            <a:pPr marL="396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Arial"/>
                <a:ea typeface="Arial"/>
              </a:rPr>
              <a:t>Poor pricing policies on  electricity and gas &amp; govt  intervention led to deficient  supply, electricity and gas  exports suspended</a:t>
            </a:r>
            <a:endParaRPr b="0" lang="en-US" sz="1000" spc="-1" strike="noStrike">
              <a:solidFill>
                <a:srgbClr val="003366"/>
              </a:solidFill>
              <a:latin typeface="Arial"/>
            </a:endParaRPr>
          </a:p>
        </p:txBody>
      </p:sp>
      <p:sp>
        <p:nvSpPr>
          <p:cNvPr id="163" name="object 64"/>
          <p:cNvSpPr/>
          <p:nvPr/>
        </p:nvSpPr>
        <p:spPr>
          <a:xfrm>
            <a:off x="3171960" y="4906800"/>
            <a:ext cx="2479680" cy="87660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4" name="object 65"/>
          <p:cNvSpPr/>
          <p:nvPr/>
        </p:nvSpPr>
        <p:spPr>
          <a:xfrm>
            <a:off x="3182760" y="4915080"/>
            <a:ext cx="2446560" cy="895320"/>
          </a:xfrm>
          <a:prstGeom prst="rect">
            <a:avLst/>
          </a:prstGeom>
          <a:blipFill rotWithShape="0">
            <a:blip r:embed="rId2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5" name="object 66"/>
          <p:cNvSpPr/>
          <p:nvPr/>
        </p:nvSpPr>
        <p:spPr>
          <a:xfrm>
            <a:off x="3201840" y="4937040"/>
            <a:ext cx="2373480" cy="711360"/>
          </a:xfrm>
          <a:prstGeom prst="rect">
            <a:avLst/>
          </a:prstGeom>
          <a:solidFill>
            <a:srgbClr val="ff0000"/>
          </a:solidFill>
          <a:ln w="10080">
            <a:solidFill>
              <a:srgbClr val="000000"/>
            </a:solidFill>
            <a:miter/>
          </a:ln>
        </p:spPr>
        <p:style>
          <a:lnRef idx="0"/>
          <a:fillRef idx="0"/>
          <a:effectRef idx="0"/>
          <a:fontRef idx="minor"/>
        </p:style>
        <p:txBody>
          <a:bodyPr lIns="0" rIns="0" tIns="41400" bIns="0" anchor="t">
            <a:spAutoFit/>
          </a:bodyPr>
          <a:p>
            <a:pPr marL="90360" indent="79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Disruption of energy exchanges:  Argentina</a:t>
            </a:r>
            <a:r>
              <a:rPr b="1" lang="en-US" sz="1100" spc="-1" strike="noStrike">
                <a:solidFill>
                  <a:srgbClr val="ffffff"/>
                </a:solidFill>
                <a:latin typeface="Symbol"/>
                <a:ea typeface="Symbol"/>
              </a:rPr>
              <a:t></a:t>
            </a:r>
            <a:r>
              <a:rPr b="1" lang="en-US" sz="1100" spc="-1" strike="noStrike">
                <a:solidFill>
                  <a:srgbClr val="ffffff"/>
                </a:solidFill>
                <a:latin typeface="Times New Roman"/>
                <a:ea typeface="Times New Roman"/>
              </a:rPr>
              <a:t> </a:t>
            </a:r>
            <a:r>
              <a:rPr b="1" lang="en-US" sz="1100" spc="-1" strike="noStrike">
                <a:solidFill>
                  <a:srgbClr val="ffffff"/>
                </a:solidFill>
                <a:latin typeface="Arial"/>
                <a:ea typeface="Arial"/>
              </a:rPr>
              <a:t>Chile </a:t>
            </a:r>
            <a:r>
              <a:rPr b="0" lang="en-US" sz="1100" spc="-1" strike="noStrike">
                <a:solidFill>
                  <a:srgbClr val="ffffff"/>
                </a:solidFill>
                <a:latin typeface="Arial"/>
                <a:ea typeface="Arial"/>
              </a:rPr>
              <a:t>(Gas)  </a:t>
            </a:r>
            <a:r>
              <a:rPr b="1" lang="en-US" sz="1100" spc="-1" strike="noStrike">
                <a:solidFill>
                  <a:srgbClr val="ffffff"/>
                </a:solidFill>
                <a:latin typeface="Arial"/>
                <a:ea typeface="Arial"/>
              </a:rPr>
              <a:t>Argentina </a:t>
            </a:r>
            <a:r>
              <a:rPr b="1" lang="en-US" sz="1100" spc="-1" strike="noStrike">
                <a:solidFill>
                  <a:srgbClr val="ffffff"/>
                </a:solidFill>
                <a:latin typeface="Symbol"/>
                <a:ea typeface="Symbol"/>
              </a:rPr>
              <a:t></a:t>
            </a:r>
            <a:r>
              <a:rPr b="1" lang="en-US" sz="1100" spc="-1" strike="noStrike">
                <a:solidFill>
                  <a:srgbClr val="ffffff"/>
                </a:solidFill>
                <a:latin typeface="Times New Roman"/>
                <a:ea typeface="Times New Roman"/>
              </a:rPr>
              <a:t> </a:t>
            </a:r>
            <a:r>
              <a:rPr b="1" lang="en-US" sz="1100" spc="-1" strike="noStrike">
                <a:solidFill>
                  <a:srgbClr val="ffffff"/>
                </a:solidFill>
                <a:latin typeface="Arial"/>
                <a:ea typeface="Arial"/>
              </a:rPr>
              <a:t>Brazil </a:t>
            </a:r>
            <a:r>
              <a:rPr b="0" lang="en-US" sz="1100" spc="-1" strike="noStrike">
                <a:solidFill>
                  <a:srgbClr val="ffffff"/>
                </a:solidFill>
                <a:latin typeface="Arial"/>
                <a:ea typeface="Arial"/>
              </a:rPr>
              <a:t>(Electricity)  </a:t>
            </a:r>
            <a:r>
              <a:rPr b="1" lang="en-US" sz="1100" spc="-1" strike="noStrike">
                <a:solidFill>
                  <a:srgbClr val="ffffff"/>
                </a:solidFill>
                <a:latin typeface="Arial"/>
                <a:ea typeface="Arial"/>
              </a:rPr>
              <a:t>Argentina </a:t>
            </a:r>
            <a:r>
              <a:rPr b="1" lang="en-US" sz="1100" spc="-1" strike="noStrike">
                <a:solidFill>
                  <a:srgbClr val="ffffff"/>
                </a:solidFill>
                <a:latin typeface="Symbol"/>
                <a:ea typeface="Symbol"/>
              </a:rPr>
              <a:t></a:t>
            </a:r>
            <a:r>
              <a:rPr b="1" lang="en-US" sz="1100" spc="-1" strike="noStrike">
                <a:solidFill>
                  <a:srgbClr val="ffffff"/>
                </a:solidFill>
                <a:latin typeface="Times New Roman"/>
                <a:ea typeface="Times New Roman"/>
              </a:rPr>
              <a:t> </a:t>
            </a:r>
            <a:r>
              <a:rPr b="1" lang="en-US" sz="1100" spc="-1" strike="noStrike">
                <a:solidFill>
                  <a:srgbClr val="ffffff"/>
                </a:solidFill>
                <a:latin typeface="Arial"/>
                <a:ea typeface="Arial"/>
              </a:rPr>
              <a:t>Uruguay </a:t>
            </a:r>
            <a:r>
              <a:rPr b="0" lang="en-US" sz="1100" spc="-1" strike="noStrike">
                <a:solidFill>
                  <a:srgbClr val="ffffff"/>
                </a:solidFill>
                <a:latin typeface="Arial"/>
                <a:ea typeface="Arial"/>
              </a:rPr>
              <a:t>(Electricity)</a:t>
            </a:r>
            <a:endParaRPr b="0" lang="en-US" sz="1100" spc="-1" strike="noStrike">
              <a:solidFill>
                <a:srgbClr val="003366"/>
              </a:solidFill>
              <a:latin typeface="Arial"/>
            </a:endParaRPr>
          </a:p>
        </p:txBody>
      </p:sp>
      <p:sp>
        <p:nvSpPr>
          <p:cNvPr id="166" name="object 67"/>
          <p:cNvSpPr/>
          <p:nvPr/>
        </p:nvSpPr>
        <p:spPr>
          <a:xfrm>
            <a:off x="54000" y="2711520"/>
            <a:ext cx="1828800" cy="488880"/>
          </a:xfrm>
          <a:custGeom>
            <a:avLst/>
            <a:gdLst/>
            <a:ahLst/>
            <a:rect l="l" t="t" r="r" b="b"/>
            <a:pathLst>
              <a:path w="1828800" h="488950">
                <a:moveTo>
                  <a:pt x="244221" y="0"/>
                </a:moveTo>
                <a:lnTo>
                  <a:pt x="0" y="244220"/>
                </a:lnTo>
                <a:lnTo>
                  <a:pt x="244221" y="488441"/>
                </a:lnTo>
                <a:lnTo>
                  <a:pt x="244221" y="366394"/>
                </a:lnTo>
                <a:lnTo>
                  <a:pt x="1706626" y="366394"/>
                </a:lnTo>
                <a:lnTo>
                  <a:pt x="1828800" y="244220"/>
                </a:lnTo>
                <a:lnTo>
                  <a:pt x="1706626" y="122046"/>
                </a:lnTo>
                <a:lnTo>
                  <a:pt x="244221" y="122046"/>
                </a:lnTo>
                <a:lnTo>
                  <a:pt x="244221" y="0"/>
                </a:lnTo>
                <a:close/>
              </a:path>
              <a:path w="1828800" h="488950">
                <a:moveTo>
                  <a:pt x="1706626" y="366394"/>
                </a:moveTo>
                <a:lnTo>
                  <a:pt x="1584579" y="366394"/>
                </a:lnTo>
                <a:lnTo>
                  <a:pt x="1584579" y="488441"/>
                </a:lnTo>
                <a:lnTo>
                  <a:pt x="1706626" y="366394"/>
                </a:lnTo>
                <a:close/>
              </a:path>
              <a:path w="1828800" h="488950">
                <a:moveTo>
                  <a:pt x="1584579" y="0"/>
                </a:moveTo>
                <a:lnTo>
                  <a:pt x="1584579" y="122046"/>
                </a:lnTo>
                <a:lnTo>
                  <a:pt x="1706626" y="122046"/>
                </a:lnTo>
                <a:lnTo>
                  <a:pt x="1584579" y="0"/>
                </a:lnTo>
                <a:close/>
              </a:path>
            </a:pathLst>
          </a:custGeom>
          <a:solidFill>
            <a:srgbClr val="585858"/>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67" name="object 68"/>
          <p:cNvSpPr/>
          <p:nvPr/>
        </p:nvSpPr>
        <p:spPr>
          <a:xfrm>
            <a:off x="379440" y="2819520"/>
            <a:ext cx="1176480" cy="377640"/>
          </a:xfrm>
          <a:prstGeom prst="rect">
            <a:avLst/>
          </a:prstGeom>
          <a:noFill/>
          <a:ln w="0">
            <a:noFill/>
          </a:ln>
        </p:spPr>
        <p:style>
          <a:lnRef idx="0"/>
          <a:fillRef idx="0"/>
          <a:effectRef idx="0"/>
          <a:fontRef idx="minor"/>
        </p:style>
        <p:txBody>
          <a:bodyPr lIns="0" rIns="0" tIns="12240" bIns="0" anchor="t">
            <a:spAutoFit/>
          </a:bodyPr>
          <a:p>
            <a:pPr marL="12600" indent="18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Active gas industries in  Argentina, Bolivia, Peru</a:t>
            </a:r>
            <a:endParaRPr b="0" lang="en-US" sz="800" spc="-1" strike="noStrike">
              <a:solidFill>
                <a:srgbClr val="003366"/>
              </a:solidFill>
              <a:latin typeface="Arial"/>
            </a:endParaRPr>
          </a:p>
        </p:txBody>
      </p:sp>
      <p:sp>
        <p:nvSpPr>
          <p:cNvPr id="168" name="object 69"/>
          <p:cNvSpPr/>
          <p:nvPr/>
        </p:nvSpPr>
        <p:spPr>
          <a:xfrm>
            <a:off x="3075120" y="5837400"/>
            <a:ext cx="2712960" cy="660240"/>
          </a:xfrm>
          <a:prstGeom prst="rect">
            <a:avLst/>
          </a:prstGeom>
          <a:blipFill rotWithShape="0">
            <a:blip r:embed="rId23"/>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69" name="object 70"/>
          <p:cNvSpPr/>
          <p:nvPr/>
        </p:nvSpPr>
        <p:spPr>
          <a:xfrm>
            <a:off x="3127320" y="5850000"/>
            <a:ext cx="2641680" cy="668160"/>
          </a:xfrm>
          <a:prstGeom prst="rect">
            <a:avLst/>
          </a:prstGeom>
          <a:blipFill rotWithShape="0">
            <a:blip r:embed="rId24"/>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0" name="object 71"/>
          <p:cNvSpPr/>
          <p:nvPr/>
        </p:nvSpPr>
        <p:spPr>
          <a:xfrm>
            <a:off x="3105000" y="5867280"/>
            <a:ext cx="2605320" cy="498960"/>
          </a:xfrm>
          <a:prstGeom prst="rect">
            <a:avLst/>
          </a:prstGeom>
          <a:solidFill>
            <a:srgbClr val="5f5f5f"/>
          </a:solidFill>
          <a:ln w="10080">
            <a:solidFill>
              <a:srgbClr val="000000"/>
            </a:solidFill>
            <a:miter/>
          </a:ln>
        </p:spPr>
        <p:style>
          <a:lnRef idx="0"/>
          <a:fillRef idx="0"/>
          <a:effectRef idx="0"/>
          <a:fontRef idx="minor"/>
        </p:style>
        <p:txBody>
          <a:bodyPr lIns="0" rIns="0" tIns="41760" bIns="0" anchor="t">
            <a:spAutoFit/>
          </a:bodyPr>
          <a:p>
            <a:pPr marL="1224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spite huge reserves, Brazil,  Argentina became gas importers; Chile  was severely hit</a:t>
            </a:r>
            <a:endParaRPr b="0" lang="en-US" sz="1000" spc="-1" strike="noStrike">
              <a:solidFill>
                <a:srgbClr val="003366"/>
              </a:solidFill>
              <a:latin typeface="Arial"/>
            </a:endParaRPr>
          </a:p>
        </p:txBody>
      </p:sp>
      <p:sp>
        <p:nvSpPr>
          <p:cNvPr id="171" name="object 72"/>
          <p:cNvSpPr/>
          <p:nvPr/>
        </p:nvSpPr>
        <p:spPr>
          <a:xfrm>
            <a:off x="5911920" y="1530360"/>
            <a:ext cx="2781360" cy="660240"/>
          </a:xfrm>
          <a:prstGeom prst="rect">
            <a:avLst/>
          </a:prstGeom>
          <a:blipFill rotWithShape="0">
            <a:blip r:embed="rId25"/>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2" name="object 73"/>
          <p:cNvSpPr/>
          <p:nvPr/>
        </p:nvSpPr>
        <p:spPr>
          <a:xfrm>
            <a:off x="5979960" y="1542960"/>
            <a:ext cx="2679840" cy="668520"/>
          </a:xfrm>
          <a:prstGeom prst="rect">
            <a:avLst/>
          </a:prstGeom>
          <a:blipFill rotWithShape="0">
            <a:blip r:embed="rId26"/>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3" name="object 74"/>
          <p:cNvSpPr/>
          <p:nvPr/>
        </p:nvSpPr>
        <p:spPr>
          <a:xfrm>
            <a:off x="5942160" y="1560600"/>
            <a:ext cx="2674800" cy="498960"/>
          </a:xfrm>
          <a:prstGeom prst="rect">
            <a:avLst/>
          </a:prstGeom>
          <a:solidFill>
            <a:srgbClr val="5f5f5f"/>
          </a:solidFill>
          <a:ln w="10080">
            <a:solidFill>
              <a:srgbClr val="000000"/>
            </a:solidFill>
            <a:miter/>
          </a:ln>
        </p:spPr>
        <p:style>
          <a:lnRef idx="0"/>
          <a:fillRef idx="0"/>
          <a:effectRef idx="0"/>
          <a:fontRef idx="minor"/>
        </p:style>
        <p:txBody>
          <a:bodyPr lIns="0" rIns="0" tIns="41760" bIns="0" anchor="t">
            <a:spAutoFit/>
          </a:bodyPr>
          <a:p>
            <a:pPr marL="1382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ailed South American gas market  integration due to poor exploitation and  pricing policies</a:t>
            </a:r>
            <a:endParaRPr b="0" lang="en-US" sz="1000" spc="-1" strike="noStrike">
              <a:solidFill>
                <a:srgbClr val="003366"/>
              </a:solidFill>
              <a:latin typeface="Arial"/>
            </a:endParaRPr>
          </a:p>
        </p:txBody>
      </p:sp>
      <p:sp>
        <p:nvSpPr>
          <p:cNvPr id="174" name="object 75"/>
          <p:cNvSpPr/>
          <p:nvPr/>
        </p:nvSpPr>
        <p:spPr>
          <a:xfrm>
            <a:off x="4830840" y="4127400"/>
            <a:ext cx="152280" cy="312840"/>
          </a:xfrm>
          <a:prstGeom prst="rect">
            <a:avLst/>
          </a:prstGeom>
          <a:blipFill rotWithShape="0">
            <a:blip r:embed="rId27"/>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5" name="object 76"/>
          <p:cNvSpPr/>
          <p:nvPr/>
        </p:nvSpPr>
        <p:spPr>
          <a:xfrm>
            <a:off x="1535040" y="4402080"/>
            <a:ext cx="1258920" cy="884160"/>
          </a:xfrm>
          <a:prstGeom prst="rect">
            <a:avLst/>
          </a:prstGeom>
          <a:noFill/>
          <a:ln w="0">
            <a:noFill/>
          </a:ln>
        </p:spPr>
        <p:style>
          <a:lnRef idx="0"/>
          <a:fillRef idx="0"/>
          <a:effectRef idx="0"/>
          <a:fontRef idx="minor"/>
        </p:style>
        <p:txBody>
          <a:bodyPr lIns="0" rIns="0" tIns="33480" bIns="0" anchor="t">
            <a:spAutoFit/>
          </a:bodyPr>
          <a:p>
            <a:pPr marL="406440">
              <a:spcBef>
                <a:spcPts val="264"/>
              </a:spcBef>
              <a:tabLst>
                <a:tab algn="l" pos="0"/>
                <a:tab algn="l" pos="73980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
                <a:solidFill>
                  <a:srgbClr val="003366"/>
                </a:solidFill>
                <a:latin typeface="Arial"/>
                <a:ea typeface="Arial"/>
              </a:rPr>
              <a:t>‘</a:t>
            </a:r>
            <a:r>
              <a:rPr b="0" lang="en-US" sz="1500" spc="-1" strike="noStrike" baseline="3000">
                <a:solidFill>
                  <a:srgbClr val="003366"/>
                </a:solidFill>
                <a:latin typeface="Arial"/>
                <a:ea typeface="Arial"/>
              </a:rPr>
              <a:t>92</a:t>
            </a:r>
            <a:r>
              <a:rPr b="0" lang="en-US" sz="1500" spc="-1" strike="noStrike" baseline="3000">
                <a:solidFill>
                  <a:srgbClr val="003366"/>
                </a:solidFill>
                <a:latin typeface="Arial"/>
                <a:ea typeface="Arial"/>
              </a:rPr>
              <a:t>	</a:t>
            </a:r>
            <a:r>
              <a:rPr b="0" lang="en-US" sz="1000" spc="-1" strike="noStrike">
                <a:solidFill>
                  <a:srgbClr val="003366"/>
                </a:solidFill>
                <a:latin typeface="Arial"/>
                <a:ea typeface="Arial"/>
              </a:rPr>
              <a:t>’94</a:t>
            </a:r>
            <a:r>
              <a:rPr b="0" lang="en-US" sz="1000" spc="-1" strike="noStrike">
                <a:solidFill>
                  <a:srgbClr val="003366"/>
                </a:solidFill>
                <a:latin typeface="Arial"/>
                <a:ea typeface="Arial"/>
              </a:rPr>
              <a:t>	</a:t>
            </a:r>
            <a:r>
              <a:rPr b="0" lang="en-US" sz="1500" spc="-1" strike="noStrike" baseline="6000">
                <a:solidFill>
                  <a:srgbClr val="003366"/>
                </a:solidFill>
                <a:latin typeface="Arial"/>
                <a:ea typeface="Arial"/>
              </a:rPr>
              <a:t>‘96</a:t>
            </a:r>
            <a:endParaRPr b="0" lang="en-US" sz="1500" spc="-1" strike="noStrike">
              <a:solidFill>
                <a:srgbClr val="003366"/>
              </a:solidFill>
              <a:latin typeface="Arial"/>
            </a:endParaRPr>
          </a:p>
          <a:p>
            <a:pPr marL="406440">
              <a:spcBef>
                <a:spcPts val="224"/>
              </a:spcBef>
              <a:tabLst>
                <a:tab algn="l" pos="0"/>
                <a:tab algn="l" pos="73980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1990</a:t>
            </a:r>
            <a:endParaRPr b="0" lang="en-US" sz="1400" spc="-1" strike="noStrike">
              <a:solidFill>
                <a:srgbClr val="003366"/>
              </a:solidFill>
              <a:latin typeface="Arial"/>
            </a:endParaRPr>
          </a:p>
        </p:txBody>
      </p:sp>
      <p:sp>
        <p:nvSpPr>
          <p:cNvPr id="176" name="object 77"/>
          <p:cNvSpPr/>
          <p:nvPr/>
        </p:nvSpPr>
        <p:spPr>
          <a:xfrm>
            <a:off x="538200" y="4405320"/>
            <a:ext cx="195120" cy="16524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a:t>
            </a:r>
            <a:r>
              <a:rPr b="0" lang="en-US" sz="1000" spc="-1" strike="noStrike">
                <a:solidFill>
                  <a:srgbClr val="003366"/>
                </a:solidFill>
                <a:latin typeface="Arial"/>
                <a:ea typeface="Arial"/>
              </a:rPr>
              <a:t>82</a:t>
            </a:r>
            <a:endParaRPr b="0" lang="en-US" sz="1000" spc="-1" strike="noStrike">
              <a:solidFill>
                <a:srgbClr val="003366"/>
              </a:solidFill>
              <a:latin typeface="Arial"/>
            </a:endParaRPr>
          </a:p>
        </p:txBody>
      </p:sp>
      <p:sp>
        <p:nvSpPr>
          <p:cNvPr id="177" name="object 78"/>
          <p:cNvSpPr/>
          <p:nvPr/>
        </p:nvSpPr>
        <p:spPr>
          <a:xfrm>
            <a:off x="7894800" y="4780080"/>
            <a:ext cx="1222200" cy="1739880"/>
          </a:xfrm>
          <a:prstGeom prst="rect">
            <a:avLst/>
          </a:prstGeom>
          <a:blipFill rotWithShape="0">
            <a:blip r:embed="rId28"/>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178" name="object 79"/>
          <p:cNvSpPr/>
          <p:nvPr/>
        </p:nvSpPr>
        <p:spPr>
          <a:xfrm>
            <a:off x="7924680" y="4809960"/>
            <a:ext cx="1108080" cy="1548720"/>
          </a:xfrm>
          <a:prstGeom prst="rect">
            <a:avLst/>
          </a:prstGeom>
          <a:solidFill>
            <a:srgbClr val="71bec5"/>
          </a:solidFill>
          <a:ln w="10080">
            <a:solidFill>
              <a:srgbClr val="000000"/>
            </a:solidFill>
            <a:miter/>
          </a:ln>
        </p:spPr>
        <p:style>
          <a:lnRef idx="0"/>
          <a:fillRef idx="0"/>
          <a:effectRef idx="0"/>
          <a:fontRef idx="minor"/>
        </p:style>
        <p:txBody>
          <a:bodyPr lIns="0" rIns="0" tIns="41760" bIns="0" anchor="t">
            <a:spAutoFit/>
          </a:bodyPr>
          <a:p>
            <a:pPr marL="90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Argentina</a:t>
            </a:r>
            <a:r>
              <a:rPr b="1" lang="en-US" sz="1100" spc="-1" strike="noStrike">
                <a:solidFill>
                  <a:srgbClr val="003366"/>
                </a:solidFill>
                <a:latin typeface="Arial"/>
                <a:ea typeface="Arial"/>
              </a:rPr>
              <a:t>:  drive towards  change with  new gov.</a:t>
            </a:r>
            <a:endParaRPr b="0" lang="en-US" sz="1100" spc="-1" strike="noStrike">
              <a:solidFill>
                <a:srgbClr val="003366"/>
              </a:solidFill>
              <a:latin typeface="Arial"/>
            </a:endParaRPr>
          </a:p>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Chile</a:t>
            </a:r>
            <a:r>
              <a:rPr b="1" lang="en-US" sz="1100" spc="-1" strike="noStrike">
                <a:solidFill>
                  <a:srgbClr val="003366"/>
                </a:solidFill>
                <a:latin typeface="Arial"/>
                <a:ea typeface="Arial"/>
              </a:rPr>
              <a:t>: law  strengthens  planning;  successful  auction.</a:t>
            </a:r>
            <a:endParaRPr b="0" lang="en-US" sz="1100" spc="-1" strike="noStrike">
              <a:solidFill>
                <a:srgbClr val="003366"/>
              </a:solidFill>
              <a:latin typeface="Arial"/>
            </a:endParaRPr>
          </a:p>
        </p:txBody>
      </p:sp>
      <p:sp>
        <p:nvSpPr>
          <p:cNvPr id="179" name="object 80"/>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254D-CCCA-4B25-BCE7-D43485BE1A4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bject 2"/>
          <p:cNvSpPr/>
          <p:nvPr/>
        </p:nvSpPr>
        <p:spPr>
          <a:xfrm flipH="1" flipV="1">
            <a:off x="9030600" y="786960"/>
            <a:ext cx="21420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2745"/>
                </a:solidFill>
                <a:latin typeface="Arial"/>
                <a:ea typeface="Arial"/>
              </a:rPr>
              <a:t>()</a:t>
            </a:r>
            <a:endParaRPr b="0" lang="en-US" sz="1200" spc="-1" strike="noStrike">
              <a:solidFill>
                <a:srgbClr val="003366"/>
              </a:solidFill>
              <a:latin typeface="Arial"/>
            </a:endParaRPr>
          </a:p>
        </p:txBody>
      </p:sp>
      <p:sp>
        <p:nvSpPr>
          <p:cNvPr id="181" name="PlaceHolder 1"/>
          <p:cNvSpPr>
            <a:spLocks noGrp="1"/>
          </p:cNvSpPr>
          <p:nvPr>
            <p:ph type="title"/>
          </p:nvPr>
        </p:nvSpPr>
        <p:spPr>
          <a:xfrm>
            <a:off x="152280" y="281160"/>
            <a:ext cx="7925040" cy="38088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hases in power sector reform in Latin America</a:t>
            </a:r>
            <a:endParaRPr b="1" lang="en-US" sz="2400" spc="-1" strike="noStrike">
              <a:solidFill>
                <a:srgbClr val="cc0000"/>
              </a:solidFill>
              <a:latin typeface="Arial"/>
            </a:endParaRPr>
          </a:p>
        </p:txBody>
      </p:sp>
      <p:sp>
        <p:nvSpPr>
          <p:cNvPr id="182" name="object 4"/>
          <p:cNvSpPr/>
          <p:nvPr/>
        </p:nvSpPr>
        <p:spPr>
          <a:xfrm>
            <a:off x="12621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3" name="object 5"/>
          <p:cNvSpPr/>
          <p:nvPr/>
        </p:nvSpPr>
        <p:spPr>
          <a:xfrm>
            <a:off x="12621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4" name="object 6"/>
          <p:cNvSpPr/>
          <p:nvPr/>
        </p:nvSpPr>
        <p:spPr>
          <a:xfrm>
            <a:off x="12621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5" name="object 7"/>
          <p:cNvSpPr/>
          <p:nvPr/>
        </p:nvSpPr>
        <p:spPr>
          <a:xfrm>
            <a:off x="12621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6" name="object 8"/>
          <p:cNvSpPr/>
          <p:nvPr/>
        </p:nvSpPr>
        <p:spPr>
          <a:xfrm>
            <a:off x="12621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7" name="object 9"/>
          <p:cNvSpPr/>
          <p:nvPr/>
        </p:nvSpPr>
        <p:spPr>
          <a:xfrm>
            <a:off x="12621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8" name="object 10"/>
          <p:cNvSpPr/>
          <p:nvPr/>
        </p:nvSpPr>
        <p:spPr>
          <a:xfrm>
            <a:off x="16714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89" name="object 11"/>
          <p:cNvSpPr/>
          <p:nvPr/>
        </p:nvSpPr>
        <p:spPr>
          <a:xfrm>
            <a:off x="16714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0" name="object 12"/>
          <p:cNvSpPr/>
          <p:nvPr/>
        </p:nvSpPr>
        <p:spPr>
          <a:xfrm>
            <a:off x="1671480" y="1890720"/>
            <a:ext cx="360" cy="657360"/>
          </a:xfrm>
          <a:custGeom>
            <a:avLst/>
            <a:gdLst/>
            <a:ahLst/>
            <a:rect l="l" t="t" r="r" b="b"/>
            <a:pathLst>
              <a:path w="0" h="656589">
                <a:moveTo>
                  <a:pt x="0" y="0"/>
                </a:moveTo>
                <a:lnTo>
                  <a:pt x="0" y="65608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1" name="object 13"/>
          <p:cNvSpPr/>
          <p:nvPr/>
        </p:nvSpPr>
        <p:spPr>
          <a:xfrm>
            <a:off x="16714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2" name="object 14"/>
          <p:cNvSpPr/>
          <p:nvPr/>
        </p:nvSpPr>
        <p:spPr>
          <a:xfrm>
            <a:off x="16714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3" name="object 15"/>
          <p:cNvSpPr/>
          <p:nvPr/>
        </p:nvSpPr>
        <p:spPr>
          <a:xfrm>
            <a:off x="20811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4" name="object 16"/>
          <p:cNvSpPr/>
          <p:nvPr/>
        </p:nvSpPr>
        <p:spPr>
          <a:xfrm>
            <a:off x="20811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5" name="object 17"/>
          <p:cNvSpPr/>
          <p:nvPr/>
        </p:nvSpPr>
        <p:spPr>
          <a:xfrm>
            <a:off x="20811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6" name="object 18"/>
          <p:cNvSpPr/>
          <p:nvPr/>
        </p:nvSpPr>
        <p:spPr>
          <a:xfrm>
            <a:off x="20811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7" name="object 19"/>
          <p:cNvSpPr/>
          <p:nvPr/>
        </p:nvSpPr>
        <p:spPr>
          <a:xfrm>
            <a:off x="20811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8" name="object 20"/>
          <p:cNvSpPr/>
          <p:nvPr/>
        </p:nvSpPr>
        <p:spPr>
          <a:xfrm>
            <a:off x="20811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199" name="object 21"/>
          <p:cNvSpPr/>
          <p:nvPr/>
        </p:nvSpPr>
        <p:spPr>
          <a:xfrm>
            <a:off x="24922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0" name="object 22"/>
          <p:cNvSpPr/>
          <p:nvPr/>
        </p:nvSpPr>
        <p:spPr>
          <a:xfrm>
            <a:off x="24922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1" name="object 23"/>
          <p:cNvSpPr/>
          <p:nvPr/>
        </p:nvSpPr>
        <p:spPr>
          <a:xfrm>
            <a:off x="24922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2" name="object 24"/>
          <p:cNvSpPr/>
          <p:nvPr/>
        </p:nvSpPr>
        <p:spPr>
          <a:xfrm>
            <a:off x="24922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3" name="object 25"/>
          <p:cNvSpPr/>
          <p:nvPr/>
        </p:nvSpPr>
        <p:spPr>
          <a:xfrm>
            <a:off x="24922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4" name="object 26"/>
          <p:cNvSpPr/>
          <p:nvPr/>
        </p:nvSpPr>
        <p:spPr>
          <a:xfrm>
            <a:off x="24922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5" name="object 27"/>
          <p:cNvSpPr/>
          <p:nvPr/>
        </p:nvSpPr>
        <p:spPr>
          <a:xfrm>
            <a:off x="29019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6" name="object 28"/>
          <p:cNvSpPr/>
          <p:nvPr/>
        </p:nvSpPr>
        <p:spPr>
          <a:xfrm>
            <a:off x="29019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7" name="object 29"/>
          <p:cNvSpPr/>
          <p:nvPr/>
        </p:nvSpPr>
        <p:spPr>
          <a:xfrm>
            <a:off x="29019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8" name="object 30"/>
          <p:cNvSpPr/>
          <p:nvPr/>
        </p:nvSpPr>
        <p:spPr>
          <a:xfrm>
            <a:off x="29019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09" name="object 31"/>
          <p:cNvSpPr/>
          <p:nvPr/>
        </p:nvSpPr>
        <p:spPr>
          <a:xfrm>
            <a:off x="29019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0" name="object 32"/>
          <p:cNvSpPr/>
          <p:nvPr/>
        </p:nvSpPr>
        <p:spPr>
          <a:xfrm>
            <a:off x="29019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1" name="object 33"/>
          <p:cNvSpPr/>
          <p:nvPr/>
        </p:nvSpPr>
        <p:spPr>
          <a:xfrm>
            <a:off x="331164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2" name="object 34"/>
          <p:cNvSpPr/>
          <p:nvPr/>
        </p:nvSpPr>
        <p:spPr>
          <a:xfrm>
            <a:off x="331164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3" name="object 35"/>
          <p:cNvSpPr/>
          <p:nvPr/>
        </p:nvSpPr>
        <p:spPr>
          <a:xfrm>
            <a:off x="331164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4" name="object 36"/>
          <p:cNvSpPr/>
          <p:nvPr/>
        </p:nvSpPr>
        <p:spPr>
          <a:xfrm>
            <a:off x="331164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5" name="object 37"/>
          <p:cNvSpPr/>
          <p:nvPr/>
        </p:nvSpPr>
        <p:spPr>
          <a:xfrm>
            <a:off x="331164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6" name="object 38"/>
          <p:cNvSpPr/>
          <p:nvPr/>
        </p:nvSpPr>
        <p:spPr>
          <a:xfrm>
            <a:off x="331164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7" name="object 39"/>
          <p:cNvSpPr/>
          <p:nvPr/>
        </p:nvSpPr>
        <p:spPr>
          <a:xfrm>
            <a:off x="3722760" y="1000080"/>
            <a:ext cx="360" cy="5731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8" name="object 40"/>
          <p:cNvSpPr/>
          <p:nvPr/>
        </p:nvSpPr>
        <p:spPr>
          <a:xfrm>
            <a:off x="37227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19" name="object 41"/>
          <p:cNvSpPr/>
          <p:nvPr/>
        </p:nvSpPr>
        <p:spPr>
          <a:xfrm>
            <a:off x="37227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0" name="object 42"/>
          <p:cNvSpPr/>
          <p:nvPr/>
        </p:nvSpPr>
        <p:spPr>
          <a:xfrm>
            <a:off x="3722760" y="2867040"/>
            <a:ext cx="360" cy="5713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1" name="object 43"/>
          <p:cNvSpPr/>
          <p:nvPr/>
        </p:nvSpPr>
        <p:spPr>
          <a:xfrm>
            <a:off x="413244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2" name="object 44"/>
          <p:cNvSpPr/>
          <p:nvPr/>
        </p:nvSpPr>
        <p:spPr>
          <a:xfrm>
            <a:off x="413244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3" name="object 45"/>
          <p:cNvSpPr/>
          <p:nvPr/>
        </p:nvSpPr>
        <p:spPr>
          <a:xfrm>
            <a:off x="413244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4" name="object 46"/>
          <p:cNvSpPr/>
          <p:nvPr/>
        </p:nvSpPr>
        <p:spPr>
          <a:xfrm>
            <a:off x="4132440" y="2379600"/>
            <a:ext cx="360" cy="655560"/>
          </a:xfrm>
          <a:custGeom>
            <a:avLst/>
            <a:gdLst/>
            <a:ahLst/>
            <a:rect l="l" t="t" r="r" b="b"/>
            <a:pathLst>
              <a:path w="0" h="656589">
                <a:moveTo>
                  <a:pt x="0" y="0"/>
                </a:moveTo>
                <a:lnTo>
                  <a:pt x="0" y="65608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5" name="object 47"/>
          <p:cNvSpPr/>
          <p:nvPr/>
        </p:nvSpPr>
        <p:spPr>
          <a:xfrm>
            <a:off x="413244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6" name="object 48"/>
          <p:cNvSpPr/>
          <p:nvPr/>
        </p:nvSpPr>
        <p:spPr>
          <a:xfrm>
            <a:off x="45435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7" name="object 49"/>
          <p:cNvSpPr/>
          <p:nvPr/>
        </p:nvSpPr>
        <p:spPr>
          <a:xfrm>
            <a:off x="4543560" y="1403280"/>
            <a:ext cx="360" cy="657360"/>
          </a:xfrm>
          <a:custGeom>
            <a:avLst/>
            <a:gdLst/>
            <a:ahLst/>
            <a:rect l="l" t="t" r="r" b="b"/>
            <a:pathLst>
              <a:path w="0" h="657225">
                <a:moveTo>
                  <a:pt x="0" y="0"/>
                </a:moveTo>
                <a:lnTo>
                  <a:pt x="0" y="656844"/>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8" name="object 50"/>
          <p:cNvSpPr/>
          <p:nvPr/>
        </p:nvSpPr>
        <p:spPr>
          <a:xfrm>
            <a:off x="45435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29" name="object 51"/>
          <p:cNvSpPr/>
          <p:nvPr/>
        </p:nvSpPr>
        <p:spPr>
          <a:xfrm>
            <a:off x="45435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0" name="object 52"/>
          <p:cNvSpPr/>
          <p:nvPr/>
        </p:nvSpPr>
        <p:spPr>
          <a:xfrm>
            <a:off x="45435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1" name="object 53"/>
          <p:cNvSpPr/>
          <p:nvPr/>
        </p:nvSpPr>
        <p:spPr>
          <a:xfrm>
            <a:off x="49528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2" name="object 54"/>
          <p:cNvSpPr/>
          <p:nvPr/>
        </p:nvSpPr>
        <p:spPr>
          <a:xfrm>
            <a:off x="49528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3" name="object 55"/>
          <p:cNvSpPr/>
          <p:nvPr/>
        </p:nvSpPr>
        <p:spPr>
          <a:xfrm>
            <a:off x="49528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4" name="object 56"/>
          <p:cNvSpPr/>
          <p:nvPr/>
        </p:nvSpPr>
        <p:spPr>
          <a:xfrm>
            <a:off x="49528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5" name="object 57"/>
          <p:cNvSpPr/>
          <p:nvPr/>
        </p:nvSpPr>
        <p:spPr>
          <a:xfrm>
            <a:off x="49528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6" name="object 58"/>
          <p:cNvSpPr/>
          <p:nvPr/>
        </p:nvSpPr>
        <p:spPr>
          <a:xfrm>
            <a:off x="49528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7" name="object 59"/>
          <p:cNvSpPr/>
          <p:nvPr/>
        </p:nvSpPr>
        <p:spPr>
          <a:xfrm>
            <a:off x="53625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8" name="object 60"/>
          <p:cNvSpPr/>
          <p:nvPr/>
        </p:nvSpPr>
        <p:spPr>
          <a:xfrm>
            <a:off x="53625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39" name="object 61"/>
          <p:cNvSpPr/>
          <p:nvPr/>
        </p:nvSpPr>
        <p:spPr>
          <a:xfrm>
            <a:off x="53625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0" name="object 62"/>
          <p:cNvSpPr/>
          <p:nvPr/>
        </p:nvSpPr>
        <p:spPr>
          <a:xfrm>
            <a:off x="53625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1" name="object 63"/>
          <p:cNvSpPr/>
          <p:nvPr/>
        </p:nvSpPr>
        <p:spPr>
          <a:xfrm>
            <a:off x="53625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2" name="object 64"/>
          <p:cNvSpPr/>
          <p:nvPr/>
        </p:nvSpPr>
        <p:spPr>
          <a:xfrm>
            <a:off x="53625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3" name="object 65"/>
          <p:cNvSpPr/>
          <p:nvPr/>
        </p:nvSpPr>
        <p:spPr>
          <a:xfrm>
            <a:off x="57736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4" name="object 66"/>
          <p:cNvSpPr/>
          <p:nvPr/>
        </p:nvSpPr>
        <p:spPr>
          <a:xfrm>
            <a:off x="57736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5" name="object 67"/>
          <p:cNvSpPr/>
          <p:nvPr/>
        </p:nvSpPr>
        <p:spPr>
          <a:xfrm>
            <a:off x="57736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6" name="object 68"/>
          <p:cNvSpPr/>
          <p:nvPr/>
        </p:nvSpPr>
        <p:spPr>
          <a:xfrm>
            <a:off x="57736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7" name="object 69"/>
          <p:cNvSpPr/>
          <p:nvPr/>
        </p:nvSpPr>
        <p:spPr>
          <a:xfrm>
            <a:off x="57736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8" name="object 70"/>
          <p:cNvSpPr/>
          <p:nvPr/>
        </p:nvSpPr>
        <p:spPr>
          <a:xfrm>
            <a:off x="57736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49" name="object 71"/>
          <p:cNvSpPr/>
          <p:nvPr/>
        </p:nvSpPr>
        <p:spPr>
          <a:xfrm>
            <a:off x="61833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0" name="object 72"/>
          <p:cNvSpPr/>
          <p:nvPr/>
        </p:nvSpPr>
        <p:spPr>
          <a:xfrm>
            <a:off x="6183360" y="1403280"/>
            <a:ext cx="360" cy="657360"/>
          </a:xfrm>
          <a:custGeom>
            <a:avLst/>
            <a:gdLst/>
            <a:ahLst/>
            <a:rect l="l" t="t" r="r" b="b"/>
            <a:pathLst>
              <a:path w="0" h="657225">
                <a:moveTo>
                  <a:pt x="0" y="0"/>
                </a:moveTo>
                <a:lnTo>
                  <a:pt x="0" y="656844"/>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1" name="object 73"/>
          <p:cNvSpPr/>
          <p:nvPr/>
        </p:nvSpPr>
        <p:spPr>
          <a:xfrm>
            <a:off x="61833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2" name="object 74"/>
          <p:cNvSpPr/>
          <p:nvPr/>
        </p:nvSpPr>
        <p:spPr>
          <a:xfrm>
            <a:off x="61833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3" name="object 75"/>
          <p:cNvSpPr/>
          <p:nvPr/>
        </p:nvSpPr>
        <p:spPr>
          <a:xfrm>
            <a:off x="61833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4" name="object 76"/>
          <p:cNvSpPr/>
          <p:nvPr/>
        </p:nvSpPr>
        <p:spPr>
          <a:xfrm>
            <a:off x="6594480" y="1000080"/>
            <a:ext cx="360" cy="5731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5" name="object 77"/>
          <p:cNvSpPr/>
          <p:nvPr/>
        </p:nvSpPr>
        <p:spPr>
          <a:xfrm>
            <a:off x="65944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6" name="object 78"/>
          <p:cNvSpPr/>
          <p:nvPr/>
        </p:nvSpPr>
        <p:spPr>
          <a:xfrm>
            <a:off x="6594480" y="2379600"/>
            <a:ext cx="360" cy="1058760"/>
          </a:xfrm>
          <a:custGeom>
            <a:avLst/>
            <a:gdLst/>
            <a:ahLst/>
            <a:rect l="l" t="t" r="r" b="b"/>
            <a:pathLst>
              <a:path w="0" h="1059814">
                <a:moveTo>
                  <a:pt x="0" y="0"/>
                </a:moveTo>
                <a:lnTo>
                  <a:pt x="0" y="105956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7" name="object 79"/>
          <p:cNvSpPr/>
          <p:nvPr/>
        </p:nvSpPr>
        <p:spPr>
          <a:xfrm>
            <a:off x="70041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8" name="object 80"/>
          <p:cNvSpPr/>
          <p:nvPr/>
        </p:nvSpPr>
        <p:spPr>
          <a:xfrm>
            <a:off x="70041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59" name="object 81"/>
          <p:cNvSpPr/>
          <p:nvPr/>
        </p:nvSpPr>
        <p:spPr>
          <a:xfrm>
            <a:off x="70041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0" name="object 82"/>
          <p:cNvSpPr/>
          <p:nvPr/>
        </p:nvSpPr>
        <p:spPr>
          <a:xfrm>
            <a:off x="70041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1" name="object 83"/>
          <p:cNvSpPr/>
          <p:nvPr/>
        </p:nvSpPr>
        <p:spPr>
          <a:xfrm>
            <a:off x="70041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2" name="object 84"/>
          <p:cNvSpPr/>
          <p:nvPr/>
        </p:nvSpPr>
        <p:spPr>
          <a:xfrm>
            <a:off x="70041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3" name="object 85"/>
          <p:cNvSpPr/>
          <p:nvPr/>
        </p:nvSpPr>
        <p:spPr>
          <a:xfrm>
            <a:off x="74134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4" name="object 86"/>
          <p:cNvSpPr/>
          <p:nvPr/>
        </p:nvSpPr>
        <p:spPr>
          <a:xfrm>
            <a:off x="74134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5" name="object 87"/>
          <p:cNvSpPr/>
          <p:nvPr/>
        </p:nvSpPr>
        <p:spPr>
          <a:xfrm>
            <a:off x="74134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6" name="object 88"/>
          <p:cNvSpPr/>
          <p:nvPr/>
        </p:nvSpPr>
        <p:spPr>
          <a:xfrm>
            <a:off x="74134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7" name="object 89"/>
          <p:cNvSpPr/>
          <p:nvPr/>
        </p:nvSpPr>
        <p:spPr>
          <a:xfrm>
            <a:off x="74134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8" name="object 90"/>
          <p:cNvSpPr/>
          <p:nvPr/>
        </p:nvSpPr>
        <p:spPr>
          <a:xfrm>
            <a:off x="74134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69" name="object 91"/>
          <p:cNvSpPr/>
          <p:nvPr/>
        </p:nvSpPr>
        <p:spPr>
          <a:xfrm>
            <a:off x="782496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0" name="object 92"/>
          <p:cNvSpPr/>
          <p:nvPr/>
        </p:nvSpPr>
        <p:spPr>
          <a:xfrm>
            <a:off x="782496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1" name="object 93"/>
          <p:cNvSpPr/>
          <p:nvPr/>
        </p:nvSpPr>
        <p:spPr>
          <a:xfrm>
            <a:off x="78249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2" name="object 94"/>
          <p:cNvSpPr/>
          <p:nvPr/>
        </p:nvSpPr>
        <p:spPr>
          <a:xfrm>
            <a:off x="78249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3" name="object 95"/>
          <p:cNvSpPr/>
          <p:nvPr/>
        </p:nvSpPr>
        <p:spPr>
          <a:xfrm>
            <a:off x="78249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4" name="object 96"/>
          <p:cNvSpPr/>
          <p:nvPr/>
        </p:nvSpPr>
        <p:spPr>
          <a:xfrm>
            <a:off x="78249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5" name="object 97"/>
          <p:cNvSpPr/>
          <p:nvPr/>
        </p:nvSpPr>
        <p:spPr>
          <a:xfrm>
            <a:off x="8234280" y="1000080"/>
            <a:ext cx="360" cy="85680"/>
          </a:xfrm>
          <a:custGeom>
            <a:avLst/>
            <a:gdLst/>
            <a:ahLst/>
            <a:rect l="l" t="t" r="r" b="b"/>
            <a:pathLst>
              <a:path w="0" h="84455">
                <a:moveTo>
                  <a:pt x="0" y="0"/>
                </a:moveTo>
                <a:lnTo>
                  <a:pt x="0" y="8420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6" name="object 98"/>
          <p:cNvSpPr/>
          <p:nvPr/>
        </p:nvSpPr>
        <p:spPr>
          <a:xfrm>
            <a:off x="8234280" y="140328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7" name="object 99"/>
          <p:cNvSpPr/>
          <p:nvPr/>
        </p:nvSpPr>
        <p:spPr>
          <a:xfrm>
            <a:off x="823428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8" name="object 100"/>
          <p:cNvSpPr/>
          <p:nvPr/>
        </p:nvSpPr>
        <p:spPr>
          <a:xfrm>
            <a:off x="823428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79" name="object 101"/>
          <p:cNvSpPr/>
          <p:nvPr/>
        </p:nvSpPr>
        <p:spPr>
          <a:xfrm>
            <a:off x="823428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0" name="object 102"/>
          <p:cNvSpPr/>
          <p:nvPr/>
        </p:nvSpPr>
        <p:spPr>
          <a:xfrm>
            <a:off x="823428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1" name="object 103"/>
          <p:cNvSpPr/>
          <p:nvPr/>
        </p:nvSpPr>
        <p:spPr>
          <a:xfrm>
            <a:off x="8643960" y="1000080"/>
            <a:ext cx="360" cy="573120"/>
          </a:xfrm>
          <a:custGeom>
            <a:avLst/>
            <a:gdLst/>
            <a:ahLst/>
            <a:rect l="l" t="t" r="r" b="b"/>
            <a:pathLst>
              <a:path w="0" h="572135">
                <a:moveTo>
                  <a:pt x="0" y="0"/>
                </a:moveTo>
                <a:lnTo>
                  <a:pt x="0" y="57188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2" name="object 104"/>
          <p:cNvSpPr/>
          <p:nvPr/>
        </p:nvSpPr>
        <p:spPr>
          <a:xfrm>
            <a:off x="8643960" y="1890720"/>
            <a:ext cx="360" cy="169920"/>
          </a:xfrm>
          <a:custGeom>
            <a:avLst/>
            <a:gdLst/>
            <a:ahLst/>
            <a:rect l="l" t="t" r="r" b="b"/>
            <a:pathLst>
              <a:path w="0" h="169544">
                <a:moveTo>
                  <a:pt x="0" y="0"/>
                </a:moveTo>
                <a:lnTo>
                  <a:pt x="0" y="169163"/>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3" name="object 105"/>
          <p:cNvSpPr/>
          <p:nvPr/>
        </p:nvSpPr>
        <p:spPr>
          <a:xfrm>
            <a:off x="8643960" y="2379600"/>
            <a:ext cx="360" cy="16848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4" name="object 106"/>
          <p:cNvSpPr/>
          <p:nvPr/>
        </p:nvSpPr>
        <p:spPr>
          <a:xfrm>
            <a:off x="8643960" y="2867040"/>
            <a:ext cx="360" cy="168120"/>
          </a:xfrm>
          <a:custGeom>
            <a:avLst/>
            <a:gdLst/>
            <a:ahLst/>
            <a:rect l="l" t="t" r="r" b="b"/>
            <a:pathLst>
              <a:path w="0" h="168910">
                <a:moveTo>
                  <a:pt x="0" y="0"/>
                </a:moveTo>
                <a:lnTo>
                  <a:pt x="0" y="168401"/>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5" name="object 107"/>
          <p:cNvSpPr/>
          <p:nvPr/>
        </p:nvSpPr>
        <p:spPr>
          <a:xfrm>
            <a:off x="8643960" y="3352680"/>
            <a:ext cx="360" cy="85680"/>
          </a:xfrm>
          <a:custGeom>
            <a:avLst/>
            <a:gdLst/>
            <a:ahLst/>
            <a:rect l="l" t="t" r="r" b="b"/>
            <a:pathLst>
              <a:path w="0" h="85089">
                <a:moveTo>
                  <a:pt x="0" y="0"/>
                </a:moveTo>
                <a:lnTo>
                  <a:pt x="0" y="84962"/>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6" name="object 108"/>
          <p:cNvSpPr/>
          <p:nvPr/>
        </p:nvSpPr>
        <p:spPr>
          <a:xfrm>
            <a:off x="851040" y="3035160"/>
            <a:ext cx="2871720" cy="319320"/>
          </a:xfrm>
          <a:custGeom>
            <a:avLst/>
            <a:gdLst/>
            <a:ahLst/>
            <a:rect l="l" t="t" r="r" b="b"/>
            <a:pathLst>
              <a:path w="2871470" h="318770">
                <a:moveTo>
                  <a:pt x="2871216" y="0"/>
                </a:moveTo>
                <a:lnTo>
                  <a:pt x="0" y="0"/>
                </a:lnTo>
                <a:lnTo>
                  <a:pt x="0" y="318515"/>
                </a:lnTo>
                <a:lnTo>
                  <a:pt x="2871216" y="318515"/>
                </a:lnTo>
                <a:lnTo>
                  <a:pt x="2871216"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7" name="object 109"/>
          <p:cNvSpPr/>
          <p:nvPr/>
        </p:nvSpPr>
        <p:spPr>
          <a:xfrm>
            <a:off x="851040" y="2548080"/>
            <a:ext cx="3281400" cy="318960"/>
          </a:xfrm>
          <a:custGeom>
            <a:avLst/>
            <a:gdLst/>
            <a:ahLst/>
            <a:rect l="l" t="t" r="r" b="b"/>
            <a:pathLst>
              <a:path w="3281679" h="319405">
                <a:moveTo>
                  <a:pt x="3281172" y="0"/>
                </a:moveTo>
                <a:lnTo>
                  <a:pt x="0" y="0"/>
                </a:lnTo>
                <a:lnTo>
                  <a:pt x="0" y="319278"/>
                </a:lnTo>
                <a:lnTo>
                  <a:pt x="3281172" y="319278"/>
                </a:lnTo>
                <a:lnTo>
                  <a:pt x="3281172"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8" name="object 110"/>
          <p:cNvSpPr/>
          <p:nvPr/>
        </p:nvSpPr>
        <p:spPr>
          <a:xfrm>
            <a:off x="851040" y="2060640"/>
            <a:ext cx="820440" cy="318960"/>
          </a:xfrm>
          <a:custGeom>
            <a:avLst/>
            <a:gdLst/>
            <a:ahLst/>
            <a:rect l="l" t="t" r="r" b="b"/>
            <a:pathLst>
              <a:path w="821055" h="318769">
                <a:moveTo>
                  <a:pt x="820673" y="0"/>
                </a:moveTo>
                <a:lnTo>
                  <a:pt x="0" y="0"/>
                </a:lnTo>
                <a:lnTo>
                  <a:pt x="0" y="318515"/>
                </a:lnTo>
                <a:lnTo>
                  <a:pt x="820673" y="318515"/>
                </a:lnTo>
                <a:lnTo>
                  <a:pt x="820673"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89" name="object 111"/>
          <p:cNvSpPr/>
          <p:nvPr/>
        </p:nvSpPr>
        <p:spPr>
          <a:xfrm>
            <a:off x="851040" y="1573200"/>
            <a:ext cx="3692520" cy="318960"/>
          </a:xfrm>
          <a:custGeom>
            <a:avLst/>
            <a:gdLst/>
            <a:ahLst/>
            <a:rect l="l" t="t" r="r" b="b"/>
            <a:pathLst>
              <a:path w="3691890" h="318769">
                <a:moveTo>
                  <a:pt x="3691890" y="0"/>
                </a:moveTo>
                <a:lnTo>
                  <a:pt x="0" y="0"/>
                </a:lnTo>
                <a:lnTo>
                  <a:pt x="0" y="318516"/>
                </a:lnTo>
                <a:lnTo>
                  <a:pt x="3691890" y="318516"/>
                </a:lnTo>
                <a:lnTo>
                  <a:pt x="3691890"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0" name="object 112"/>
          <p:cNvSpPr/>
          <p:nvPr/>
        </p:nvSpPr>
        <p:spPr>
          <a:xfrm>
            <a:off x="851040" y="1085760"/>
            <a:ext cx="2871720" cy="317520"/>
          </a:xfrm>
          <a:custGeom>
            <a:avLst/>
            <a:gdLst/>
            <a:ahLst/>
            <a:rect l="l" t="t" r="r" b="b"/>
            <a:pathLst>
              <a:path w="2871470" h="318769">
                <a:moveTo>
                  <a:pt x="2871216" y="0"/>
                </a:moveTo>
                <a:lnTo>
                  <a:pt x="0" y="0"/>
                </a:lnTo>
                <a:lnTo>
                  <a:pt x="0" y="318515"/>
                </a:lnTo>
                <a:lnTo>
                  <a:pt x="2871216" y="318515"/>
                </a:lnTo>
                <a:lnTo>
                  <a:pt x="2871216" y="0"/>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1" name="object 113"/>
          <p:cNvSpPr/>
          <p:nvPr/>
        </p:nvSpPr>
        <p:spPr>
          <a:xfrm>
            <a:off x="3722760" y="3035160"/>
            <a:ext cx="2871720" cy="319320"/>
          </a:xfrm>
          <a:custGeom>
            <a:avLst/>
            <a:gdLst/>
            <a:ahLst/>
            <a:rect l="l" t="t" r="r" b="b"/>
            <a:pathLst>
              <a:path w="2871470" h="318770">
                <a:moveTo>
                  <a:pt x="2871215" y="0"/>
                </a:moveTo>
                <a:lnTo>
                  <a:pt x="0" y="0"/>
                </a:lnTo>
                <a:lnTo>
                  <a:pt x="0" y="318515"/>
                </a:lnTo>
                <a:lnTo>
                  <a:pt x="2871215" y="318515"/>
                </a:lnTo>
                <a:lnTo>
                  <a:pt x="2871215"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2" name="object 114"/>
          <p:cNvSpPr/>
          <p:nvPr/>
        </p:nvSpPr>
        <p:spPr>
          <a:xfrm>
            <a:off x="4132440" y="2548080"/>
            <a:ext cx="2460600" cy="318960"/>
          </a:xfrm>
          <a:custGeom>
            <a:avLst/>
            <a:gdLst/>
            <a:ahLst/>
            <a:rect l="l" t="t" r="r" b="b"/>
            <a:pathLst>
              <a:path w="2461259" h="319405">
                <a:moveTo>
                  <a:pt x="2461259" y="0"/>
                </a:moveTo>
                <a:lnTo>
                  <a:pt x="0" y="0"/>
                </a:lnTo>
                <a:lnTo>
                  <a:pt x="0" y="319278"/>
                </a:lnTo>
                <a:lnTo>
                  <a:pt x="2461259" y="319278"/>
                </a:lnTo>
                <a:lnTo>
                  <a:pt x="2461259"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3" name="object 115"/>
          <p:cNvSpPr/>
          <p:nvPr/>
        </p:nvSpPr>
        <p:spPr>
          <a:xfrm>
            <a:off x="1671480" y="2060640"/>
            <a:ext cx="4716720" cy="318960"/>
          </a:xfrm>
          <a:custGeom>
            <a:avLst/>
            <a:gdLst/>
            <a:ahLst/>
            <a:rect l="l" t="t" r="r" b="b"/>
            <a:pathLst>
              <a:path w="4716780" h="318769">
                <a:moveTo>
                  <a:pt x="4716780" y="0"/>
                </a:moveTo>
                <a:lnTo>
                  <a:pt x="0" y="0"/>
                </a:lnTo>
                <a:lnTo>
                  <a:pt x="0" y="318515"/>
                </a:lnTo>
                <a:lnTo>
                  <a:pt x="4716780" y="318515"/>
                </a:lnTo>
                <a:lnTo>
                  <a:pt x="4716780"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4" name="object 116"/>
          <p:cNvSpPr/>
          <p:nvPr/>
        </p:nvSpPr>
        <p:spPr>
          <a:xfrm>
            <a:off x="4543560" y="1573200"/>
            <a:ext cx="1639800" cy="318960"/>
          </a:xfrm>
          <a:custGeom>
            <a:avLst/>
            <a:gdLst/>
            <a:ahLst/>
            <a:rect l="l" t="t" r="r" b="b"/>
            <a:pathLst>
              <a:path w="1640839" h="318769">
                <a:moveTo>
                  <a:pt x="1640585" y="0"/>
                </a:moveTo>
                <a:lnTo>
                  <a:pt x="0" y="0"/>
                </a:lnTo>
                <a:lnTo>
                  <a:pt x="0" y="318516"/>
                </a:lnTo>
                <a:lnTo>
                  <a:pt x="1640585" y="318516"/>
                </a:lnTo>
                <a:lnTo>
                  <a:pt x="1640585"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5" name="object 117"/>
          <p:cNvSpPr/>
          <p:nvPr/>
        </p:nvSpPr>
        <p:spPr>
          <a:xfrm>
            <a:off x="3722760" y="1085760"/>
            <a:ext cx="2871720" cy="317520"/>
          </a:xfrm>
          <a:custGeom>
            <a:avLst/>
            <a:gdLst/>
            <a:ahLst/>
            <a:rect l="l" t="t" r="r" b="b"/>
            <a:pathLst>
              <a:path w="2871470" h="318769">
                <a:moveTo>
                  <a:pt x="2871215" y="0"/>
                </a:moveTo>
                <a:lnTo>
                  <a:pt x="0" y="0"/>
                </a:lnTo>
                <a:lnTo>
                  <a:pt x="0" y="318515"/>
                </a:lnTo>
                <a:lnTo>
                  <a:pt x="2871215" y="318515"/>
                </a:lnTo>
                <a:lnTo>
                  <a:pt x="2871215" y="0"/>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6" name="object 118"/>
          <p:cNvSpPr/>
          <p:nvPr/>
        </p:nvSpPr>
        <p:spPr>
          <a:xfrm>
            <a:off x="6593040" y="1085760"/>
            <a:ext cx="2052360" cy="317520"/>
          </a:xfrm>
          <a:custGeom>
            <a:avLst/>
            <a:gdLst/>
            <a:ahLst/>
            <a:rect l="l" t="t" r="r" b="b"/>
            <a:pathLst>
              <a:path w="2051684" h="318769">
                <a:moveTo>
                  <a:pt x="0" y="318515"/>
                </a:moveTo>
                <a:lnTo>
                  <a:pt x="2051303" y="318515"/>
                </a:lnTo>
                <a:lnTo>
                  <a:pt x="2051303" y="0"/>
                </a:lnTo>
                <a:lnTo>
                  <a:pt x="0" y="0"/>
                </a:lnTo>
                <a:lnTo>
                  <a:pt x="0" y="318515"/>
                </a:lnTo>
                <a:close/>
              </a:path>
            </a:pathLst>
          </a:custGeom>
          <a:solidFill>
            <a:srgbClr val="a4a4a4"/>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7" name="object 119"/>
          <p:cNvSpPr/>
          <p:nvPr/>
        </p:nvSpPr>
        <p:spPr>
          <a:xfrm>
            <a:off x="8645400" y="1085760"/>
            <a:ext cx="214560" cy="317520"/>
          </a:xfrm>
          <a:custGeom>
            <a:avLst/>
            <a:gdLst/>
            <a:ahLst/>
            <a:rect l="l" t="t" r="r" b="b"/>
            <a:pathLst>
              <a:path w="214629" h="318769">
                <a:moveTo>
                  <a:pt x="0" y="318515"/>
                </a:moveTo>
                <a:lnTo>
                  <a:pt x="214122" y="318515"/>
                </a:lnTo>
                <a:lnTo>
                  <a:pt x="214122" y="0"/>
                </a:lnTo>
                <a:lnTo>
                  <a:pt x="0" y="0"/>
                </a:lnTo>
                <a:lnTo>
                  <a:pt x="0" y="318515"/>
                </a:lnTo>
                <a:close/>
              </a:path>
            </a:pathLst>
          </a:custGeom>
          <a:solidFill>
            <a:srgbClr val="d09e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8" name="object 120"/>
          <p:cNvSpPr/>
          <p:nvPr/>
        </p:nvSpPr>
        <p:spPr>
          <a:xfrm>
            <a:off x="6593040" y="3035160"/>
            <a:ext cx="2266920" cy="319320"/>
          </a:xfrm>
          <a:custGeom>
            <a:avLst/>
            <a:gdLst/>
            <a:ahLst/>
            <a:rect l="l" t="t" r="r" b="b"/>
            <a:pathLst>
              <a:path w="2265679" h="318770">
                <a:moveTo>
                  <a:pt x="2265426" y="0"/>
                </a:moveTo>
                <a:lnTo>
                  <a:pt x="0" y="0"/>
                </a:lnTo>
                <a:lnTo>
                  <a:pt x="0" y="318515"/>
                </a:lnTo>
                <a:lnTo>
                  <a:pt x="2265426" y="318515"/>
                </a:lnTo>
                <a:lnTo>
                  <a:pt x="2265426"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299" name="object 121"/>
          <p:cNvSpPr/>
          <p:nvPr/>
        </p:nvSpPr>
        <p:spPr>
          <a:xfrm>
            <a:off x="6593040" y="2548080"/>
            <a:ext cx="2266920" cy="318960"/>
          </a:xfrm>
          <a:custGeom>
            <a:avLst/>
            <a:gdLst/>
            <a:ahLst/>
            <a:rect l="l" t="t" r="r" b="b"/>
            <a:pathLst>
              <a:path w="2265679" h="319405">
                <a:moveTo>
                  <a:pt x="2265426" y="0"/>
                </a:moveTo>
                <a:lnTo>
                  <a:pt x="0" y="0"/>
                </a:lnTo>
                <a:lnTo>
                  <a:pt x="0" y="319278"/>
                </a:lnTo>
                <a:lnTo>
                  <a:pt x="2265426" y="319278"/>
                </a:lnTo>
                <a:lnTo>
                  <a:pt x="2265426"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0" name="object 122"/>
          <p:cNvSpPr/>
          <p:nvPr/>
        </p:nvSpPr>
        <p:spPr>
          <a:xfrm>
            <a:off x="6388200" y="2060640"/>
            <a:ext cx="2471760" cy="318960"/>
          </a:xfrm>
          <a:custGeom>
            <a:avLst/>
            <a:gdLst/>
            <a:ahLst/>
            <a:rect l="l" t="t" r="r" b="b"/>
            <a:pathLst>
              <a:path w="2470784" h="318769">
                <a:moveTo>
                  <a:pt x="2470404" y="0"/>
                </a:moveTo>
                <a:lnTo>
                  <a:pt x="0" y="0"/>
                </a:lnTo>
                <a:lnTo>
                  <a:pt x="0" y="318515"/>
                </a:lnTo>
                <a:lnTo>
                  <a:pt x="2470404" y="318515"/>
                </a:lnTo>
                <a:lnTo>
                  <a:pt x="2470404"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1" name="object 123"/>
          <p:cNvSpPr/>
          <p:nvPr/>
        </p:nvSpPr>
        <p:spPr>
          <a:xfrm>
            <a:off x="6183360" y="1573200"/>
            <a:ext cx="2676600" cy="318960"/>
          </a:xfrm>
          <a:custGeom>
            <a:avLst/>
            <a:gdLst/>
            <a:ahLst/>
            <a:rect l="l" t="t" r="r" b="b"/>
            <a:pathLst>
              <a:path w="2675890" h="318769">
                <a:moveTo>
                  <a:pt x="2675382" y="0"/>
                </a:moveTo>
                <a:lnTo>
                  <a:pt x="0" y="0"/>
                </a:lnTo>
                <a:lnTo>
                  <a:pt x="0" y="318516"/>
                </a:lnTo>
                <a:lnTo>
                  <a:pt x="2675382" y="318516"/>
                </a:lnTo>
                <a:lnTo>
                  <a:pt x="2675382" y="0"/>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2" name="object 124"/>
          <p:cNvSpPr/>
          <p:nvPr/>
        </p:nvSpPr>
        <p:spPr>
          <a:xfrm>
            <a:off x="851040" y="1000080"/>
            <a:ext cx="360" cy="2438280"/>
          </a:xfrm>
          <a:custGeom>
            <a:avLst/>
            <a:gdLst/>
            <a:ahLst/>
            <a:rect l="l" t="t" r="r" b="b"/>
            <a:pathLst>
              <a:path w="0" h="2437765">
                <a:moveTo>
                  <a:pt x="0" y="2437638"/>
                </a:moveTo>
                <a:lnTo>
                  <a:pt x="0"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3" name="object 125"/>
          <p:cNvSpPr/>
          <p:nvPr/>
        </p:nvSpPr>
        <p:spPr>
          <a:xfrm>
            <a:off x="696960" y="3565440"/>
            <a:ext cx="718920" cy="144720"/>
          </a:xfrm>
          <a:prstGeom prst="rect">
            <a:avLst/>
          </a:prstGeom>
          <a:noFill/>
          <a:ln w="0">
            <a:noFill/>
          </a:ln>
        </p:spPr>
        <p:style>
          <a:lnRef idx="0"/>
          <a:fillRef idx="0"/>
          <a:effectRef idx="0"/>
          <a:fontRef idx="minor"/>
        </p:style>
        <p:txBody>
          <a:bodyPr lIns="0" rIns="0" tIns="0" bIns="0" anchor="t">
            <a:spAutoFit/>
          </a:bodyPr>
          <a:p>
            <a:pPr>
              <a:lnSpc>
                <a:spcPts val="11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1978 1980</a:t>
            </a:r>
            <a:endParaRPr b="0" lang="en-US" sz="1200" spc="-1" strike="noStrike">
              <a:solidFill>
                <a:srgbClr val="003366"/>
              </a:solidFill>
              <a:latin typeface="Arial"/>
            </a:endParaRPr>
          </a:p>
        </p:txBody>
      </p:sp>
      <p:sp>
        <p:nvSpPr>
          <p:cNvPr id="304" name="object 126"/>
          <p:cNvSpPr/>
          <p:nvPr/>
        </p:nvSpPr>
        <p:spPr>
          <a:xfrm>
            <a:off x="1693800" y="3908520"/>
            <a:ext cx="112680" cy="112680"/>
          </a:xfrm>
          <a:custGeom>
            <a:avLst/>
            <a:gdLst/>
            <a:ahLst/>
            <a:rect l="l" t="t" r="r" b="b"/>
            <a:pathLst>
              <a:path w="112394" h="112395">
                <a:moveTo>
                  <a:pt x="0" y="112013"/>
                </a:moveTo>
                <a:lnTo>
                  <a:pt x="112013" y="112013"/>
                </a:lnTo>
                <a:lnTo>
                  <a:pt x="112013" y="0"/>
                </a:lnTo>
                <a:lnTo>
                  <a:pt x="0" y="0"/>
                </a:lnTo>
                <a:lnTo>
                  <a:pt x="0" y="112013"/>
                </a:lnTo>
                <a:close/>
              </a:path>
            </a:pathLst>
          </a:custGeom>
          <a:solidFill>
            <a:srgbClr val="ff5d6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5" name="object 127"/>
          <p:cNvSpPr/>
          <p:nvPr/>
        </p:nvSpPr>
        <p:spPr>
          <a:xfrm>
            <a:off x="1693800" y="4230720"/>
            <a:ext cx="112680" cy="111240"/>
          </a:xfrm>
          <a:custGeom>
            <a:avLst/>
            <a:gdLst/>
            <a:ahLst/>
            <a:rect l="l" t="t" r="r" b="b"/>
            <a:pathLst>
              <a:path w="112394" h="111760">
                <a:moveTo>
                  <a:pt x="0" y="111251"/>
                </a:moveTo>
                <a:lnTo>
                  <a:pt x="112013" y="111251"/>
                </a:lnTo>
                <a:lnTo>
                  <a:pt x="112013" y="0"/>
                </a:lnTo>
                <a:lnTo>
                  <a:pt x="0" y="0"/>
                </a:lnTo>
                <a:lnTo>
                  <a:pt x="0" y="111251"/>
                </a:lnTo>
                <a:close/>
              </a:path>
            </a:pathLst>
          </a:custGeom>
          <a:solidFill>
            <a:srgbClr val="ec7c3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6" name="object 128"/>
          <p:cNvSpPr/>
          <p:nvPr/>
        </p:nvSpPr>
        <p:spPr>
          <a:xfrm>
            <a:off x="1693800" y="4552920"/>
            <a:ext cx="112680" cy="111240"/>
          </a:xfrm>
          <a:custGeom>
            <a:avLst/>
            <a:gdLst/>
            <a:ahLst/>
            <a:rect l="l" t="t" r="r" b="b"/>
            <a:pathLst>
              <a:path w="112394" h="111760">
                <a:moveTo>
                  <a:pt x="0" y="111251"/>
                </a:moveTo>
                <a:lnTo>
                  <a:pt x="112013" y="111251"/>
                </a:lnTo>
                <a:lnTo>
                  <a:pt x="112013" y="0"/>
                </a:lnTo>
                <a:lnTo>
                  <a:pt x="0" y="0"/>
                </a:lnTo>
                <a:lnTo>
                  <a:pt x="0" y="111251"/>
                </a:lnTo>
                <a:close/>
              </a:path>
            </a:pathLst>
          </a:custGeom>
          <a:solidFill>
            <a:srgbClr val="ffc000"/>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7" name="object 129"/>
          <p:cNvSpPr/>
          <p:nvPr/>
        </p:nvSpPr>
        <p:spPr>
          <a:xfrm>
            <a:off x="552600" y="3567240"/>
            <a:ext cx="914400" cy="223560"/>
          </a:xfrm>
          <a:custGeom>
            <a:avLst/>
            <a:gdLst/>
            <a:ahLst/>
            <a:rect l="l" t="t" r="r" b="b"/>
            <a:pathLst>
              <a:path w="914400" h="222885">
                <a:moveTo>
                  <a:pt x="0" y="222503"/>
                </a:moveTo>
                <a:lnTo>
                  <a:pt x="914400" y="222503"/>
                </a:lnTo>
                <a:lnTo>
                  <a:pt x="914400" y="0"/>
                </a:lnTo>
                <a:lnTo>
                  <a:pt x="0" y="0"/>
                </a:lnTo>
                <a:lnTo>
                  <a:pt x="0" y="222503"/>
                </a:lnTo>
                <a:close/>
              </a:path>
            </a:pathLst>
          </a:cu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3366"/>
              </a:solidFill>
              <a:latin typeface="Arial"/>
            </a:endParaRPr>
          </a:p>
        </p:txBody>
      </p:sp>
      <p:sp>
        <p:nvSpPr>
          <p:cNvPr id="308" name="object 130"/>
          <p:cNvSpPr/>
          <p:nvPr/>
        </p:nvSpPr>
        <p:spPr>
          <a:xfrm>
            <a:off x="117360" y="1085760"/>
            <a:ext cx="8775720" cy="2848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Argentina</a:t>
            </a:r>
            <a:endParaRPr b="0" lang="en-US" sz="1200" spc="-1" strike="noStrike">
              <a:solidFill>
                <a:srgbClr val="003366"/>
              </a:solidFill>
              <a:latin typeface="Arial"/>
            </a:endParaRPr>
          </a:p>
          <a:p>
            <a:pPr marL="12600" algn="r">
              <a:lnSpc>
                <a:spcPct val="2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Brazil  Chile  Colombia</a:t>
            </a:r>
            <a:endParaRPr b="0" lang="en-US" sz="1200" spc="-1" strike="noStrike">
              <a:solidFill>
                <a:srgbClr val="003366"/>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12600" algn="r">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Peru</a:t>
            </a:r>
            <a:endParaRPr b="0" lang="en-US" sz="12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8"/>
                </a:solidFill>
                <a:latin typeface="Calibri"/>
                <a:ea typeface="Calibri"/>
              </a:rPr>
              <a:t>1982 1984 1986 1988 1990 1992 1994 1996 1998 2000 2002 2004 2006 2008 2010 2012 2014 2016</a:t>
            </a:r>
            <a:endParaRPr b="0" lang="en-US" sz="1200" spc="-1" strike="noStrike">
              <a:solidFill>
                <a:srgbClr val="003366"/>
              </a:solidFill>
              <a:latin typeface="Arial"/>
            </a:endParaRPr>
          </a:p>
          <a:p>
            <a:pPr marL="12600">
              <a:lnSpc>
                <a:spcPct val="13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8"/>
                </a:solidFill>
                <a:latin typeface="Calibri"/>
                <a:ea typeface="Calibri"/>
              </a:rPr>
              <a:t>Vertically-integrated monopoly under cost-of-service  First wave: liberalization and marginalism</a:t>
            </a:r>
            <a:endParaRPr b="0" lang="en-US" sz="1600" spc="-1" strike="noStrike">
              <a:solidFill>
                <a:srgbClr val="003366"/>
              </a:solidFill>
              <a:latin typeface="Arial"/>
            </a:endParaRPr>
          </a:p>
          <a:p>
            <a:pPr marL="1260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8"/>
                </a:solidFill>
                <a:latin typeface="Calibri"/>
                <a:ea typeface="Calibri"/>
              </a:rPr>
              <a:t>Second wave: strenghening planning and competition for the market</a:t>
            </a:r>
            <a:endParaRPr b="0" lang="en-US" sz="1600" spc="-1" strike="noStrike">
              <a:solidFill>
                <a:srgbClr val="003366"/>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9274"/>
                </a:solidFill>
                <a:latin typeface="Arial"/>
                <a:ea typeface="Arial"/>
              </a:rPr>
              <a:t>	</a:t>
            </a:r>
            <a:endParaRPr b="0" lang="en-US" sz="1600" spc="-1" strike="noStrike">
              <a:solidFill>
                <a:srgbClr val="003366"/>
              </a:solidFill>
              <a:latin typeface="Arial"/>
            </a:endParaRPr>
          </a:p>
        </p:txBody>
      </p:sp>
      <p:sp>
        <p:nvSpPr>
          <p:cNvPr id="309" name="object 131"/>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45CC-3EDD-4BEE-960E-3BA8E4B509A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149400"/>
            <a:ext cx="1311480" cy="512640"/>
          </a:xfrm>
          <a:prstGeom prst="rect">
            <a:avLst/>
          </a:prstGeom>
          <a:noFill/>
          <a:ln w="0">
            <a:noFill/>
          </a:ln>
        </p:spPr>
        <p:txBody>
          <a:bodyPr lIns="0" rIns="0" tIns="12240" bIns="0" anchor="b">
            <a:noAutofit/>
          </a:bodyPr>
          <a:p>
            <a:pPr marL="1260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utline</a:t>
            </a:r>
            <a:endParaRPr b="1" lang="en-US" sz="2400" spc="-1" strike="noStrike">
              <a:solidFill>
                <a:srgbClr val="cc0000"/>
              </a:solidFill>
              <a:latin typeface="Arial"/>
            </a:endParaRPr>
          </a:p>
        </p:txBody>
      </p:sp>
      <p:sp>
        <p:nvSpPr>
          <p:cNvPr id="311" name="object 4"/>
          <p:cNvSpPr/>
          <p:nvPr/>
        </p:nvSpPr>
        <p:spPr>
          <a:xfrm>
            <a:off x="0" y="0"/>
            <a:ext cx="360" cy="181080"/>
          </a:xfrm>
          <a:prstGeom prst="rect">
            <a:avLst/>
          </a:prstGeom>
          <a:noFill/>
          <a:ln w="0">
            <a:noFill/>
          </a:ln>
        </p:spPr>
        <p:style>
          <a:lnRef idx="0"/>
          <a:fillRef idx="0"/>
          <a:effectRef idx="0"/>
          <a:fontRef idx="minor"/>
        </p:style>
        <p:txBody>
          <a:bodyPr lIns="0" rIns="0" tIns="0" bIns="0" anchor="t">
            <a:spAutoFit/>
          </a:bodyPr>
          <a:p>
            <a:pPr marL="255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AE26-3399-4F73-A1A7-B905DF1D7D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2" name="object 3"/>
          <p:cNvSpPr/>
          <p:nvPr/>
        </p:nvSpPr>
        <p:spPr>
          <a:xfrm>
            <a:off x="609480" y="1219320"/>
            <a:ext cx="8048880" cy="239400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Background: attracting capital to infrastructure sectors in emerging countrie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bebebe"/>
                </a:solidFill>
                <a:latin typeface="Arial"/>
                <a:ea typeface="Arial"/>
              </a:rPr>
              <a:t>Phase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 </a:t>
            </a:r>
            <a:r>
              <a:rPr b="0" lang="en-US" sz="2200" spc="-1" strike="noStrike">
                <a:solidFill>
                  <a:srgbClr val="042745"/>
                </a:solidFill>
                <a:latin typeface="Arial"/>
                <a:ea typeface="Arial"/>
              </a:rPr>
              <a:t>Common elements in reforms</a:t>
            </a:r>
            <a:endParaRPr b="0" lang="en-US" sz="2200" spc="-1" strike="noStrike">
              <a:solidFill>
                <a:srgbClr val="003366"/>
              </a:solidFill>
              <a:latin typeface="Arial"/>
            </a:endParaRPr>
          </a:p>
          <a:p>
            <a:pPr marL="12600">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9274"/>
                </a:solidFill>
                <a:latin typeface="Arial"/>
                <a:ea typeface="Arial"/>
              </a:rPr>
              <a:t>►</a:t>
            </a:r>
            <a:r>
              <a:rPr b="0" lang="en-US" sz="2200" spc="-1" strike="noStrike">
                <a:solidFill>
                  <a:srgbClr val="bebebe"/>
                </a:solidFill>
                <a:latin typeface="Arial"/>
                <a:ea typeface="Arial"/>
              </a:rPr>
              <a:t>Lessons learned</a:t>
            </a:r>
            <a:endParaRPr b="0" lang="en-US" sz="22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0:55:48Z</dcterms:created>
  <dc:creator>wb247767</dc:creator>
  <dc:description/>
  <dc:language>en-US</dc:language>
  <cp:lastModifiedBy>Pedro Antmann</cp:lastModifiedBy>
  <dcterms:modified xsi:type="dcterms:W3CDTF">2018-10-27T19:32:11Z</dcterms:modified>
  <cp:revision>677</cp:revision>
  <dc:subject/>
  <dc:title>ЗАКУПКА КОНСУЛЬТАЦИОННЫХ УСЛУГ</dc:title>
</cp:coreProperties>
</file>